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regoria%20Xt%20Obedient%20fins%20mor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F2E-385D-4DE1-B620-B6023F8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981-4E00-4D07-BF4D-F80817DD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B0F-DD36-45DB-900D-00F6B3D0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687-394B-4AF6-BBC2-3A6E731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61F-6093-43C3-96A2-43668D9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95D-7C57-4D69-A60D-86BDAA2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94F-EE67-4B2C-8560-E695AC1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2B9-A4B7-424F-B77A-F8CE2B00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5EE-1528-4037-AA87-FAF259B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94-DA9C-4793-9577-D255331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60A-A55D-4B25-8B4A-AA166BA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922-297F-4E8F-9BD2-1D2C6E3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2EB5-09BF-4A63-BB09-2FDE8433282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regoria%20Xt%20Obedient%20fins%20mort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9160" y="9216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Ciclo B</a:t>
            </a: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3160" y="1268280"/>
            <a:ext cx="60984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20 septiembre 2009</a:t>
            </a:r>
            <a:r>
              <a:rPr b="0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7160" y="2421000"/>
            <a:ext cx="491436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11ff69"/>
                </a:solidFill>
                <a:latin typeface="Comic Sans MS"/>
              </a:rPr>
              <a:t>25 Domin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11ff69"/>
                </a:solidFill>
                <a:latin typeface="Comic Sans MS"/>
              </a:rPr>
              <a:t>Tiempo 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638680"/>
            <a:ext cx="86644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120a"/>
                </a:solidFill>
                <a:latin typeface="Comic Sans MS"/>
              </a:rPr>
              <a:t>Música:“Cristo fue obediente hasta la muert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regoria%20Xt%20Obedient%20fins%20mor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5a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298000" cy="5275440"/>
          </a:xfrm>
          <a:prstGeom prst="rect">
            <a:avLst/>
          </a:prstGeom>
          <a:solidFill>
            <a:srgbClr val="8a5a2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Sa 2,12.17-20  </a:t>
            </a:r>
            <a:br>
              <a:rPr sz="28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cechemos al justo, porque nos resulta insoportable, y se opone a nuestra forma de actuar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echa en cara que no hemos cumplido la ley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nos reprocha las faltas contra la educación recibida..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si es verdad lo que dice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robemos cómo le va al final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que si el justo es hijo de Dios, él lo asistirá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lo librará de las manos de sus adversari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émoslo con ultrajes y tortura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veremos hasta dónde llega su paciencia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probaremos su resistencia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enémoslo a muerte ignominiosa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s, según dice, Dios lo libra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24852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Pongamos una trampa al ju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7080" y="111240"/>
            <a:ext cx="363852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53</a:t>
            </a: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573200"/>
            <a:ext cx="60199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120a"/>
                </a:solidFill>
                <a:latin typeface="Comic Sans MS"/>
              </a:rPr>
              <a:t>El Señor sostiene mi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7680" y="2995560"/>
            <a:ext cx="824544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ab35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ffab35"/>
                </a:solidFill>
                <a:latin typeface="Comic Sans MS"/>
                <a:ea typeface="Times New Roman"/>
              </a:rPr>
              <a:t>¡Sálvame, oh Dios, por tu nombre, por tu poder hazme justicia!</a:t>
            </a:r>
            <a:br>
              <a:rPr sz="3600"/>
            </a:br>
            <a:r>
              <a:rPr b="1" i="1" lang="es-ES" sz="3600" spc="-1" strike="noStrike">
                <a:solidFill>
                  <a:srgbClr val="ffab35"/>
                </a:solidFill>
                <a:latin typeface="Comic Sans MS"/>
                <a:ea typeface="Times New Roman"/>
              </a:rPr>
              <a:t>¡Oh Dios, escucha mi oración, presta oído a mis palabras!</a:t>
            </a:r>
            <a:r>
              <a:rPr b="1" i="1" lang="es-ES" sz="3600" spc="-1" strike="noStrike">
                <a:solidFill>
                  <a:srgbClr val="ffab3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700" spc="-1" strike="noStrike">
                <a:solidFill>
                  <a:srgbClr val="ffffff"/>
                </a:solidFill>
                <a:latin typeface="Comic Sans MS"/>
              </a:rPr>
              <a:t>El Señor sostiene mi vida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276720"/>
            <a:ext cx="8305920" cy="21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4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Pues hombres soberbios y violentos se levantan contra mí,</a:t>
            </a:r>
            <a:br>
              <a:rPr sz="3400"/>
            </a:b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atentan contra mi vida </a:t>
            </a:r>
            <a:br>
              <a:rPr sz="3400"/>
            </a:b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sin tener presente a Dios.</a:t>
            </a:r>
            <a:r>
              <a:rPr b="1" i="1" lang="es-ES" sz="3400" spc="-1" strike="noStrike">
                <a:solidFill>
                  <a:srgbClr val="ff120a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1143000"/>
            <a:ext cx="594360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700" spc="-1" strike="noStrike">
                <a:solidFill>
                  <a:srgbClr val="ff120a"/>
                </a:solidFill>
                <a:latin typeface="Comic Sans MS"/>
              </a:rPr>
              <a:t>El Señor sostiene mi vida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657600"/>
            <a:ext cx="86868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Pero Dios es quien me auxilia, </a:t>
            </a:r>
            <a:br>
              <a:rPr sz="3600"/>
            </a:b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mi Señor me sostiene.</a:t>
            </a:r>
            <a:br>
              <a:rPr sz="3600"/>
            </a:b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Yo te ofreceré de buen grado un sacrificio,daré gracias a tu nombre, Señor, porque es bueno.</a:t>
            </a:r>
            <a:r>
              <a:rPr b="1" i="1" lang="es-ES" sz="3600" spc="-1" strike="noStrike">
                <a:solidFill>
                  <a:srgbClr val="99cc00"/>
                </a:solidFill>
                <a:latin typeface="Verdana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5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409080" cy="426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60280"/>
            <a:ext cx="8840880" cy="5214600"/>
          </a:xfrm>
          <a:prstGeom prst="rect">
            <a:avLst/>
          </a:prstGeom>
          <a:solidFill>
            <a:srgbClr val="56572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Sant 3:16.4:3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donde hay envidia y ambición, allí reina el desorden y toda clase de maldad. En cambio, la sabiduría de arriba es en primer lugar intachable, pero además es pacífica, tolerante, conciliadora, compasiva, fecunda, imparcial y sincera. En resumen, los que promueven la paz van sembrando en paz el fruto que conduce a la salvación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De dónde proceden los conflictos y las luchas que se dan entre vosotros? ¿No es precisamente de esas pasiones que os han convertido en un campo de batalla? Ambicionáis y no tenéis; asesináis y envidiáis, pero no podéis conseguir nada; os enzarzáis en guerras y contiendas, pero no obtenéis porque no pedís; pedís y no recibís, porque pedís mal, con la intención de satisfacer vuestras pa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6019920"/>
            <a:ext cx="7364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l fruto de la justicia nace de la semilla que las personas 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pacificadoras han sembrado en espíritu de pa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1432080"/>
            <a:ext cx="906768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c14ff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Dios nos llama por medio del Evangeli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para que sea nuestra la gloria</a:t>
            </a:r>
            <a:br>
              <a:rPr sz="3600"/>
            </a:b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 de nuestro Señor Jesucristo.                                   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0" i="1" lang="ca-ES" sz="2800" spc="-1" strike="noStrike">
                <a:solidFill>
                  <a:srgbClr val="0c14ff"/>
                </a:solidFill>
                <a:latin typeface="Comic Sans MS"/>
              </a:rPr>
              <a:t>2Te 2,14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41196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mic Sans MS"/>
              </a:rPr>
              <a:t>Lago de Gali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91960"/>
            <a:ext cx="8686800" cy="5475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fueron de allí y atravesaron Galilea. Jesús no quería que nadie lo supiera, porque estaba dedicado a instruir a sus discípulos. Les decía:</a:t>
            </a:r>
            <a:br>
              <a:rPr sz="20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Hijo del hombre va a ser entregado en manos de los hombres, le darán muerte y, después de morir, a los tres días, resucitará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no entendían lo que quería decir, pero les daba miedo preguntarle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egaron a Cafarnaún y, una vez en casa, les preguntó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¿De qué discutíais por el camino?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callaban, pues por el camino habían discutido sobre quién era el más importante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se sentó, llamó a los doce y les dijo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El que quiera ser el primero, que sea el último de todos y el servidor de todos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uego tomó a un niño, lo puso en medio de ellos y, abrazándolo, les dijo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El que acoge a un niño como éste en mi nombre, a mí me acoge; y el que me acoge a mí, no es a mí a quien acoge, sino al que me ha enviado.</a:t>
            </a:r>
            <a:br>
              <a:rPr sz="2000"/>
            </a:br>
            <a:br>
              <a:rPr sz="2000"/>
            </a:br>
            <a:r>
              <a:rPr b="0" i="1" lang="ca-E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Mc 9, 30-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5:36:17Z</dcterms:created>
  <dc:creator>JOAN RAMIREZ</dc:creator>
  <dc:description/>
  <dc:language>en-US</dc:language>
  <cp:lastModifiedBy>Usuario</cp:lastModifiedBy>
  <dcterms:modified xsi:type="dcterms:W3CDTF">2009-09-16T12:04:43Z</dcterms:modified>
  <cp:revision>20</cp:revision>
  <dc:subject/>
  <dc:title>Presentación de PowerPoint</dc:title>
</cp:coreProperties>
</file>