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Unchained%20Melody(2m34s).wav" ContentType="audio/x-wav"/>
  <Override PartName="/ppt/media/image16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5A76-C326-4EFB-9981-01B0BD24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3549-F12F-4CFE-AAA9-88520335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8D66-F4E5-4656-A8DE-EE753AA8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B39D-EEA1-4ACB-AC27-7DAC1AF87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895A-0C4D-4E7C-9C20-C2516A50F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BA51-BD4B-4A08-A8C3-7096572C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EAE8-9110-4B5B-B5EE-C59E1B6F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F385-42D0-43A2-84DF-AC648430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DF81-62E6-4525-A5A4-F0FB9390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520A-7FC3-4CEC-BD80-9E5E2554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14B3-41C8-4F73-865A-56ABBF19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D45A-5F38-4EBD-8B9B-23460DA4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8470-1B21-46B0-8430-C18A36C0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CDE1-1948-488C-8C07-661022E6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9754-CF4E-4551-905D-5B0F8C99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F231-1286-4CC1-BB27-4B30C1EF0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1501-463B-4D75-813B-13498C582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0753-C3C7-4F8C-A3ED-6021F280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130E-CB0C-45C7-8264-F9D40D14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92B6-42E6-4319-85DC-29634301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948C-A2B4-4131-86A3-289B121B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24AF-22E6-40DF-B330-8BCEFF66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EE98-09FA-46E9-A20C-BEA9A202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4953-C993-4944-8EEA-63EB4724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8623-5A71-412F-94E8-DAEF7B190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E514-8EEE-44C2-A270-7DF2CF38B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Unchained%20Melody(2m34s).wav"/><Relationship Id="rId3" Type="http://schemas.openxmlformats.org/officeDocument/2006/relationships/slideLayout" Target="../slideLayouts/slideLayout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581080" y="2133000"/>
            <a:ext cx="149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FENG SHU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  <p:sndAc>
      <p:stSnd>
        <p:snd r:embed="rId2" name="Unchained%20Melody(2m34s)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72000" y="1272600"/>
            <a:ext cx="457200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ienes 6 minutos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ay algo poderoso en este aviso con estas palabras, aun si tu no eres supersticioso o eres escéptico. Este tip de loto debe ser envi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te tip de loto te ha sido enviado para la buena sue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 te quedes con el mens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tip de loto debe salir de tus man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f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http://www.juliavatuliafengshui.com/yahoo_site_admin/assets/images/iStock_000005701298Medium.63173756.jpg"/>
          <p:cNvPicPr/>
          <p:nvPr/>
        </p:nvPicPr>
        <p:blipFill>
          <a:blip r:embed="rId1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148360" y="582120"/>
            <a:ext cx="39956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NO.  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ale a la gente mas de lo que esperan recibir y hazlo  con alegr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S. 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ásate con un  hombre/mujer con quien te guste  platic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onforme envejeces tu sentido por conversar se enriquecerá como cualquier ot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RES.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o creas todo lo que oyes, no te gastes todo lo que tienes y no duermas todo lo que quieres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http://homestaging.us/images/feng_shui_home_staging.jpg"/>
          <p:cNvPicPr/>
          <p:nvPr/>
        </p:nvPicPr>
        <p:blipFill>
          <a:blip r:embed="rId1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79280" y="1266480"/>
            <a:ext cx="4067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UATRO.   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uando digas 'te amo', dilo con un profundo sentimie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NCO.       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uando digas 'lo siento' mira a la persona a los oj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EIS.           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stá comprometido por lo menos seis meses antes de casarte.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http://4.bp.blogspot.com/_pqqmhN2e9CE/Sblb6iKKKSI/AAAAAAAAABY/9b-EttttVAg/s400/Fuentes-+febr-2009+009.jpg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859280" y="1266480"/>
            <a:ext cx="428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ETE.         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ree en el amor a primera v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OCHO.        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unca te rías de los sueños de los demás. Las personas que no tiene sueños, no tienen mu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UEVE.         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ofunda y apasionadamente. Puedes salir herido, pero es la única manera de vivir la vida plenam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http://blog.opositor.com/wp-content/uploads/2009/03/feng_dhui.jpg"/>
          <p:cNvPicPr/>
          <p:nvPr/>
        </p:nvPicPr>
        <p:blipFill>
          <a:blip r:embed="rId1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79280" y="1627200"/>
            <a:ext cx="414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IEZ.           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n desacuerdos, pelea justamente. No digas nomb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ONCE.         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o juzgues a la gente por sus famili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CE.         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abla con calma y piensa rápi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c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http://www.elementofengshui.com/wp-content/uploads/2009/06/fuente-de-agua-para-elemento-feng-shui.jpg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076720" y="1411200"/>
            <a:ext cx="4067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RECE .      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uando alguien te hace una pregunta que tu no deseas contestar, sonríe y pregúntale 'porque quiere saber eso'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ATORCE. 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ecuerda que un gran amor y grandes retos siempre envuelven un gran ries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QUINCE.     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i salud cuando oyes a alguien estornud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2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79280" y="1195200"/>
            <a:ext cx="4105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IECISEIS. 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Cuando pierdas, no pierdas la le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000"/>
            </a:b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IECISIE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Recuerda las tres R´s: Respeto por ti mismo; Respeto por los demás y Responsabilidad por todos tus a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000"/>
            </a:b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IECIOCH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No permitas que una pequeña disputa lastime una gran amist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http://www.fuentespetrus.com.ar/fuentes/miniaturas/images/200905/fuentes-feng-shui-cascada-2000.jpg"/>
          <p:cNvPicPr/>
          <p:nvPr/>
        </p:nvPicPr>
        <p:blipFill>
          <a:blip r:embed="rId1"/>
          <a:stretch/>
        </p:blipFill>
        <p:spPr>
          <a:xfrm>
            <a:off x="4219560" y="0"/>
            <a:ext cx="49244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ff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http://www.cometamagico.com.ar/carro/catalogo/fuente-fengshui.jpg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932360" y="1288800"/>
            <a:ext cx="3960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IECINUE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uando te des cuenta que has cometido un error, toma inmediatamente acciones para corregir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VEINTE.      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onríe cuando tomes el teléfono para contestar una llamada, la persona que llama lo podrá sentir en tu vo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VEINTIU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asa algún tiempo solo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http://blogs.glam.com/glamspirit/files/2008/05/feng-shu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79280" y="470160"/>
            <a:ext cx="896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Ahora viene la parte alegr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Envia esto a 5 personas y tu vida mejorar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1-4 personas: Tu vida mejorara ligerame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5-9 personas: Tu vida mejorar como tu dese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br>
              <a:rPr sz="2400"/>
            </a:b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9-14 personas: Tendrás por lo menos 5 sorpresas en las próximas tres seman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15 y más: Tu vida va a mejorar drásticamente y todo lo que siempre has soñado comenzara a tomar for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Arial"/>
              </a:rPr>
              <a:t>Puedes incluir si quieres a la persona que te lo env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http://www.neutralpointofview.com/wp-content/uploads/2009/08/velitas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311640" y="4437000"/>
            <a:ext cx="58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n verdadero amigo es aquel que te tiende la mano y toca tu coraz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 guardes este mensaje. Compárt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Click here to see a large vers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19320" y="259200"/>
            <a:ext cx="826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¿Sabes porque el anillo de compromiso se usa en el cuarto dedo?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http://www.boston.com/lifestyle/fashion/stylephile/fun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416760" y="1987920"/>
            <a:ext cx="5027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iste una leyenda ch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ue lo puede explicar de manera boni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 muy convincente...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Click here to see a large vers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494064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Los pulgares representan a los padres.</a:t>
            </a:r>
            <a:br>
              <a:rPr sz="2000"/>
            </a:b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Los índices representan tus hermanos y amigos.</a:t>
            </a:r>
            <a:br>
              <a:rPr sz="2000"/>
            </a:b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l dedo medio te representa a ti mismo.</a:t>
            </a:r>
            <a:br>
              <a:rPr sz="2000"/>
            </a:b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l dedo anular (cuarto dedo) representa a tu pareja.</a:t>
            </a:r>
            <a:br>
              <a:rPr sz="2000"/>
            </a:b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l dedo meñique representa a los hij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156360" cy="4201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24400" y="404640"/>
            <a:ext cx="789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OK...primero junta tus manos palma con palma, despué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une los dedos medios de forma que queden nudillo con nudill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sí como se muestra en la imagen...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Click here to see a large vers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280" y="3210480"/>
            <a:ext cx="792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hora intenta separar de forma paralela tus pulga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representan a los padres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taras que se abren porque tus padres no está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stinados a vivir conti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sta el día de tu muerte, únelos de nuevo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37840" y="3931560"/>
            <a:ext cx="8382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hora intenta separar igual los dedos índ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representan a tus hermanos y amigos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taras que también se abren porque ellos se va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y tienen destinos diferentes como casarse y tener hijos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40" y="1697400"/>
            <a:ext cx="914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tenta ahora separar de la misma forma los dedos meniq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representan a tus hijo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stos también se abren porque tus hijos crecen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ando ya no te necesitan se van, únelos de nuevo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http://2.bp.blogspot.com/_MnyQdOD5Qhc/SN3bEtQsqNI/AAAAAAAAAzw/ovaK1jIo5ck/s400/CAMINO+CON+ARBOL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8560" y="4002120"/>
            <a:ext cx="8667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inalmente, trata de separar tus dedos anula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el cuarto dedo que representa a tu parej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y te sorprenderás al ver que simplem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 puedes separarlo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so se debe a que una pareja esta destinada a estar uni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sta el ultimo día de su vi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y es por eso porque el anillo se usa en este de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9T05:43:24Z</dcterms:created>
  <dc:creator>Usuario</dc:creator>
  <dc:description/>
  <dc:language>en-US</dc:language>
  <cp:lastModifiedBy>Usuario</cp:lastModifiedBy>
  <dcterms:modified xsi:type="dcterms:W3CDTF">2009-09-19T07:57:30Z</dcterms:modified>
  <cp:revision>2</cp:revision>
  <dc:subject/>
  <dc:title>Diapositiva 1</dc:title>
</cp:coreProperties>
</file>