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Unchained%20Melody(2m34s).wav" ContentType="audio/x-wav"/>
  <Override PartName="/ppt/media/image16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0E46-4F31-42F1-A7DA-271287AF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81C4-521B-4AB0-BDB5-E95E7562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5725-993C-48C7-B451-186C2A0C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739B-4125-406B-A189-6A030EE7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9C78-927B-4E5D-8F0C-D9CA95DC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225D-A7CD-452F-915D-1D0FA589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1DAF-2B0F-49C6-A379-860CBEA5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52EA-6493-4988-92B9-A96A2756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A103-0146-4CCF-939C-B77AB780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0925-EC1F-473B-8B7B-585358B6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5BA5-BD55-46EF-827F-423B1B6D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CB5D-B9EA-44B8-990F-6C14AE54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7350-D718-4C18-8844-BC28A1BB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1548-F93A-4407-8CD8-89246812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71A5-4DFA-452E-8CCC-D317B821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21D1-CA0A-4385-BE0F-89DF27A5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DAF0-4448-4EFA-BCAC-471B1253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8DD6-02F7-42A5-B0EF-4E60AEFE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F2FA-EDAB-43A1-8C45-CDD350CC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9522-5FAC-484F-808F-62AD613D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7B63-D747-4764-9378-FA47AFED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740E-2735-4502-B7D8-85C7C7E2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77E3-2023-4C65-95EE-4AE5F8E3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3BF7-EF96-4C0C-9EFA-7B95B3FC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EEB2-D56F-4BFA-A4D9-A9016337D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F5E4-CD9D-40F5-86EC-9958787F2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Unchained%20Melody(2m34s).wav"/><Relationship Id="rId3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581080" y="2133000"/>
            <a:ext cx="149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FENG SHU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  <p:sndAc>
      <p:stSnd>
        <p:snd r:embed="rId2" name="Unchained%20Melody(2m34s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0" y="1272600"/>
            <a:ext cx="45720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ienes 6 minutos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ay algo poderoso en este aviso con estas palabras, aun si tu no eres supersticioso o eres escéptico. Este tip de loto debe ser envi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e tip de loto te ha sido enviado para la buena sue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 te quedes con el mens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tip de loto debe salir de tus man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f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http://www.juliavatuliafengshui.com/yahoo_site_admin/assets/images/iStock_000005701298Medium.63173756.jpg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148360" y="582120"/>
            <a:ext cx="39956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NO.  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ale a la gente mas de lo que esperan recibir y hazlo  con alegr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S.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ásate con un  hombre/mujer con quien te guste  platic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nforme envejeces tu sentido por conversar se enriquecerá como cualquier ot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RES.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o creas todo lo que oyes, no te gastes todo lo que tienes y no duermas todo lo que quieres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http://homestaging.us/images/feng_shui_home_staging.jpg"/>
          <p:cNvPicPr/>
          <p:nvPr/>
        </p:nvPicPr>
        <p:blipFill>
          <a:blip r:embed="rId1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9280" y="1266480"/>
            <a:ext cx="4067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UATRO. 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uando digas 'te amo', dilo con un profundo sentimi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NCO.     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uando digas 'lo siento' mira a la persona a los oj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EIS.         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stá comprometido por lo menos seis meses antes de casarte.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http://4.bp.blogspot.com/_pqqmhN2e9CE/Sblb6iKKKSI/AAAAAAAAABY/9b-EttttVAg/s400/Fuentes-+febr-2009+009.jpg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859280" y="1266480"/>
            <a:ext cx="428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ETE.       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ree en el amor a primera v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CHO.        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nca te rías de los sueños de los demás. Las personas que no tiene sueños, no tienen mu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EVE.       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ofunda y apasionadamente. Puedes salir herido, pero es la única manera de vivir la vida plena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http://blog.opositor.com/wp-content/uploads/2009/03/feng_dhui.jpg"/>
          <p:cNvPicPr/>
          <p:nvPr/>
        </p:nvPicPr>
        <p:blipFill>
          <a:blip r:embed="rId1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9280" y="1627200"/>
            <a:ext cx="414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IEZ.         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n desacuerdos, pelea justamente. No digas nomb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NCE.       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o juzgues a la gente por sus famili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CE.       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abla con calma y piensa rápi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c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http://www.elementofengshui.com/wp-content/uploads/2009/06/fuente-de-agua-para-elemento-feng-shui.jpg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076720" y="1411200"/>
            <a:ext cx="4067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RECE .      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uando alguien te hace una pregunta que tu no deseas contestar, sonríe y pregúntale 'porque quiere saber eso'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ATORCE.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ecuerda que un gran amor y grandes retos siempre envuelven un gran ries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QUINCE.   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i salud cuando oyes a alguien estornud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2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79280" y="1195200"/>
            <a:ext cx="4105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IECISEIS.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Cuando pierdas, no pierdas la le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000"/>
            </a:b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IECISIE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Recuerda las tres R´s: Respeto por ti mismo; Respeto por los demás y Responsabilidad por todos tus a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000"/>
            </a:b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IECIOCH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No permitas que una pequeña disputa lastime una gran amist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http://www.fuentespetrus.com.ar/fuentes/miniaturas/images/200905/fuentes-feng-shui-cascada-2000.jpg"/>
          <p:cNvPicPr/>
          <p:nvPr/>
        </p:nvPicPr>
        <p:blipFill>
          <a:blip r:embed="rId1"/>
          <a:stretch/>
        </p:blipFill>
        <p:spPr>
          <a:xfrm>
            <a:off x="4219560" y="0"/>
            <a:ext cx="4924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f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http://www.cometamagico.com.ar/carro/catalogo/fuente-fengshui.jpg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932360" y="1288800"/>
            <a:ext cx="3960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IECINUE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uando te des cuenta que has cometido un error, toma inmediatamente acciones para corregir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EINTE.      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onríe cuando tomes el teléfono para contestar una llamada, la persona que llama lo podrá sentir en tu vo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EINTIU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asa algún tiempo solo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http://blogs.glam.com/glamspirit/files/2008/05/feng-shu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79280" y="470160"/>
            <a:ext cx="896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Ahora viene la parte alegr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Envia esto a 5 personas y tu vida mejora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1-4 personas: Tu vida mejorara ligeram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5-9 personas: Tu vida mejorar como tu dese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br>
              <a:rPr sz="2400"/>
            </a:b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9-14 personas: Tendrás por lo menos 5 sorpresas en las próximas tres seman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15 y más: Tu vida va a mejorar drásticamente y todo lo que siempre has soñado comenzara a tomar for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Puedes incluir si quieres a la persona que te lo env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http://www.neutralpointofview.com/wp-content/uploads/2009/08/velitas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311640" y="4437000"/>
            <a:ext cx="58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 verdadero amigo es aquel que te tiende la mano y toca tu coraz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 guardes este mensaje. Compárt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Click here to see a large vers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19320" y="259200"/>
            <a:ext cx="826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¿Sabes porque el anillo de compromiso se usa en el cuarto dedo?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http://www.boston.com/lifestyle/fashion/stylephile/fun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416760" y="1987920"/>
            <a:ext cx="5027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iste una leyenda ch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ue lo puede explicar de manera boni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 muy convincente...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Click here to see a large vers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494064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Los pulgares representan a los padres.</a:t>
            </a:r>
            <a:br>
              <a:rPr sz="2000"/>
            </a:b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Los índices representan tus hermanos y amigos.</a:t>
            </a:r>
            <a:br>
              <a:rPr sz="2000"/>
            </a:b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 dedo medio te representa a ti mismo.</a:t>
            </a:r>
            <a:br>
              <a:rPr sz="2000"/>
            </a:b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 dedo anular (cuarto dedo) representa a tu pareja.</a:t>
            </a:r>
            <a:br>
              <a:rPr sz="2000"/>
            </a:b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 dedo meñique representa a los hij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156360" cy="4201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24400" y="404640"/>
            <a:ext cx="789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K...primero junta tus manos palma con palma, despué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ne los dedos medios de forma que queden nudillo con nudil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sí como se muestra en la imagen...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Click here to see a large vers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280" y="3210480"/>
            <a:ext cx="792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hora intenta separar de forma paralela tus pulga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representan a los padres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aras que se abren porque tus padres no está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stinados a vivir conti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sta el día de tu muerte, únelos de nuevo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37840" y="3931560"/>
            <a:ext cx="8382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hora intenta separar igual los dedos índ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representan a tus hermanos y amigos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aras que también se abren porque ellos se va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y tienen destinos diferentes como casarse y tener hijos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40" y="1697400"/>
            <a:ext cx="914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tenta ahora separar de la misma forma los dedos meniq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representan a tus hijo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stos también se abren porque tus hijos crecen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ando ya no te necesitan se van, únelos de nuev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http://2.bp.blogspot.com/_MnyQdOD5Qhc/SN3bEtQsqNI/AAAAAAAAAzw/ovaK1jIo5ck/s400/CAMINO+CON+ARBOL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8560" y="4002120"/>
            <a:ext cx="8667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inalmente, trata de separar tus dedos anula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el cuarto dedo que representa a tu parej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y te sorprenderás al ver que simple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 puedes separarlo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so se debe a que una pareja esta destinada a estar un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sta el ultimo día de su v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y es por eso porque el anillo se usa en este de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9T05:43:24Z</dcterms:created>
  <dc:creator>Usuario</dc:creator>
  <dc:description/>
  <dc:language>en-US</dc:language>
  <cp:lastModifiedBy>Usuario</cp:lastModifiedBy>
  <dcterms:modified xsi:type="dcterms:W3CDTF">2009-09-19T07:57:30Z</dcterms:modified>
  <cp:revision>2</cp:revision>
  <dc:subject/>
  <dc:title>Diapositiva 1</dc:title>
</cp:coreProperties>
</file>