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concierto-de-Aranjuez-music-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AAB-7071-4757-AC97-A4A7E5F8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0C8-C809-4558-92C0-65B5D1A9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EAF-7D38-4A02-AE58-EEF10A63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1B0-E3B0-45F8-AE5C-167C6C23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D142-BC68-47ED-AE85-824F3F7D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BA70-C3E3-4820-B543-1E80DBF2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4C8C-3088-41BB-84BA-5EF9B0D0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8DF4-26B0-4BC5-9559-1A2D2F20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0B41-3D75-4CAB-A8AE-8363518C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65EC-B2DC-41DA-A6FF-A2DBA3F4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1EB2-DE35-41AA-A270-DAB0D67E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6CF-C013-48F2-B127-512B2F24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6E7B-2F4C-41C3-8247-1C970B42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EB5C-CED3-4FA6-A549-936CA8BD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4FAE-EDB4-41DE-96C8-BCEB590B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6DF6-F4EF-4AB8-9BBE-701D4215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7DF4-18EC-4346-8308-5E6AA872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57F-CECA-4F2F-9424-AFCFCB0C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EFC-0B51-4392-8279-C24A106F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F73-5027-4D79-AD5C-38708797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932-3EF5-47E0-95DE-F59BA9A7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E85-755C-4C9E-96A9-5F0C9DD7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730-4DE4-438A-8439-4FC15A06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BFB-F9BC-4A2B-8AB3-C2E70A3B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1813-8360-4C60-8D9A-F5AE5280F7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AAD5-436C-4258-98BA-A927D91565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ncierto-de-Aranjuez-music-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624720" cy="489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68360" y="0"/>
            <a:ext cx="89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Los patios son remansos de paz, caracterizados por su alegre colorido, que ofrecen al visitante parte del alma de sus mor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3844800" cy="52563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859280" y="981000"/>
            <a:ext cx="3768840" cy="5327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476360" y="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de el tiempo lo rige un campan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416720" cy="51134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908000" y="333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de el arriate es tapiz florec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056360" cy="5184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476360" y="18900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de el clavel es corazón her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959280" cy="5400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960720" cy="5400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35280" y="18900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Donde el amor oculta un relic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3959280" cy="3330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176720" cy="3168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176720" cy="3095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4105440" cy="30956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332000" y="476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onde esplende la perla de occid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364000" y="333360"/>
            <a:ext cx="352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Donde Córdoba es patio, solame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4319280" cy="3419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367344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826920" y="333360"/>
            <a:ext cx="7344000" cy="84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Poesía , José de Migu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Música , concierto de Aranju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Espero que les haya gus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ahoma"/>
              </a:rPr>
              <a:t>I hope you enjoyed the s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00720" y="5589720"/>
            <a:ext cx="439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4360" y="602136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99"/>
                </a:solidFill>
                <a:latin typeface="Tahoma"/>
              </a:rPr>
              <a:t>Patios de Córdob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940360" y="623736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ludos de Áng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50"/>
                            </p:stCondLst>
                            <p:childTnLst>
                              <p:par>
                                <p:cTn id="2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5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900"/>
                            </p:stCondLst>
                            <p:childTnLst>
                              <p:par>
                                <p:cTn id="2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68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476360" y="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tio, donde la cal es rito milen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88360" cy="54734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763640" y="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Donde el sol es crisol enardec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889440" cy="5400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4176720" cy="5473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835280" y="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de la sombra es apacible n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058160" cy="48974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547640" y="189000"/>
            <a:ext cx="69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Donde el sosiego guarda el santu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559640" cy="5616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184560" y="3029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0328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onde el jardín es flor y es incens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128000" cy="53276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619280" y="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onde la fuente es música al oí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887640" cy="47516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500720" y="1125360"/>
            <a:ext cx="4356000" cy="47516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403280" y="260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Donde el pozo es un gozo present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840720" cy="532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908000" y="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de la vida es un soñar di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7:31:05Z</dcterms:created>
  <dc:creator/>
  <dc:description/>
  <dc:language>en-US</dc:language>
  <cp:lastModifiedBy/>
  <dcterms:modified xsi:type="dcterms:W3CDTF">2008-09-22T20:53:03Z</dcterms:modified>
  <cp:revision>7</cp:revision>
  <dc:subject/>
  <dc:title>Diapositiva 1</dc:title>
</cp:coreProperties>
</file>