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concierto-de-Aranjuez-music-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370-11B8-4954-BB9E-FCF3CEFC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110-6AC9-4CBC-913F-D6D7033A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996-482B-4C8D-B060-997BBD85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909-3F57-4EA5-8391-817A9F2D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1F1B-FE48-4576-8A92-F9DC577F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B4A3-FAD7-44E2-8285-B24595D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6CDC-AA8F-4287-A270-0FC614B3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EE6E-7203-4660-814D-55864DEA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74ED-34F5-4A74-B8DB-164132C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212-964A-452B-B0A6-9DD98522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C410-913C-4100-8148-73C089B5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35F-D39B-4AED-AFF3-AF9E232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9DF3-3199-4498-BC89-10B06C9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4BC5-7D27-4BA1-865F-2DA4E47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B154-1F59-4B40-99E2-37B8EC1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E846-E36E-4333-BE34-B603A39B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C6B-DE5F-4BEA-80A2-0C18873C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D65-A321-417B-8797-A3BA8BE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71D-F3DC-424C-BD0A-9DB0E557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A26-E036-4DF3-A3C6-3A6568F0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CFA-94C2-43C8-9F12-598D4DCD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A3F-9A99-4D73-A997-378F327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718-B5DE-4686-B770-8014C66D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573-F169-445E-9421-AC2B5B5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CF7F-F881-4FD3-889B-D1D79E6A82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930-5538-4A89-B6E8-EA5CD82577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ncierto-de-Aranjuez-music-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89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68360" y="0"/>
            <a:ext cx="89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Los patios son remansos de paz, caracterizados por su alegre colorido, que ofrecen al visitante parte del alma de sus mor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844800" cy="5256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768840" cy="5327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476360" y="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el tiempo lo rige un campa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908000" y="33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el arriate es tapiz florec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056360" cy="5184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476360" y="18900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el clavel es corazón her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59280" cy="5400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960720" cy="5400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35280" y="1890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Donde el amor oculta un relic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3959280" cy="3330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105440" cy="30956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332000" y="476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onde esplende la perla de occid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364000" y="333360"/>
            <a:ext cx="352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Donde Córdoba es patio, solam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319280" cy="3419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367344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826920" y="333360"/>
            <a:ext cx="7344000" cy="84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Poesía , José de Migu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Música , concierto de Aranju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Espero que les haya gu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I hope you enjoyed the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00720" y="5589720"/>
            <a:ext cx="43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4360" y="6021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99"/>
                </a:solidFill>
                <a:latin typeface="Tahoma"/>
              </a:rPr>
              <a:t>Patios de Córdob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40360" y="623736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ludos de Áng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5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900"/>
                            </p:stCondLst>
                            <p:childTnLst>
                              <p:par>
                                <p:cTn id="2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68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47636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tio, donde la cal es rito mile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8360" cy="5473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763640" y="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Donde el sol es crisol enardec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89440" cy="5400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176720" cy="5473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35280" y="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la sombra es apacible n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58160" cy="48974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47640" y="189000"/>
            <a:ext cx="69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Donde el sosiego guarda el santu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59640" cy="5616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184560" y="3029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0328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onde el jardín es flor y es incens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128000" cy="53276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619280" y="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onde la fuente es música al oí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887640" cy="4751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4356000" cy="4751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403280" y="260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Donde el pozo es un gozo present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840720" cy="532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908000" y="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la vida es un soñar di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7:31:05Z</dcterms:created>
  <dc:creator/>
  <dc:description/>
  <dc:language>en-US</dc:language>
  <cp:lastModifiedBy/>
  <dcterms:modified xsi:type="dcterms:W3CDTF">2008-09-22T20:53:03Z</dcterms:modified>
  <cp:revision>7</cp:revision>
  <dc:subject/>
  <dc:title>Diapositiva 1</dc:title>
</cp:coreProperties>
</file>