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B41-2D2C-4324-A5B6-221E7DF9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0FD-C56D-43F5-AB16-ACFCD45E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605-419B-4972-8FF8-A60D4BB0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090-8257-4A74-BEF5-D2E19A2B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F14-FE30-47F7-9EB7-73C9FB03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127-674F-4472-B41E-4AADD16B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4A4-34DE-4A25-8C1F-63354C18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885-8221-4DB9-ACC7-646FB8EE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6D2-C0C6-48CB-AEC8-402409D2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3E0-0D83-4BEC-94EE-FFE2DD65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170-034F-4BDD-814E-C40C28EE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5CF-28F6-4122-922F-99B18B97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9C44-90AA-4B39-B6E4-5F454956D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836640"/>
            <a:ext cx="8137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ATAMIENTO DE UN OJO MORAD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394640" y="2637000"/>
            <a:ext cx="611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Para quienes estamos en el area médi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este tratamiento debe aplic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solamente en casos de eme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1960" y="5157720"/>
            <a:ext cx="75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For those of us </a:t>
            </a:r>
            <a:r>
              <a:rPr b="0" lang="es-ES" sz="2000" spc="-1" strike="noStrike">
                <a:solidFill>
                  <a:srgbClr val="a50021"/>
                </a:solidFill>
                <a:latin typeface="Arial"/>
              </a:rPr>
              <a:t>in</a:t>
            </a: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 the medical field, this treatment should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standing by just in case of emergency</a:t>
            </a:r>
            <a:r>
              <a:rPr b="0" lang="es-ES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404640"/>
            <a:ext cx="8424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Por años la sabiduría popular ha dicho que el mejor tratamiento para un ojo morado es poner carne cruda sobre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Estudios científicos han comprobado que  la carne ayuda a reducir la hinchazón  usando  en el proceso curativo un bistec frio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pero este retarda la recuperación de los vasos sanguíneos rotos, que son la causa de las marcas negras  y azules alrededor de los oj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Este mismo estudio ha demostrado que la aplicación de carne tibia y suave, es mas efectiva para ayudar a que los ojos se recuperen del d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9040" y="4816440"/>
            <a:ext cx="888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years the conventional wisdom has been that the best treatment for a black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o put a piece of raw meat on it. Scientific studies have   proven that while the m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s reduce the swelling and aids in the healing process,using a cold steak actu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ays the recovery of broken blood vessels that cause the black and blue ma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ound the eyes. These  same studies have shown that application of warm, sof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ender meat is the most effective in helping the eyes to recover from the damag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2920" y="5037120"/>
            <a:ext cx="190440" cy="142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145512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Impact"/>
              </a:rPr>
              <a:t>De manera que, la próxima vez que ten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Impact"/>
              </a:rPr>
              <a:t>un ojo morado, le demostramos a contin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Impact"/>
              </a:rPr>
              <a:t>como debe tra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55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2040" y="5608800"/>
            <a:ext cx="67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, the next time you get a black eye, here's how to treat it...</a:t>
            </a:r>
            <a:br>
              <a:rPr sz="1800"/>
            </a:b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296" t="0" r="529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27160" y="2744640"/>
            <a:ext cx="686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Impact"/>
              </a:rPr>
              <a:t>Administre el tratamiento, hasta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Impact"/>
              </a:rPr>
              <a:t>el dolor  y la hinchazón, desaparez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76960" y="5164200"/>
            <a:ext cx="56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minister treatment 'till pain &amp; swelling are go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51160" y="1698480"/>
            <a:ext cx="40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Impact"/>
              </a:rPr>
              <a:t>PRECAU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8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15160" y="2835360"/>
            <a:ext cx="621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Impact"/>
              </a:rPr>
              <a:t>Es posible que este tra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Impact"/>
              </a:rPr>
              <a:t>cause hinchaz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Impact"/>
              </a:rPr>
              <a:t>en otras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6280" y="5661000"/>
            <a:ext cx="84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ution:   This could possibly cause some swelling  in other are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20:02:57Z</dcterms:created>
  <dc:creator>Rudy Weisskopf</dc:creator>
  <dc:description/>
  <dc:language>en-US</dc:language>
  <cp:lastModifiedBy>Rudy Weisskopf</cp:lastModifiedBy>
  <dcterms:modified xsi:type="dcterms:W3CDTF">2008-12-13T21:00:12Z</dcterms:modified>
  <cp:revision>3</cp:revision>
  <dc:subject/>
  <dc:title>Diapositiva 1</dc:title>
</cp:coreProperties>
</file>