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596-D49B-4470-8CA7-228A4E9E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A56-3572-4E6A-A695-D71F6128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A56-81D2-470B-B3ED-911125ED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5C4-8788-4B6B-BC42-FB4A818B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BC7-7AC0-4EF6-A0FB-B39826AD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BDA-E4BB-4E96-AC7E-3C481A6F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CE7-9963-4912-84C4-C4B54257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519-58C0-4CCD-9BA4-30673733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E1C-55D8-4FEA-81FF-67284D6F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5C1E-A514-4E87-820F-515FDE8F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FDB-2C99-481F-96A0-6FD245AC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389-7ECE-4B8A-904C-80B50FB3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E56E-3786-491E-B702-66B16BE92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836640"/>
            <a:ext cx="8137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RATAMIENTO DE UN OJO MORAD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394640" y="2637000"/>
            <a:ext cx="611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Impact"/>
              </a:rPr>
              <a:t>Para quienes estamos en el area médic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Impact"/>
              </a:rPr>
              <a:t>este tratamiento debe aplic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Impact"/>
              </a:rPr>
              <a:t>solamente en casos de emer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1960" y="5157720"/>
            <a:ext cx="75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For those of us </a:t>
            </a:r>
            <a:r>
              <a:rPr b="0" lang="es-ES" sz="2000" spc="-1" strike="noStrike">
                <a:solidFill>
                  <a:srgbClr val="a50021"/>
                </a:solidFill>
                <a:latin typeface="Arial"/>
              </a:rPr>
              <a:t>in</a:t>
            </a: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 the medical field, this treatment should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standing by just in case of emergency</a:t>
            </a:r>
            <a:r>
              <a:rPr b="0" lang="es-ES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404640"/>
            <a:ext cx="8424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Impact"/>
              </a:rPr>
              <a:t>Por años la sabiduría popular ha dicho que el mejor tratamiento para un ojo morado es poner carne cruda sobre 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Impact"/>
              </a:rPr>
              <a:t>Estudios científicos han comprobado que  la carne ayuda a reducir la hinchazón  usando  en el proceso curativo un bistec frio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Impact"/>
              </a:rPr>
              <a:t>pero este retarda la recuperación de los vasos sanguíneos rotos, que son la causa de las marcas negras  y azules alrededor de los oj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Impact"/>
              </a:rPr>
              <a:t>Este mismo estudio ha demostrado que la aplicación de carne tibia y suave, es mas efectiva para ayudar a que los ojos se recuperen del d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Impact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9040" y="4816440"/>
            <a:ext cx="888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years the conventional wisdom has been that the best treatment for a black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o put a piece of raw meat on it. Scientific studies have   proven that while the m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s reduce the swelling and aids in the healing process,using a cold steak actu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ays the recovery of broken blood vessels that cause the black and blue ma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ound the eyes. These  same studies have shown that application of warm, sof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tender meat is the most effective in helping the eyes to recover from the damag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2920" y="5037120"/>
            <a:ext cx="190440" cy="142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145512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Impact"/>
              </a:rPr>
              <a:t>De manera que, la próxima vez que ten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Impact"/>
              </a:rPr>
              <a:t>un ojo morado, le demostramos a contin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Impact"/>
              </a:rPr>
              <a:t>como debe tra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5584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22040" y="5608800"/>
            <a:ext cx="67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, the next time you get a black eye, here's how to treat it...</a:t>
            </a:r>
            <a:br>
              <a:rPr sz="1800"/>
            </a:b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 </a:t>
            </a: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296" t="0" r="529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27160" y="2744640"/>
            <a:ext cx="686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Impact"/>
              </a:rPr>
              <a:t>Administre el tratamiento, hasta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Impact"/>
              </a:rPr>
              <a:t>el dolor  y la hinchazón, desaparez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76960" y="5164200"/>
            <a:ext cx="56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minister treatment 'till pain &amp; swelling are gon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51160" y="1698480"/>
            <a:ext cx="40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Impact"/>
              </a:rPr>
              <a:t>PRECAU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820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15160" y="2835360"/>
            <a:ext cx="621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Impact"/>
              </a:rPr>
              <a:t>Es posible que este tra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Impact"/>
              </a:rPr>
              <a:t>cause hinchaz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Impact"/>
              </a:rPr>
              <a:t>en otras a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6280" y="5661000"/>
            <a:ext cx="84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ution:   This could possibly cause some swelling  in other area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20:02:57Z</dcterms:created>
  <dc:creator>Rudy Weisskopf</dc:creator>
  <dc:description/>
  <dc:language>en-US</dc:language>
  <cp:lastModifiedBy>Rudy Weisskopf</cp:lastModifiedBy>
  <dcterms:modified xsi:type="dcterms:W3CDTF">2008-12-13T21:00:12Z</dcterms:modified>
  <cp:revision>3</cp:revision>
  <dc:subject/>
  <dc:title>Diapositiva 1</dc:title>
</cp:coreProperties>
</file>