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carena_RW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98E-9061-4C4C-9C50-189BDC6F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24D-DF64-408B-A762-9B31F6BF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9CE-7B3E-45AB-9380-AE8E0706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289-1291-4302-AD76-99B8190E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967-DA82-450D-9800-3FD8B5A5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3C8-C1A6-4B04-908B-1A51954C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2CD-97C4-4288-868D-92088498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C70-E156-41FF-8E5F-5A45CCED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767-F44C-43A0-A6B2-58ECEDC8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555-EF1F-4EB1-AEB5-78004AD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A81-83EE-4AB5-BE73-7401D32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EE1-15C6-4DAC-B156-FD1C193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433-EEA2-4F34-8369-4675C202C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carena_R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g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1676520"/>
            <a:ext cx="563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0" spc="-1" strike="noStrike">
                <a:solidFill>
                  <a:srgbClr val="ffffff"/>
                </a:solidFill>
                <a:latin typeface="Times New Roman"/>
              </a:rPr>
              <a:t>L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ff"/>
                </a:solidFill>
                <a:latin typeface="Times New Roman"/>
              </a:rPr>
              <a:t>DGT</a:t>
            </a:r>
            <a:r>
              <a:rPr b="0" i="1" lang="es-ES" sz="8000" spc="-1" strike="noStrike">
                <a:solidFill>
                  <a:srgbClr val="ffffff"/>
                </a:solidFill>
                <a:latin typeface="Times New Roman"/>
              </a:rPr>
              <a:t> informa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ul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600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Y, si n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200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¡Balones fuer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...pues, es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unknown" descr=""/>
          <p:cNvPicPr/>
          <p:nvPr/>
        </p:nvPicPr>
        <p:blipFill>
          <a:blip r:embed="rId1"/>
          <a:stretch/>
        </p:blipFill>
        <p:spPr>
          <a:xfrm>
            <a:off x="-990720" y="-304920"/>
            <a:ext cx="10668240" cy="733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590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Y, no andes resopland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50532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¡Que es peo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8a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allena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1143000"/>
            <a:ext cx="5867640" cy="441972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1600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Que, de cualquier maner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200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...te joden y no te enter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miseta" descr=""/>
          <p:cNvPicPr/>
          <p:nvPr/>
        </p:nvPicPr>
        <p:blipFill>
          <a:blip r:embed="rId1"/>
          <a:stretch/>
        </p:blipFill>
        <p:spPr>
          <a:xfrm>
            <a:off x="1300320" y="133200"/>
            <a:ext cx="6543360" cy="6591600"/>
          </a:xfrm>
          <a:prstGeom prst="rect">
            <a:avLst/>
          </a:prstGeom>
          <a:ln w="0">
            <a:noFill/>
          </a:ln>
        </p:spPr>
      </p:pic>
      <p:pic>
        <p:nvPicPr>
          <p:cNvPr id="67" name="AB%20Negro" descr=""/>
          <p:cNvPicPr/>
          <p:nvPr/>
        </p:nvPicPr>
        <p:blipFill>
          <a:blip r:embed="rId2"/>
          <a:stretch/>
        </p:blipFill>
        <p:spPr>
          <a:xfrm>
            <a:off x="4762440" y="5999040"/>
            <a:ext cx="471600" cy="449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95760" y="5958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¡Adi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638680" y="62326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ominan</a:t>
            </a:r>
            <a:r>
              <a:rPr b="1" i="1" lang="es-E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G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randes </a:t>
            </a: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622296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es-ES" sz="2000" spc="-1" strike="noStrike">
                <a:solidFill>
                  <a:srgbClr val="ccecff"/>
                </a:solidFill>
                <a:latin typeface="Times New Roman"/>
              </a:rPr>
              <a:t>ominan</a:t>
            </a:r>
            <a:r>
              <a:rPr b="1" i="1" lang="es-E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G</a:t>
            </a:r>
            <a:r>
              <a:rPr b="0" i="1" lang="es-ES" sz="2000" spc="-1" strike="noStrike">
                <a:solidFill>
                  <a:srgbClr val="ccecff"/>
                </a:solidFill>
                <a:latin typeface="Times New Roman"/>
              </a:rPr>
              <a:t>randes </a:t>
            </a: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r>
              <a:rPr b="0" i="1" lang="es-ES" sz="2000" spc="-1" strike="noStrike">
                <a:solidFill>
                  <a:srgbClr val="ccecff"/>
                </a:solidFill>
                <a:latin typeface="Times New Roman"/>
              </a:rPr>
              <a:t>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3716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La Técnica, la investigación y la cienci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avanzan que es una barbarida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487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...ya hay motocicletas con “caja negr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untitled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ntitled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600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Y, gracias al “air bag”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2004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...los accidentes son menos grav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ffffff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ir%20bag" descr=""/>
          <p:cNvPicPr/>
          <p:nvPr/>
        </p:nvPicPr>
        <p:blipFill>
          <a:blip r:embed="rId1"/>
          <a:stretch/>
        </p:blipFill>
        <p:spPr>
          <a:xfrm>
            <a:off x="160020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ffffff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15238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También es práctico disponer de buenos soport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3368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...para tener las manos lib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NoHan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Aunque, no hay que lamentars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20040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...si tienes que soportar alguna que otra carg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8:34:40Z</dcterms:created>
  <dc:creator>Cualquiera</dc:creator>
  <dc:description>Fotos de Internet. Montaje en PPS y comentarios by ABB</dc:description>
  <dc:language>en-US</dc:language>
  <cp:lastModifiedBy> Antonio Benavente</cp:lastModifiedBy>
  <dcterms:modified xsi:type="dcterms:W3CDTF">2009-09-01T18:53:32Z</dcterms:modified>
  <cp:revision>7</cp:revision>
  <dc:subject/>
  <dc:title>Presentación de PowerPoint</dc:title>
</cp:coreProperties>
</file>