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7.jpeg" ContentType="image/jpeg"/>
  <Override PartName="/ppt/media/Waldyr%20Azevedo%20-%20Lamento%20de%20um%20cavaquinho.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AB5D3-8D0E-40F2-A1B5-F40F0B5E0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077B-A62C-4B56-9506-C0597871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9D28C-183F-4458-BF51-38D3B8CBB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7E2FE-5911-4268-A8AF-9981A5E65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82BCC-A327-4E68-949B-68F0F9CDF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DD2B-2505-4F67-B8D3-A7E3B8BE0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5AD62-9C26-4C9F-9AEB-9B3BD669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B88F8-40D9-4BD4-A209-FD55A48F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DDA59-D32E-4A86-A471-E0BDCCE38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5E46-0DAB-48C0-BD21-2CECECC3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00BF-81BF-4CE9-9605-9958C24D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CABA-B4F3-4C03-A9B7-60EC6CC5A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C190-B93E-41E5-A093-AD0588FBB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audio" Target="../media/Waldyr%20Azevedo%20-%20Lamento%20de%20um%20cavaquinho.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bdf53"/>
                </a:solidFill>
                <a:latin typeface="Comic Sans MS"/>
              </a:rPr>
              <a:t>La Torre de las Olimpíadas de 2016 - BRASIL</a:t>
            </a:r>
            <a:endParaRPr b="0" lang="en-US" sz="4400" spc="-1" strike="noStrike">
              <a:solidFill>
                <a:srgbClr val="000000"/>
              </a:solidFill>
              <a:latin typeface="Arial"/>
            </a:endParaRPr>
          </a:p>
        </p:txBody>
      </p:sp>
      <p:pic>
        <p:nvPicPr>
          <p:cNvPr id="42" name="" descr=""/>
          <p:cNvPicPr/>
          <p:nvPr/>
        </p:nvPicPr>
        <p:blipFill>
          <a:blip r:embed="rId1"/>
          <a:stretch/>
        </p:blipFill>
        <p:spPr>
          <a:xfrm>
            <a:off x="7380360" y="5084640"/>
            <a:ext cx="1047600" cy="587520"/>
          </a:xfrm>
          <a:prstGeom prst="rect">
            <a:avLst/>
          </a:prstGeom>
          <a:ln w="0">
            <a:noFill/>
          </a:ln>
        </p:spPr>
      </p:pic>
      <p:pic>
        <p:nvPicPr>
          <p:cNvPr id="43" name="" descr=""/>
          <p:cNvPicPr/>
          <p:nvPr/>
        </p:nvPicPr>
        <p:blipFill>
          <a:blip r:embed="rId2"/>
          <a:stretch/>
        </p:blipFill>
        <p:spPr>
          <a:xfrm>
            <a:off x="7380360" y="6207120"/>
            <a:ext cx="1547640" cy="65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87280" y="0"/>
            <a:ext cx="58708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00080" y="399960"/>
            <a:ext cx="7143840" cy="605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50560" y="333000"/>
            <a:ext cx="8713800" cy="63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El Solar City Tower también incluye otras característica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Anfiteatro, auditorio, cafetería y tiendas son accesibles en la planta baja, desde el que accede también al ascensor públic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conducirá al visitante a diferentes observatorios, así como una plataforma retráctil para la práctica del puent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bdf53"/>
                </a:solidFill>
                <a:latin typeface="Comic Sans MS"/>
              </a:rPr>
              <a:t>En la parte superior de la torre se puede disfrutar de todo el paisaje que rodea la Isla , donde se llevará a cabo, así como la caída de agua generado por cualquier sistema que integra la ciudad solar de la torre, por lo que es un punto de referencia para los Juegos Olímpicos de 2016 y de Río de Janeir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bdf53"/>
                </a:solidFill>
                <a:latin typeface="Comic Sans MS"/>
              </a:rPr>
              <a:t>F I N</a:t>
            </a:r>
            <a:endParaRPr b="0" lang="en-US" sz="7200" spc="-1" strike="noStrike">
              <a:solidFill>
                <a:srgbClr val="000000"/>
              </a:solidFill>
              <a:latin typeface="Arial"/>
            </a:endParaRPr>
          </a:p>
        </p:txBody>
      </p:sp>
      <p:sp>
        <p:nvSpPr>
          <p:cNvPr id="57" name=""/>
          <p:cNvSpPr/>
          <p:nvPr/>
        </p:nvSpPr>
        <p:spPr>
          <a:xfrm>
            <a:off x="2421000" y="6237360"/>
            <a:ext cx="635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bdf53"/>
                </a:solidFill>
                <a:latin typeface="Comic Sans MS"/>
              </a:rPr>
              <a:t>Melodía: Lamento de un cavaquinho - Waldyr Azeve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bdf53"/>
                </a:solidFill>
                <a:latin typeface="Comic Sans MS"/>
              </a:rPr>
              <a:t>Mira y admira esta "primicia"!  </a:t>
            </a:r>
            <a:br>
              <a:rPr sz="2400"/>
            </a:br>
            <a:r>
              <a:rPr b="0" lang="pt-BR" sz="2400" spc="-1" strike="noStrike">
                <a:solidFill>
                  <a:srgbClr val="fbdf53"/>
                </a:solidFill>
                <a:latin typeface="Comic Sans MS"/>
              </a:rPr>
              <a:t>A Torre das Olimpíadas de 2016 - Rio de Janeiro</a:t>
            </a:r>
            <a:endParaRPr b="0" lang="en-US" sz="2400" spc="-1" strike="noStrike">
              <a:solidFill>
                <a:srgbClr val="000000"/>
              </a:solidFill>
              <a:latin typeface="Arial"/>
            </a:endParaRPr>
          </a:p>
        </p:txBody>
      </p:sp>
      <p:pic>
        <p:nvPicPr>
          <p:cNvPr id="45" name="" descr=""/>
          <p:cNvPicPr/>
          <p:nvPr/>
        </p:nvPicPr>
        <p:blipFill>
          <a:blip r:embed="rId1"/>
          <a:stretch/>
        </p:blipFill>
        <p:spPr>
          <a:xfrm>
            <a:off x="0" y="1125360"/>
            <a:ext cx="9144000" cy="571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343080">
              <a:lnSpc>
                <a:spcPct val="100000"/>
              </a:lnSpc>
              <a:spcBef>
                <a:spcPts val="799"/>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bdf53"/>
                </a:solidFill>
                <a:latin typeface="Comic Sans MS"/>
              </a:rPr>
              <a:t>El reto consistía en diseñar una estructura vertical en la isla de Cotonduba que, además de tener la función de la torre d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bdf53"/>
                </a:solidFill>
                <a:latin typeface="Comic Sans MS"/>
              </a:rPr>
              <a:t>observación, se convierte en un símbolo de bienvenida para aquellos que vienen a Río por vía aérea o marítima, ya que esta será la ciudad sede de los Juegos Olímpicos de 2016.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31680"/>
            <a:ext cx="9396360" cy="68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79280" y="765000"/>
            <a:ext cx="8785440" cy="532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bdf53"/>
                </a:solidFill>
                <a:latin typeface="Comic Sans MS"/>
              </a:rPr>
              <a:t>Diseñado por la Oficina de Rafa, con sede en Zurich, Suiza, y pidió'Solar City Tower', esta estructura fue elegida como la respuesta adecuada a la propuesta inicial y tiene el potencial para generar energía suficiente no sólo para la villa olímpica, y por parte de River City</a:t>
            </a:r>
            <a:r>
              <a:rPr b="1" i="1" lang="es-ES" sz="3600" spc="-1" strike="noStrike">
                <a:solidFill>
                  <a:srgbClr val="0000ff"/>
                </a:solidFill>
                <a:latin typeface="Comic Sans MS"/>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Su diseño le permite aprovechar la energía solar durante el día por los paneles situados a nivel del suelo, mientras que el exceso de energía producida se canaliza a la bomba de agua de mar en el interior de la torre, produciendo un efecto de agua que cae en la piscin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Este agua se reutiliza de forma simultánea a través de turbinas para producir energía durante la noche.</a:t>
            </a:r>
            <a:r>
              <a:rPr b="1" i="1" lang="en-US" sz="3200" spc="-1" strike="noStrike">
                <a:solidFill>
                  <a:srgbClr val="0000ff"/>
                </a:solidFill>
                <a:latin typeface="Comic Sans MS"/>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5842"/>
            </a:gs>
            <a:gs pos="100000">
              <a:srgbClr val="8fbf9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20280"/>
            <a:ext cx="9144000" cy="572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bdf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bdf53"/>
                </a:solidFill>
                <a:latin typeface="Comic Sans MS"/>
              </a:rPr>
              <a:t>Estas características le permiten asignar el título de este proyecto de desarrollo sostenible en la torre, siguiendo de los supuestos de la "Tierra de las Naciones Unidas a la Cumbre " de 1992, lo cual también ocurrió en Río de Janeiro, contribuyendo así a fomentar entre los habitantes de la ciudad el uso de los recursos naturales para la producción de ener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2T19:35:16Z</dcterms:created>
  <dc:creator>Victor G. Caamaño</dc:creator>
  <dc:description/>
  <dc:language>en-US</dc:language>
  <cp:lastModifiedBy>Victor G. Caamaño</cp:lastModifiedBy>
  <dcterms:modified xsi:type="dcterms:W3CDTF">2010-08-02T19:58:39Z</dcterms:modified>
  <cp:revision>3</cp:revision>
  <dc:subject/>
  <dc:title>La Torre de las Olimpíadas de 2016 - BRASIL</dc:title>
</cp:coreProperties>
</file>