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ianFPagliaroTodosLosBarcosTodosLosPajaros.wav" ContentType="audio/x-wav"/>
  <Override PartName="/ppt/media/image4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D331-AB04-4A64-ABC8-BCD3B7D544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593-4DA4-4E00-B9E3-42807C12D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F82B-D4DC-4728-82CA-C41026C50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762-BF1F-4A50-9AD8-F8D6967EC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05F3-367C-404E-B36A-E393E6E15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085-AACA-411C-83C5-50BD43525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175F-0FF9-48F7-8728-6C1990660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DF8F-2267-47C7-854B-1747EEC2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F1AA-3F6A-4AF5-8706-DDF29F481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6B1B-5097-413D-9D1C-70EE45D6D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ECC-BAFB-467F-AD7A-5AE880D2B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55CE-5410-43C9-8E3C-53A2F4216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39D-04C3-40D2-86A7-A76BA09AD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C8C-8055-4306-A491-719CDF06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FF4-707F-4AAF-B656-86035C1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029-A246-453D-ACFA-3F93F99C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020-3A46-4C40-AF66-4D7EA87C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22E-39AD-41B5-88AE-4B2473F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E99-60AE-4419-858C-CCF95A44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E94-FE68-41D1-9F1F-0C5B970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EB7-C8B6-49AF-BB0B-C654CA7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5C9-F543-4964-864F-7FF90C7B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16D-1C60-4FE7-BF8B-8EC462B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2A8-F5F1-461C-B165-47472D0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41B-F95E-43B2-84CC-64DCDE2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DBF0-0856-4225-8A45-BF0933F4DA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GianFPagliaroTodosLosBarcosTodosLosPajaro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7 Imagen" descr="sfondo%20san%20valentino.gif"/>
          <p:cNvPicPr/>
          <p:nvPr/>
        </p:nvPicPr>
        <p:blipFill>
          <a:blip r:embed="rId1"/>
          <a:stretch/>
        </p:blipFill>
        <p:spPr>
          <a:xfrm>
            <a:off x="2824200" y="785880"/>
            <a:ext cx="3495600" cy="5662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8440" y="57862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bd97"/>
                </a:solidFill>
                <a:latin typeface="comic"/>
              </a:rPr>
              <a:t>Cuida a tu pare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8120" y="22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a5bfdd">
                  <a:alpha val="86274"/>
                </a:srgbClr>
              </a:gs>
              <a:gs pos="50000">
                <a:srgbClr val="4f81bd">
                  <a:alpha val="84313"/>
                </a:srgbClr>
              </a:gs>
              <a:gs pos="100000">
                <a:srgbClr val="a5bfdd">
                  <a:alpha val="8627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9c3"/>
                </a:solidFill>
                <a:latin typeface="Verdana"/>
              </a:rPr>
              <a:t>Escrito por el Padre Ricardo Búlm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809880" y="1522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0" y="837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or ejemplo, yo comparo el AMOR de aquellas parejas que por alguna circunstancia del destino, tienen un hijo discapacitado. No es que no quieran a los otros hijos,  ellos están segur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6 Imagen" descr="lovecouple.gif"/>
          <p:cNvPicPr/>
          <p:nvPr/>
        </p:nvPicPr>
        <p:blipFill>
          <a:blip r:embed="rId1"/>
          <a:stretch/>
        </p:blipFill>
        <p:spPr>
          <a:xfrm>
            <a:off x="285840" y="1500120"/>
            <a:ext cx="3929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04920" y="838080"/>
            <a:ext cx="3733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De aquél hijo tienen que estar más pendientes,por que no se puede valer por sus propios medios, se puede caer, a lo mejor no come solo…En cambio los otros están bien, los quieren y saben que están ahí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4 Imagen" descr="kcd00163038.jpg"/>
          <p:cNvPicPr/>
          <p:nvPr/>
        </p:nvPicPr>
        <p:blipFill>
          <a:blip r:embed="rId1"/>
          <a:stretch/>
        </p:blipFill>
        <p:spPr>
          <a:xfrm>
            <a:off x="5072040" y="1428840"/>
            <a:ext cx="3357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tengo una pareja, ese es el AMOR discapacitado. De ese tengo que estar más pendiente porque necesita má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amor de los padres es independ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AMOR de PAREJA es dependiente. Ella depende de mí y yo dependo de 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mos unidos “hasta que la muerte nos separe”, pero EL AMOR que nos debemos es como el amor de un hijo discapaci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6 Imagen" descr="010viejitos.gif"/>
          <p:cNvPicPr/>
          <p:nvPr/>
        </p:nvPicPr>
        <p:blipFill>
          <a:blip r:embed="rId1"/>
          <a:stretch/>
        </p:blipFill>
        <p:spPr>
          <a:xfrm>
            <a:off x="2500200" y="0"/>
            <a:ext cx="38577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38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y a decir algo, que con seguridad va a molestar a muchos, pero que cuando se los explique les va a molestar más, y es que a veces cuidamos más lo SEGURO que TENEMOS, que lo INSEGU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4 Imagen" descr="love22.gif"/>
          <p:cNvPicPr/>
          <p:nvPr/>
        </p:nvPicPr>
        <p:blipFill>
          <a:blip r:embed="rId1"/>
          <a:stretch/>
        </p:blipFill>
        <p:spPr>
          <a:xfrm>
            <a:off x="5715000" y="571680"/>
            <a:ext cx="6357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00240" y="304560"/>
            <a:ext cx="4343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 explico : yo siempre digo, no cuides tanto a tu familia, cuida a tu PAREJA y la gente se sorprende !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ro cómo que no voy a cuidar a mi famil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s MI FAMILIA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tu familia no la tienes que cuidar.Es tu fami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U FAMILIA, está SEGURA, nunca se pier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9ikm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Imagen" descr="1440_love_1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tedes han oído decir a alguien “allí va mi ex hijo, allí va mi ex padre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verdad?. Pero han oído mucho, “allí va mi ex parej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 los padres, los hijos, los hermanos,los abuelos, los tíos, los primos … la familia es lo más seguro, que se tiene, no hay 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os están allí y por muchos años que duren sin verse, por mucho tiempo que tarden en escribirse ellos están allí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 Imagen" descr="6888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3285720"/>
            <a:ext cx="8572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ted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 decir; “aquella señora que v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an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r allí, fué mi madre por 25 años”… S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re est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í, ella está seg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más, l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y a décir otra cosa,… de todos l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res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 es tender lazos, de todos los puentes, el amor más débil que existe es el de PARE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 una pareja no hay consanguinidad. Por eso hay que darlo TODO, para formarse al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14880" y="-360"/>
            <a:ext cx="4929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ener una pareja es como cuidar una f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Si una flor no se riega, se muere, y si se riega mucho también. Hay que ser un artista para cuidar una flor. Yo no sé cuidar flores, por eso soy c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or eso, el amor de padre, de madre y de hijo es como tener un  “cují coriano”, nadie los riega, pero esta ah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Imagen" descr="Bailando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so que llamamos AMOR ETERNO, se da en papá, en mamá, en un hijo y en amigos, que también pueden llegar a ser un amor eterno; es decir un amor sin  condi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ero el AMOR en una PAREJA es un AMOR DIARIO, que tiene que cuidarse TODOS LOS D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kcd00163022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85800" y="499680"/>
            <a:ext cx="4095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Tengo un hermano en los Estados Unidos, que se fué hace más de diez años, y duramos ese tiempo sin comunicarnos. Nunca le llamé y puedo decirlo que, hasta por descuido. Siempre sabía de él, por nuestra madre, y cuando regresó, lo fuí a buscar al aeropuerto,y al darnos el abrazo fué tan fuerte que lloramos de emoción. Allí estába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5 Imagen" descr="0113.jpg"/>
          <p:cNvPicPr/>
          <p:nvPr/>
        </p:nvPicPr>
        <p:blipFill>
          <a:blip r:embed="rId1"/>
          <a:stretch/>
        </p:blipFill>
        <p:spPr>
          <a:xfrm>
            <a:off x="0" y="0"/>
            <a:ext cx="4581360" cy="72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ero vete lejos de tu pareja diez años … haber que encuent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or eso EL AMOR DE PAREJA, es AMOR de todos los D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o puedo hablar con mis padres cada semana, una vez al mes … Pero si tuviera pareja, la estuviera llamando a cada momento. Y no es que sea bueno o 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s que el AMOR es así.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6 Imagen" descr="love05.gif"/>
          <p:cNvPicPr/>
          <p:nvPr/>
        </p:nvPicPr>
        <p:blipFill>
          <a:blip r:embed="rId1"/>
          <a:stretch/>
        </p:blipFill>
        <p:spPr>
          <a:xfrm>
            <a:off x="3643200" y="1143000"/>
            <a:ext cx="5500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3:04:29Z</dcterms:created>
  <dc:creator>Usuario</dc:creator>
  <dc:description/>
  <dc:language>en-US</dc:language>
  <cp:lastModifiedBy>Usuario</cp:lastModifiedBy>
  <dcterms:modified xsi:type="dcterms:W3CDTF">2008-01-26T13:05:09Z</dcterms:modified>
  <cp:revision>1</cp:revision>
  <dc:subject/>
  <dc:title>Cuida a tu pareja</dc:title>
</cp:coreProperties>
</file>