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ianFPagliaroTodosLosBarcosTodosLosPajaros.wav" ContentType="audio/x-wav"/>
  <Override PartName="/ppt/media/image4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gif" ContentType="image/gif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1A1-3CD0-4A3C-81F8-F0A63895BC3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23E-A19F-4E8A-B714-05B389758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06B-27B9-49BF-BC5B-50E3794E4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C68F-407C-4EE7-8A96-66486BA85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193-B9CC-46A6-8988-FAC95BC7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60E-C6F3-40FB-B74C-BDCA77499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615-F57A-4647-B153-7C64D79AF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F81C-0363-4122-9A36-B8531B242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8745-06F1-407A-9FFB-5CD1CE5CE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422F-FEC5-416D-AE39-63E9247F2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C40-D4A8-4CD5-A2C1-E4EF32B11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E24-4F6A-44E8-A896-CE2440508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1624-C381-474C-B609-C8C7EC31A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9BA-5C1F-46CC-AE51-574D7958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F3C-CD84-4F69-BC63-F89EA343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13A-201A-4F08-BE1A-71D2151C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605-D089-4191-9F0A-84DD2B70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935-FB3E-43A1-BBE7-9B1A614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A6F-4708-4017-AB66-D7E87513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F5-2940-422D-BD84-E7291F6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15E-A104-49F6-8D03-B1C88E1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33A-D30D-4578-9FD7-011A6AC6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A34-A3DA-4A5A-9BD4-5AA4AAE1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108-E97B-44A2-90EC-DCD2D68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B4D-ECCE-4AC9-9DA4-1F14355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5A0B-008E-431E-B72A-18829E18F7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GianFPagliaroTodosLosBarcosTodosLosPajaro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7 Imagen" descr="sfondo%20san%20valentino.gif"/>
          <p:cNvPicPr/>
          <p:nvPr/>
        </p:nvPicPr>
        <p:blipFill>
          <a:blip r:embed="rId1"/>
          <a:stretch/>
        </p:blipFill>
        <p:spPr>
          <a:xfrm>
            <a:off x="2824200" y="785880"/>
            <a:ext cx="3495600" cy="5662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440" y="57862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bd97"/>
                </a:solidFill>
                <a:latin typeface="comic"/>
              </a:rPr>
              <a:t>Cuida a tu pare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8120" y="22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a5bfdd">
                  <a:alpha val="86274"/>
                </a:srgbClr>
              </a:gs>
              <a:gs pos="50000">
                <a:srgbClr val="4f81bd">
                  <a:alpha val="84313"/>
                </a:srgbClr>
              </a:gs>
              <a:gs pos="100000">
                <a:srgbClr val="a5bfdd">
                  <a:alpha val="86274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9c3"/>
                </a:solidFill>
                <a:latin typeface="Verdana"/>
              </a:rPr>
              <a:t>Escrito por el Padre Ricardo Búlm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809880" y="1522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0" y="837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or ejemplo, yo comparo el AMOR de aquellas parejas que por alguna circunstancia del destino, tienen un hijo discapacitado. No es que no quieran a los otros hijos,  ellos están segur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6 Imagen" descr="lovecouple.gif"/>
          <p:cNvPicPr/>
          <p:nvPr/>
        </p:nvPicPr>
        <p:blipFill>
          <a:blip r:embed="rId1"/>
          <a:stretch/>
        </p:blipFill>
        <p:spPr>
          <a:xfrm>
            <a:off x="285840" y="1500120"/>
            <a:ext cx="3929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04920" y="838080"/>
            <a:ext cx="37335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De aquél hijo tienen que estar más pendientes,por que no se puede valer por sus propios medios, se puede caer, a lo mejor no come solo…En cambio los otros están bien, los quieren y saben que están ahí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4 Imagen" descr="kcd00163038.jpg"/>
          <p:cNvPicPr/>
          <p:nvPr/>
        </p:nvPicPr>
        <p:blipFill>
          <a:blip r:embed="rId1"/>
          <a:stretch/>
        </p:blipFill>
        <p:spPr>
          <a:xfrm>
            <a:off x="5072040" y="1428840"/>
            <a:ext cx="3357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tengo una pareja, ese es el AMOR discapacitado. De ese tengo que estar más pendiente porque necesita má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amor de los padres es independ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AMOR de PAREJA es dependiente. Ella depende de mí y yo dependo de 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mos unidos “hasta que la muerte nos separe”, pero EL AMOR que nos debemos es como el amor de un hijo discapacit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6 Imagen" descr="010viejitos.gif"/>
          <p:cNvPicPr/>
          <p:nvPr/>
        </p:nvPicPr>
        <p:blipFill>
          <a:blip r:embed="rId1"/>
          <a:stretch/>
        </p:blipFill>
        <p:spPr>
          <a:xfrm>
            <a:off x="2500200" y="0"/>
            <a:ext cx="38577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609120"/>
            <a:ext cx="38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y a decir algo, que con seguridad va a molestar a muchos, pero que cuando se los explique les va a molestar más, y es que a veces cuidamos más lo SEGURO que TENEMOS, que lo INSEGU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4 Imagen" descr="love22.gif"/>
          <p:cNvPicPr/>
          <p:nvPr/>
        </p:nvPicPr>
        <p:blipFill>
          <a:blip r:embed="rId1"/>
          <a:stretch/>
        </p:blipFill>
        <p:spPr>
          <a:xfrm>
            <a:off x="5715000" y="571680"/>
            <a:ext cx="6357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00240" y="304560"/>
            <a:ext cx="4343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 explico : yo siempre digo, no cuides tanto a tu familia, cuida a tu PAREJA y la gente se sorprende !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ro cómo que no voy a cuidar a mi famil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s MI FAMILIA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tu familia no la tienes que cuidar.Es tu fami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U FAMILIA, está SEGURA, nunca se pie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9ikm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Imagen" descr="1440_love_1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tedes han oído decir a alguien “allí va mi ex hijo, allí va mi ex padre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, verdad?. Pero han oído mucho, “allí va mi ex parej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 los padres, los hijos, los hermanos,los abuelos, los tíos, los primos … la familia es lo más seguro, que se tiene, no hay 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os están allí y por muchos años que duren sin verse, por mucho tiempo que tarden en escribirse ellos están allí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Imagen" descr="6888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3285720"/>
            <a:ext cx="8572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ted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ede decir; “aquella señora que 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and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r allí, fué mi madre por 25 años”… S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re est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í, ella está seg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 más, le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y a décir otra cosa,… de todos l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es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 es tender lazos, de todos los puentes, el amor más débil que existe es el de PARE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 una pareja no hay consanguinidad. Por eso hay que darlo TODO, para formarse al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14880" y="-360"/>
            <a:ext cx="4929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ener una pareja es como cuidar una f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Si una flor no se riega, se muere, y si se riega mucho también. Hay que ser un artista para cuidar una flor. Yo no sé cuidar flores, por eso soy c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or eso, el amor de padre, de madre y de hijo es como tener un  “cují coriano”, nadie los riega, pero esta ah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Imagen" descr="Bailando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so que llamamos AMOR ETERNO, se da en papá, en mamá, en un hijo y en amigos, que también pueden llegar a ser un amor eterno; es decir un amor sin  condi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ero el AMOR en una PAREJA es un AMOR DIARIO, que tiene que cuidarse TODOS LOS D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Imagen" descr="kcd00163022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85800" y="499680"/>
            <a:ext cx="4095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Tengo un hermano en los Estados Unidos, que se fué hace más de diez años, y duramos ese tiempo sin comunicarnos. Nunca le llamé y puedo decirlo que, hasta por descuido. Siempre sabía de él, por nuestra madre, y cuando regresó, lo fuí a buscar al aeropuerto,y al darnos el abrazo fué tan fuerte que lloramos de emoción. Allí estába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5 Imagen" descr="0113.jpg"/>
          <p:cNvPicPr/>
          <p:nvPr/>
        </p:nvPicPr>
        <p:blipFill>
          <a:blip r:embed="rId1"/>
          <a:stretch/>
        </p:blipFill>
        <p:spPr>
          <a:xfrm>
            <a:off x="0" y="0"/>
            <a:ext cx="4581360" cy="72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ero vete lejos de tu pareja diez años … haber que encuentr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or eso EL AMOR DE PAREJA, es AMOR de todos los D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o puedo hablar con mis padres cada semana, una vez al mes … Pero si tuviera pareja, la estuviera llamando a cada momento. Y no es que sea bueno o 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s que el AMOR es así.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6 Imagen" descr="love05.gif"/>
          <p:cNvPicPr/>
          <p:nvPr/>
        </p:nvPicPr>
        <p:blipFill>
          <a:blip r:embed="rId1"/>
          <a:stretch/>
        </p:blipFill>
        <p:spPr>
          <a:xfrm>
            <a:off x="3643200" y="1143000"/>
            <a:ext cx="5500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3:04:29Z</dcterms:created>
  <dc:creator>Usuario</dc:creator>
  <dc:description/>
  <dc:language>en-US</dc:language>
  <cp:lastModifiedBy>Usuario</cp:lastModifiedBy>
  <dcterms:modified xsi:type="dcterms:W3CDTF">2008-01-26T13:05:09Z</dcterms:modified>
  <cp:revision>1</cp:revision>
  <dc:subject/>
  <dc:title>Cuida a tu pareja</dc:title>
</cp:coreProperties>
</file>