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CHOPIN%20Tristesse%2083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1D7-099C-41EF-91A1-E9879F19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DA9-1B81-4F39-8E3F-D1A782E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BC7-5FB1-4EC0-8DD7-D89293DE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EBE-40F0-40FE-AF91-0B883E17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F4A-7F91-4D7F-9671-FBD3E5D4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AC1-89AA-4C67-A363-ADAF0C7B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FE0-4167-4EF1-8627-898C711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A3C-7FC6-430B-9C9C-D6E5408E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65-3830-438E-BD06-9FC326A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EE0-1A4A-47F7-9F9A-0277691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2A5-D953-4633-8E0E-B0D2AB43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FBF-4720-44FB-A3AA-25A9320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E40B-57B1-4187-96C7-5128EC552B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%20Tristesse%208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lueta%20BRAZOS%20Abiertos%20chica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Contra todo paternalismo milagrero, esto es lo más característico 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de los milagros de Jesús y la suprema discreción de Dios: 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curar haciendo que los seres humanos se curen a sí mismos.</a:t>
            </a:r>
            <a:br>
              <a:rPr sz="2000"/>
            </a:b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i="1" lang="es-ES_tradnl" sz="2000" spc="-1" strike="noStrike">
                <a:solidFill>
                  <a:srgbClr val="990099"/>
                </a:solidFill>
                <a:latin typeface="Comic Sans MS"/>
              </a:rPr>
              <a:t>Jon Sob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40080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rcos 10, 46b-52 //  30 Tiempo Ordinario –B- // 25 octubr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OPIN%20Tristesse%208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AMINO%20borde%20del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762440" cy="635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0751000">
            <a:off x="1295280" y="3200040"/>
            <a:ext cx="3305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 borde del camin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04920"/>
            <a:ext cx="3809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quí estoy, Señor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el ciego al borde del camin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-cansado, sudoroso, polvoriento-;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endigo por necesidad y ofi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ero al sentir tus paso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 oír tu voz inconfundible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o mi ser se estremece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si un manantial brotar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ntro de m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Ah, qué pregunta la tuy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desea un ciego sino v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Que vea, Señ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tus se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los camino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vea, Señor, ante to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rostro, tus oj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u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Ulibarri,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ibro-abiert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0492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cos 10, 46b-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relato evangélico expone con precisión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os pasos del proceso de la f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licar y gritar desde la ceguera (v.47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stir, a pesar de la oposición o la contrariedad (v.48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diación y palabras de ánimo (v.49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ercarse a Jesús con confianza y alegría (v.5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logar con él (v.5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uminación de los ojos y el corazón y seguir a Jesús por el camino (v.52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 texto cierra la sección específica del discipulado y segu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iego.Zeffirelli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52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cc"/>
                </a:solidFill>
                <a:latin typeface="Georgia"/>
              </a:rPr>
              <a:t>46</a:t>
            </a: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 Llegaron a Jericó. Más tarde, cuando Jesús salía de allí acompañado por sus discípulos y por bastante gente, el hijo de Timeo,  Bartimeo,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un mendigo ciego, estaba sentado junto al cami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2578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s personas ciegas eran la viva estampa de la miseria, el desampar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la desesperanza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o es extraño que el hombre de los ojos más amables, puros  y profundo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tiera especial simpatía por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pia%20de%20munch_el_gri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6680" y="152280"/>
            <a:ext cx="88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Cuando se enteró de que era Jesús el Nazareno quien pasaba, se puso a gritar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¡Hijo de David, Jesús, ten compasión de m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18148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Nos molestan los “gritos” de quienes encontramos en el camino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Nos resultan incómodas las personas que  piden o hacen preguntas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Impedimos a otras personas que puedan sentir, saborear y escuchar a Jesús?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O ¿nos acercamos , animamos,  facilitamos y clarificamo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camino hacia É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iego.Zeffirelli%2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6920" y="304920"/>
            <a:ext cx="87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Georgia"/>
              </a:rPr>
              <a:t>48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Muchos lo reprendían para que callara. Pero él gritaba todavía más fuerte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–¡Hijo de David, ten compasión de mí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24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l reconocimiento de Jesús viene de l@s últim@s de la sociedad, de quienes están al borde del camino, de aquell@s a quienes algunas personas pretenden hacer callar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disposición del corazón de Bartimeo, contrasta con la de los Zebede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quellos querían sentarse a la derecha en el Reino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Bartimeo quiere dejar de estar sentado, levantarse, para segui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Un personaje marginal y secundario encarna actitudes y respuestas que no son capaces de ofrecer los que están cerca de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ILUETA%20BRAZOS%20ABIERTOS%20CIM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0"/>
            <a:ext cx="544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Georgia"/>
              </a:rPr>
              <a:t>49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Jesús se detuvo y dijo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–Llamadlo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Llamaron entonces al ciego, diciéndole: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¡Ánimo, levántate, que te lla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8006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sús siempre entra en relación con quien está al borde del camino. Se detien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e preocupa de mirar e invita a ponerse en pie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empre tiene tiempo para quien necesita buscar, recibir, levantarse, retomar el camino,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ver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..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l encargo va también para nosotr@s:  ¡animad! ¡llamad!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No dejéis a nadie tirad@ en la cuneta. Decid que estoy pasan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garradas%20fondo%20neg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66760" y="228600"/>
            <a:ext cx="68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Él, arrojando su manto, dio un salto y se acercó a Jesús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1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Jesús, dirigiéndose a él,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¿Qué quieres que haga por 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5029200"/>
            <a:ext cx="8991720" cy="1739880"/>
          </a:xfrm>
          <a:prstGeom prst="rect">
            <a:avLst/>
          </a:prstGeom>
          <a:solidFill>
            <a:srgbClr val="4d4d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sús quiere escuchar. La pregunta de Jesús es ejemplo y modelo de servi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ara servir correctamente es necesario aprender a recibir y escuchar las verdaderas preguntas de las personas. Si no, corremos el riesgo de respond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preguntas que nadie nos h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mos de conocer las auténticas preguntas y necesidades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guntando, como Jesús: ¿qué quieres que haga por t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IÑA%20escuela" descr=""/>
          <p:cNvPicPr/>
          <p:nvPr/>
        </p:nvPicPr>
        <p:blipFill>
          <a:blip r:embed="rId2"/>
          <a:stretch/>
        </p:blipFill>
        <p:spPr>
          <a:xfrm>
            <a:off x="0" y="1371600"/>
            <a:ext cx="2981160" cy="3619440"/>
          </a:xfrm>
          <a:prstGeom prst="rect">
            <a:avLst/>
          </a:prstGeom>
          <a:ln w="0">
            <a:noFill/>
          </a:ln>
        </p:spPr>
      </p:pic>
      <p:pic>
        <p:nvPicPr>
          <p:cNvPr id="62" name="PAREJA%20SEPARADA%20tabique" descr=""/>
          <p:cNvPicPr/>
          <p:nvPr/>
        </p:nvPicPr>
        <p:blipFill>
          <a:blip r:embed="rId3"/>
          <a:stretch/>
        </p:blipFill>
        <p:spPr>
          <a:xfrm>
            <a:off x="0" y="838080"/>
            <a:ext cx="2666880" cy="2233800"/>
          </a:xfrm>
          <a:prstGeom prst="rect">
            <a:avLst/>
          </a:prstGeom>
          <a:ln w="0">
            <a:noFill/>
          </a:ln>
        </p:spPr>
      </p:pic>
      <p:pic>
        <p:nvPicPr>
          <p:cNvPr id="63" name="carcel%20manos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195876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hica%20CAR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67080" y="152280"/>
            <a:ext cx="44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eorgia"/>
              </a:rPr>
              <a:t>El ciego le contestó: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Georgia"/>
              </a:rPr>
              <a:t>–Maestro, que recobre la vi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1523880"/>
            <a:ext cx="495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curación surge de una neces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a búsqueda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 encuentro, de un diálogo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 una confianza.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El mendigo ciego sólo pide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orientación y lu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scubro ante Jesús mis cegueras.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impiden ver y disfrutar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llevan a confundir la realidad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las que no me dejan percibir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los signos de los tiempos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y el verdadero sentido de la vida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paralizan al borde del camino,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s que me ciegan con sus falsas luc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scubro mis cegueras.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Se las presento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AMINO%20OTOÑO%20kinkade_-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304920"/>
            <a:ext cx="75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2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Jesús le dijo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Vete, tu fe te ha salvad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al momento recobró la vis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le siguió por el camino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9144000" cy="20142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ice que es la fe, la plena confianza en él, la que da la vida, la que sal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ciego no creyó por haber sido curado, sino que fue curado por haber creí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e curar no es sólo curación fisiológica, sino profunda transformación de los ojos y del corazón para una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nueva andadura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Bartimeo es modelo de auténtic@ discípul@: testifica y proclama su fe, la traduce en oración perseverante y confiada, se libera de todo lo que impida un encuentro personal con Jesús y, con su luz, lo sigue con decisión y alegría en su cam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6:00:08Z</dcterms:created>
  <dc:creator> Mariasun Gutiérrez</dc:creator>
  <dc:description/>
  <dc:language>en-US</dc:language>
  <cp:lastModifiedBy>Usuario</cp:lastModifiedBy>
  <dcterms:modified xsi:type="dcterms:W3CDTF">2009-10-21T19:19:03Z</dcterms:modified>
  <cp:revision>19</cp:revision>
  <dc:subject>jeasam@gmail.com</dc:subject>
  <dc:title>30 Tiempo Ordinario B</dc:title>
</cp:coreProperties>
</file>