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CHOPIN%20Tristesse%2083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DB47-7D8B-4BE6-9752-673AB87E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2DC5-5DB2-4202-96E7-E5CB8A58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ADA0-0E3D-4DE6-A860-1AB889E7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193A-A196-47A0-A9B7-97F99676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720-6A5C-454F-8142-E941CEA2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445A-0D54-446B-84AE-7214E4EE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7D7E-627E-4351-AABC-EA12FE72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AE6F-B0EA-4403-A526-9136A9CF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0F28-5291-4D10-9F42-71879578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E06E-1932-4FFA-B50F-B3F01CFD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2E3-8A75-466F-A9FD-E19B74A6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227-48D3-4A0B-9FEC-40AE3C70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F23D-355C-4227-85E8-8BCF7D476BD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PIN%20Tristesse%2083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lueta%20BRAZOS%20Abiertos%20chica%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Contra todo paternalismo milagrero, esto es lo más característico </a:t>
            </a:r>
            <a:br>
              <a:rPr sz="2000"/>
            </a:b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de los milagros de Jesús y la suprema discreción de Dios: </a:t>
            </a:r>
            <a:br>
              <a:rPr sz="2000"/>
            </a:b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curar haciendo que los seres humanos se curen a sí mismos.</a:t>
            </a:r>
            <a:br>
              <a:rPr sz="2000"/>
            </a:b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i="1" lang="es-ES_tradnl" sz="2000" spc="-1" strike="noStrike">
                <a:solidFill>
                  <a:srgbClr val="990099"/>
                </a:solidFill>
                <a:latin typeface="Comic Sans MS"/>
              </a:rPr>
              <a:t>Jon Sobr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6400800"/>
            <a:ext cx="723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arcos 10, 46b-52 //  30 Tiempo Ordinario –B- // 25 octubr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OPIN%20Tristesse%2083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AMINO%20borde%20del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762440" cy="6350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 rot="20751000">
            <a:off x="1295280" y="3200040"/>
            <a:ext cx="33051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dddddd"/>
                    </a:gs>
                    <a:gs pos="100000">
                      <a:srgbClr val="3366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l borde del camino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dddddd"/>
                  </a:gs>
                  <a:gs pos="100000">
                    <a:srgbClr val="336600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304920"/>
            <a:ext cx="38098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quí estoy, Señor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como el ciego al borde del camino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-cansado, sudoroso, polvoriento-;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endigo por necesidad y ofi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ero al sentir tus pasos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l oír tu voz inconfundible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odo mi ser se estremece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como si un manantial brotara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ntro de mí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¡Ah, qué pregunta la tuy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Qué desea un ciego sino v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¡Que vea, Seño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e vea, Señor, tus sen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e vea, Señor, los caminos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 la v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e vea, Señor, ante tod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u rostro, tus ojo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u coraz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Monotype Corsiva"/>
              </a:rPr>
              <a:t>Ulibarri, F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ibro-abierto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520" y="30492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rcos 10, 46b-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 relato evangélico expone con precisión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os pasos del proceso de la f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licar y gritar desde la ceguera (v.47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istir, a pesar de la oposición o la contrariedad (v.48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diación y palabras de ánimo (v.49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ercarse a Jesús con confianza y alegría (v.50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alogar con él (v.51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luminación de los ojos y el corazón y seguir a Jesús por el camino (v.52)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e texto cierra la sección específica del discipulado y segu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iego.Zeffirelli%2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15228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baseline="30000">
                <a:solidFill>
                  <a:srgbClr val="ffffcc"/>
                </a:solidFill>
                <a:latin typeface="Georgia"/>
              </a:rPr>
              <a:t>46</a:t>
            </a:r>
            <a:r>
              <a:rPr b="0" lang="es-ES" sz="2000" spc="-1" strike="noStrike">
                <a:solidFill>
                  <a:srgbClr val="ffffcc"/>
                </a:solidFill>
                <a:latin typeface="Georgia"/>
              </a:rPr>
              <a:t> Llegaron a Jericó. Más tarde, cuando Jesús salía de allí acompañado por sus discípulos y por bastante gente, el hijo de Timeo,  Bartimeo, 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Georgia"/>
              </a:rPr>
              <a:t>un mendigo ciego, estaba sentado junto al cami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52578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as personas ciegas eran la viva estampa de la miseria, el desamparo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 la desesperanza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o es extraño que el hombre de los ojos más amables, puros  y profundo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ntiera especial simpatía por el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pia%20de%20munch_el_gri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6680" y="152280"/>
            <a:ext cx="881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47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Cuando se enteró de que era Jesús el Nazareno quien pasaba, se puso a gritar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–¡Hijo de David, Jesús, ten compasión de mí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181480"/>
            <a:ext cx="883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¿Nos molestan los “gritos” de quienes encontramos en el camino?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¿Nos resultan incómodas las personas que  piden o hacen preguntas?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¿Impedimos a otras personas que puedan sentir, saborear y escuchar a Jesús?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 O ¿nos acercamos , animamos,  facilitamos y clarificamo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el camino hacia É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iego.Zeffirelli%2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6920" y="304920"/>
            <a:ext cx="875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cc"/>
                </a:solidFill>
                <a:latin typeface="Georgia"/>
              </a:rPr>
              <a:t>48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 Muchos lo reprendían para que callara. Pero él gritaba todavía más fuerte: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–¡Hijo de David, ten compasión de mí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724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El reconocimiento de Jesús viene de l@s últim@s de la sociedad, de quienes están al borde del camino, de aquell@s a quienes algunas personas pretenden hacer callar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La disposición del corazón de Bartimeo, contrasta con la de los Zebedeos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Aquellos querían sentarse a la derecha en el Reino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Bartimeo quiere dejar de estar sentado, levantarse, para seguir a Jesú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Un personaje marginal y secundario encarna actitudes y respuestas que no son capaces de ofrecer los que están cerca de Jesú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LUETA%20BRAZOS%20ABIERTOS%20CIM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47920" y="0"/>
            <a:ext cx="5446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cc"/>
                </a:solidFill>
                <a:latin typeface="Georgia"/>
              </a:rPr>
              <a:t>49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 Jesús se detuvo y dijo: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–Llamadlo.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Llamaron entonces al ciego, diciéndole: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¡Ánimo, levántate, que te llam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80060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Jesús siempre entra en relación con quien está al borde del camino. Se detiene,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se preocupa de mirar e invita a ponerse en pie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Siempre tiene tiempo para quien necesita buscar, recibir, levantarse, retomar el camino, 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ver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..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El encargo va también para nosotr@s:  ¡animad! ¡llamad!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No dejéis a nadie tirad@ en la cuneta. Decid que estoy pasan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garradas%20fondo%20negr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66760" y="228600"/>
            <a:ext cx="68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50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Él, arrojando su manto, dio un salto y se acercó a Jesús.</a:t>
            </a:r>
            <a:br>
              <a:rPr sz="2000"/>
            </a:b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51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Jesús, dirigiéndose a él, le dijo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–¿Qué quieres que haga por t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5029200"/>
            <a:ext cx="8991720" cy="1739880"/>
          </a:xfrm>
          <a:prstGeom prst="rect">
            <a:avLst/>
          </a:prstGeom>
          <a:solidFill>
            <a:srgbClr val="4d4d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Jesús quiere escuchar. La pregunta de Jesús es ejemplo y modelo de servi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ara servir correctamente es necesario aprender a recibir y escuchar las verdaderas preguntas de las personas. Si no, corremos el riesgo de respond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 preguntas que nadie nos h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emos de conocer las auténticas preguntas y necesidades de las perso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eguntando, como Jesús: ¿qué quieres que haga por t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NIÑA%20escuela" descr=""/>
          <p:cNvPicPr/>
          <p:nvPr/>
        </p:nvPicPr>
        <p:blipFill>
          <a:blip r:embed="rId2"/>
          <a:stretch/>
        </p:blipFill>
        <p:spPr>
          <a:xfrm>
            <a:off x="0" y="1371600"/>
            <a:ext cx="2981160" cy="3619440"/>
          </a:xfrm>
          <a:prstGeom prst="rect">
            <a:avLst/>
          </a:prstGeom>
          <a:ln w="0">
            <a:noFill/>
          </a:ln>
        </p:spPr>
      </p:pic>
      <p:pic>
        <p:nvPicPr>
          <p:cNvPr id="62" name="PAREJA%20SEPARADA%20tabique" descr=""/>
          <p:cNvPicPr/>
          <p:nvPr/>
        </p:nvPicPr>
        <p:blipFill>
          <a:blip r:embed="rId3"/>
          <a:stretch/>
        </p:blipFill>
        <p:spPr>
          <a:xfrm>
            <a:off x="0" y="838080"/>
            <a:ext cx="2666880" cy="2233800"/>
          </a:xfrm>
          <a:prstGeom prst="rect">
            <a:avLst/>
          </a:prstGeom>
          <a:ln w="0">
            <a:noFill/>
          </a:ln>
        </p:spPr>
      </p:pic>
      <p:pic>
        <p:nvPicPr>
          <p:cNvPr id="63" name="carcel%20manos" descr=""/>
          <p:cNvPicPr/>
          <p:nvPr/>
        </p:nvPicPr>
        <p:blipFill>
          <a:blip r:embed="rId4"/>
          <a:stretch/>
        </p:blipFill>
        <p:spPr>
          <a:xfrm>
            <a:off x="6705720" y="1905120"/>
            <a:ext cx="1958760" cy="2587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hica%20CARA%20LU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267080" y="152280"/>
            <a:ext cx="44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Georgia"/>
              </a:rPr>
              <a:t>El ciego le contestó:</a:t>
            </a:r>
            <a:br>
              <a:rPr sz="2000"/>
            </a:br>
            <a:r>
              <a:rPr b="0" lang="en-US" sz="2000" spc="-1" strike="noStrike">
                <a:solidFill>
                  <a:srgbClr val="0066cc"/>
                </a:solidFill>
                <a:latin typeface="Georgia"/>
              </a:rPr>
              <a:t>–Maestro, que recobre la vis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1523880"/>
            <a:ext cx="4952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La curación surge de una necesida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de una búsqueda, 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de un encuentro, de un diálogo, 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de una confianza.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 El mendigo ciego sólo pide 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orientación y lu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Descubro ante Jesús mis cegueras. 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Las que me impiden ver y disfrutar,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las que me llevan a confundir la realidad,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 las que no me dejan percibir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 los signos de los tiempos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 y el verdadero sentido de la vida, 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las que me paralizan al borde del camino, 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las que me ciegan con sus falsas luce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Descubro mis cegueras. 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Se las presento a Jesú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AMINO%20OTOÑO%20kinkade_-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00" y="304920"/>
            <a:ext cx="754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52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Jesús le dijo: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Vete, tu fe te ha salvado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Y al momento recobró la vist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y le siguió por el camino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800600"/>
            <a:ext cx="9144000" cy="20142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Jesús dice que es la fe, la plena confianza en él, la que da la vida, la que sal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ciego no creyó por haber sido curado, sino que fue curado por haber creí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te curar no es sólo curación fisiológica, sino profunda transformación de los ojos y del corazón para una </a:t>
            </a:r>
            <a:r>
              <a:rPr b="0" i="1" lang="es-ES" sz="1800" spc="-1" strike="noStrike">
                <a:solidFill>
                  <a:srgbClr val="000000"/>
                </a:solidFill>
                <a:latin typeface="Comic Sans MS"/>
              </a:rPr>
              <a:t>nueva andadura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Bartimeo es modelo de auténtic@ discípul@: testifica y proclama su fe, la traduce en oración perseverante y confiada, se libera de todo lo que impida un encuentro personal con Jesús y, con su luz, lo sigue con decisión y alegría en su cami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6:00:08Z</dcterms:created>
  <dc:creator> Mariasun Gutiérrez</dc:creator>
  <dc:description/>
  <dc:language>en-US</dc:language>
  <cp:lastModifiedBy>Usuario</cp:lastModifiedBy>
  <dcterms:modified xsi:type="dcterms:W3CDTF">2009-10-21T19:19:03Z</dcterms:modified>
  <cp:revision>19</cp:revision>
  <dc:subject>jeasam@gmail.com</dc:subject>
  <dc:title>30 Tiempo Ordinario B</dc:title>
</cp:coreProperties>
</file>