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Burbujas.wav" ContentType="audio/x-wav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80E-078A-4F40-804A-88571D6F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406-C9BE-42D5-9406-53895D84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477-6B4D-4298-817A-9284DA85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397-02D5-4618-BEDC-13A52A8A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EBB-4386-4EAC-8E21-1117B359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A7F-0825-4F05-B665-45661E60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E87-E2EB-4708-A7A7-BA4CDEE1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72C-B396-458A-8496-6A0F225B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A37-347B-4D32-93B2-D9AC5CD9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D6C-F912-44EA-9269-BB32AF97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14E-FDE4-4DB3-BE7F-B2077E77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198-FB3D-4F7F-B72A-822C775A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9E88-A8EB-40B3-9214-A482D9566F3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-woody 1"/>
          <p:cNvPicPr/>
          <p:nvPr/>
        </p:nvPicPr>
        <p:blipFill>
          <a:blip r:embed="rId2"/>
          <a:stretch/>
        </p:blipFill>
        <p:spPr>
          <a:xfrm>
            <a:off x="3141720" y="260280"/>
            <a:ext cx="28605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urbuja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ventajas del nudismo saltan a la vist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Burbuja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657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ndo todo sube, lo único que baja es la ropa interi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y que trabajar ocho horas y dormir ocho horas, pero no las mism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japoneses no miran, sospech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Cuál es el animal que después de muerto da muchas vueltas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El pollo rotiz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57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ndo un médico se equivoca, lo mejor es echarle tierra al asu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música japonesa es una tortura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eco siempre dice la última pala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657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n los aviones el tiempo se pasa vola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mosquitos mueren entre aplaus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 padre vendió la farmacia porque no había más remed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olo quien ha comido ajo puede darnos una palabra de al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japoneses quieren abrirle los ojos al mu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reglar los problemas económicos es fácil, lo único que se necesita es din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sfruta el día hasta que un imbécil te lo arru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maos los unos “sobre” los otr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amistad es como la mayonesa: cuesta un huevo y hay que tratar que no se co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zlo bien y no mires con qu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 curioso que se le denomine sexo oral a la práctica sexual en la que menos se puede habl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canas ya no se respetan, se tiñ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igamo: idiota al cuadr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El mago hizo un gesto y desapareció el hambre, hizo otro gesto y desapareció la injusticia, hizo otro gesto y desapareció la guerra. El político hizo un gesto y desapareció el m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 Imagen" descr="Bravo.gif"/>
          <p:cNvPicPr/>
          <p:nvPr/>
        </p:nvPicPr>
        <p:blipFill>
          <a:blip r:embed="rId1"/>
          <a:stretch/>
        </p:blipFill>
        <p:spPr>
          <a:xfrm>
            <a:off x="7812000" y="5732640"/>
            <a:ext cx="933480" cy="933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657600"/>
            <a:ext cx="7162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orir es como dormir, pero sin levantarse a orin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inactividad sexual es peligrosa, produce cuern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9920" y="3657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 en día la fidelidad solo se ve en los equipos de son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y estudiantes que les apena ir al hipódromo y ver que hasta los caballos logran terminar su carr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negocio más expuesto a la quiebra es el de la cristal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matrimonio es como las libretas de ahorro: de tanto meter y sacar se pierde el inter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diabético no puede ir de luna de mi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25:06Z</dcterms:created>
  <dc:creator/>
  <dc:description/>
  <dc:language>en-US</dc:language>
  <cp:lastModifiedBy>Usuario</cp:lastModifiedBy>
  <dcterms:modified xsi:type="dcterms:W3CDTF">2013-07-24T20:04:05Z</dcterms:modified>
  <cp:revision>8</cp:revision>
  <dc:subject/>
  <dc:title>WOODY ALLEN</dc:title>
</cp:coreProperties>
</file>