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urbujas.wav" ContentType="audio/x-wav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2DE-999C-4699-9E8F-1C400E80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A49-BED8-4253-B83D-527444E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140-20D7-421C-B867-94FC3B2E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4CA-6DFF-4961-A2F4-E10D0E8E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582-D9F6-462B-B79E-6EBD13B7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57F-333E-424D-AC2A-A2E23572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F91-7C12-4C8B-8C55-DAF5F6F8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797-8C4B-45E1-BEAA-8B6CEBBC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2AF-8666-4851-BBC3-E1FB39B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491-78EF-4587-A965-87A23ED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A4A-95A5-42A5-9DBC-070622E1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1AE-7AA8-4BD6-9126-D33E412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299-9EE0-44BF-B7E1-114A4A1759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-woody 1"/>
          <p:cNvPicPr/>
          <p:nvPr/>
        </p:nvPicPr>
        <p:blipFill>
          <a:blip r:embed="rId2"/>
          <a:stretch/>
        </p:blipFill>
        <p:spPr>
          <a:xfrm>
            <a:off x="3141720" y="260280"/>
            <a:ext cx="28605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urbuja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ventajas del nudismo saltan a la vis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Burbuja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ndo todo sube, lo único que baja es la ropa inter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que trabajar ocho horas y dormir ocho horas, pero no las mism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japoneses no miran, sospech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Cuál es el animal que después de muerto da muchas vueltas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El pollo rotiz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57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ndo un médico se equivoca, lo mejor es echarle tierra al asu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música japonesa es una tortura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eco siempre dice la última pala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657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n los aviones el tiempo se pasa vola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mosquitos mueren entre aplaus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 padre vendió la farmacia porque no había más remed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olo quien ha comido ajo puede darnos una palabra de al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japoneses quieren abrirle los ojos a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reglar los problemas económicos es fácil, lo único que se necesita es din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fruta el día hasta que un imbécil te lo arru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maos los unos “sobre” los otr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amistad es como la mayonesa: cuesta un huevo y hay que tratar que no se co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zlo bien y no mires con q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 curioso que se le denomine sexo oral a la práctica sexual en la que menos se puede hab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canas ya no se respetan, se tiñ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igamo: idiota al cuadr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El mago hizo un gesto y desapareció el hambre, hizo otro gesto y desapareció la injusticia, hizo otro gesto y desapareció la guerra. El político hizo un gesto y desapareció el m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 Imagen" descr="Bravo.gif"/>
          <p:cNvPicPr/>
          <p:nvPr/>
        </p:nvPicPr>
        <p:blipFill>
          <a:blip r:embed="rId1"/>
          <a:stretch/>
        </p:blipFill>
        <p:spPr>
          <a:xfrm>
            <a:off x="7812000" y="5732640"/>
            <a:ext cx="933480" cy="933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rir es como dormir, pero sin levantarse a orin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inactividad sexual es peligrosa, produce cuern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9920" y="3657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 en día la fidelidad solo se ve en los equipos de son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estudiantes que les apena ir al hipódromo y ver que hasta los caballos logran terminar su carr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negocio más expuesto a la quiebra es el de la cristal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matrimonio es como las libretas de ahorro: de tanto meter y sacar se pierde el inter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diabético no puede ir de luna de mi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25:06Z</dcterms:created>
  <dc:creator/>
  <dc:description/>
  <dc:language>en-US</dc:language>
  <cp:lastModifiedBy>Usuario</cp:lastModifiedBy>
  <dcterms:modified xsi:type="dcterms:W3CDTF">2013-07-24T20:04:05Z</dcterms:modified>
  <cp:revision>8</cp:revision>
  <dc:subject/>
  <dc:title>WOODY ALLEN</dc:title>
</cp:coreProperties>
</file>