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Vogels%20fluiten%20achtergrond.wav" ContentType="audio/x-wav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EF7-27FA-4D78-9243-0D4CCDE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349-A3C5-4A1C-9CAF-7925DF6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7AE-9657-4C4B-A295-87F89F52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052-1D41-46EE-94F2-3E28FA5F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8E7-5F0D-4288-9BE6-265DA15D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E60-2356-43FB-9508-FAA042C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62B-9C17-4F03-9916-9454EBAE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659-B231-4508-86B9-2A34D33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F3F-E995-4C98-8314-06E0B97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1EC-7D1F-412A-AE77-8E2A1FA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6BF-26C1-492B-B003-B6A2BF1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96F-E259-4C2B-8343-7A5A568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DFBE-7661-4A12-A06A-FDDF4F991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gels%20fluiten%20achtergro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3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 QUÉ VES EN ESTA IMAGEN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56384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tormenta antes que el brillo del sol,                      es porque algo está oscureciendo tu coraz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845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el camino largo e infinito, es porque estás siempre mirando hacia el futuro, olvidándote que sólo se vive en PRESENTE,                                                              porque el FUTURO nun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ga, siem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HOY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hierba seca de color rojiza antes que los árboles y las hierbas verdes, es porque sólo miras lo negativo de la realidad,                                                 perdiéndote la armonía del paisaje en su conjun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9079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ensa antes de avanz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Vogels%20fluiten%20achtergro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5589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Tú que 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33360"/>
            <a:ext cx="70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el brillo del SOL,                                                                   es la luz de DIOS que se enciende cada mañana que te despier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34136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mporta cuan largo sea el camino…                                                               importa que cada paso que hagas los disfrutes con AMOR Y FE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20500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toda la realidad…                                                                        En el conjunto encontrarás la armonía perfecta,                                                         porque todo está siempre en equilib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8840" y="4653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¡¡ La vida es como TÚ quieres que sea…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692280"/>
            <a:ext cx="777744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Ú ERES LO QUE ES EL PROFUNDO DESEO QUE TE IMPUL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ES TU DESEO ES TU VOLUN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ES TU VOLUNTAD SON TUS A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SON TUS ACTOS ES TU DESTIN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Brihadaranyaka Upanishad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87640" y="3645000"/>
            <a:ext cx="323856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1268280"/>
            <a:ext cx="676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no lo envías a nadie no pasa nada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o haces a lo mejor ayudas a que alguien cam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forma de mirar y lo acercas a la felicida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¡¡ Que Dios te bendiga todos los días de tu vid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47660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5 Rectángulo"/>
          <p:cNvSpPr/>
          <p:nvPr/>
        </p:nvSpPr>
        <p:spPr>
          <a:xfrm>
            <a:off x="2916360" y="5950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res feliz si deseas serl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2:06:46Z</dcterms:created>
  <dc:creator>Daniel Serpentini</dc:creator>
  <dc:description/>
  <dc:language>en-US</dc:language>
  <cp:lastModifiedBy>casa</cp:lastModifiedBy>
  <dcterms:modified xsi:type="dcterms:W3CDTF">2009-12-09T00:58:00Z</dcterms:modified>
  <cp:revision>4</cp:revision>
  <dc:subject/>
  <dc:title>Diapositiva 1</dc:title>
</cp:coreProperties>
</file>