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Vogels%20fluiten%20achtergrond.wav" ContentType="audio/x-wav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B0E-05A3-4902-B6CF-C457B0F7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955-65BB-40B8-A465-151FEED9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77B-C183-4DFE-A089-063539FC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6A8-92C6-487A-BEC1-7ED7216E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8B4-0E51-4282-AA24-A168567E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C4D-E56F-4922-A6D1-8117202F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8CF-F50B-4F92-9CCD-2BC25520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6EE-569E-4620-A3B4-453996BE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113-DF93-4E07-AC52-B3DFD89F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E59-3A6C-4176-9A82-CBFD3E66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541-9F56-4711-8BBE-A7C3EBF0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8CB-F1B6-4A93-A64D-4EEB7B0F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35F4-9E42-404C-A8A3-4DD37EF35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gels%20fluiten%20achtergro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43640" y="6669000"/>
            <a:ext cx="270036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69000"/>
            <a:ext cx="644364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333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¿ QUÉ VES EN ESTA IMAGEN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560" y="1563840"/>
            <a:ext cx="55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ves la tormenta antes que el brillo del sol,                      es porque algo está oscureciendo tu corazó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6845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ves el camino largo e infinito, es porque estás siempre mirando hacia el futuro, olvidándote que sólo se vive en PRESENTE,                                                              porque el FUTURO nun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lega, siem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HOY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36572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ves la hierba seca de color rojiza antes que los árboles y las hierbas verdes, es porque sólo miras lo negativo de la realidad,                                                 perdiéndote la armonía del paisaje en su conjunt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90792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ensa antes de avanza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Vogels%20fluiten%20achtergro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43640" y="6669000"/>
            <a:ext cx="270036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669000"/>
            <a:ext cx="644364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55897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Tú que 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33360"/>
            <a:ext cx="70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ta de ver el brillo del SOL,                                                                   es la luz de DIOS que se enciende cada mañana que te despier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134136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importa cuan largo sea el camino…                                                               importa que cada paso que hagas los disfrutes con AMOR Y FELIC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2205000"/>
            <a:ext cx="81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ta de ver toda la realidad…                                                                        En el conjunto encontrarás la armonía perfecta,                                                         porque todo está siempre en equilibri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58840" y="465300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¡¡¡ La vida es como TÚ quieres que sea…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669000"/>
            <a:ext cx="644364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6669000"/>
            <a:ext cx="644364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692280"/>
            <a:ext cx="7777440" cy="19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TÚ ERES LO QUE ES EL PROFUNDO DESEO QUE TE IMPUL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TAL COMO ES TU DESEO ES TU VOLUNT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TAL COMO ES TU VOLUNTAD SON TUS AC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TAL COMO SON TUS ACTOS ES TU DESTIN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Brihadaranyaka Upanishad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987640" y="3645000"/>
            <a:ext cx="323856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443640" y="6669000"/>
            <a:ext cx="270036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669000"/>
            <a:ext cx="6443640" cy="1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1268280"/>
            <a:ext cx="6769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no lo envías a nadie no pasa nada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lo haces a lo mejor ayudas a que alguien camb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 forma de mirar y lo acercas a la felicida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¡¡¡ Que Dios te bendiga todos los días de tu vida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340000" y="3141720"/>
            <a:ext cx="4476600" cy="885600"/>
          </a:xfrm>
          <a:prstGeom prst="rect">
            <a:avLst/>
          </a:prstGeom>
          <a:ln w="0">
            <a:noFill/>
          </a:ln>
        </p:spPr>
      </p:pic>
      <p:sp>
        <p:nvSpPr>
          <p:cNvPr id="67" name="5 Rectángulo"/>
          <p:cNvSpPr/>
          <p:nvPr/>
        </p:nvSpPr>
        <p:spPr>
          <a:xfrm>
            <a:off x="2916360" y="59500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res feliz si deseas serl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22:06:46Z</dcterms:created>
  <dc:creator>Daniel Serpentini</dc:creator>
  <dc:description/>
  <dc:language>en-US</dc:language>
  <cp:lastModifiedBy>casa</cp:lastModifiedBy>
  <dcterms:modified xsi:type="dcterms:W3CDTF">2009-12-09T00:58:00Z</dcterms:modified>
  <cp:revision>4</cp:revision>
  <dc:subject/>
  <dc:title>Diapositiva 1</dc:title>
</cp:coreProperties>
</file>