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51D-3425-43CF-A0B4-7768E72E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31C-866F-4175-8718-845A7E47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3C8-9352-45A0-B6FA-C8D8E3E7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A38-A455-4356-88A3-688A20FC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77E-BA52-49A6-8943-53696298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7F2-21DA-4896-99B1-8149B9F4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E7B-C6A7-45A6-812B-358424E8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42B-4126-4212-945A-B50AB3CC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3E0-54E1-471B-8EF7-A756D66D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551-F591-470A-97B1-1BFC1200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325-CEAE-4D3C-872D-291392F5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387-AB9B-4CA8-AE7D-95FC6A6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F927-3267-45B9-BFDB-3B56E65D1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00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84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280" y="1052640"/>
            <a:ext cx="471672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2847600" y="115920"/>
            <a:ext cx="37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maíz mo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4508640"/>
            <a:ext cx="8884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nosotros, un vasito de chichita morada es casi cosa del cada día, p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esencia que obtenemos al hervir el maíz morado no es solo delicio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sted es uno de los hinchas de la bebida púrpura o la mazamorrita, 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emos muy, pero muy buenas noticias ya que recientes estudios clí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Japón han demostrado que, entre otras maravillas, el moradito de nu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íz, podría ser un gran aliado en la lucha contra la diabetes y la obe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a me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6216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00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6360" y="549360"/>
            <a:ext cx="4716360" cy="338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92720" y="549360"/>
            <a:ext cx="471636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65120" y="4603680"/>
            <a:ext cx="82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tocian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 es el nombre del pigmento que da color al maíz mo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año pasado un equipo de investigación de la Universidad Japon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hisha de Kioto vio la luz al comprobar que el extracto de maí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rado incrementa la actividad de un gen que regula la función en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élulas grasa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98720" y="638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7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3995640" cy="367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95640" y="549360"/>
            <a:ext cx="5148360" cy="367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1840" y="4430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560" y="4365720"/>
            <a:ext cx="8827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omplicado? Ahorita se lo explicamos más fácil. El director de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yecto, el profesor Takanori Tsuda, experimentó los beneficios del ma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rado con dos grupos de ratones. La prueba duró 12 semanas y consist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alimentar a los roedores con una dieta consistente en grasas. Es decir,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ratones les dieron de comer esos gustitos chatarreros que nos vue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cos y nos quitan la salud a muchos de nosotros, pero al mismo tiemp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grupo de ellos -solo uno- se le administró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tocian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4652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24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13440" y="476280"/>
            <a:ext cx="3995640" cy="345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36360" y="476280"/>
            <a:ext cx="5148000" cy="345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6880" y="4005360"/>
            <a:ext cx="8899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Adivine? Al cabo de las 12 semanas los ratones mostraron un incr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l 100 % en su peso, cambio de células grasas en el cuerpo y elev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insulina, pero los ratones que recibieron el moradito, no.  Ni subiero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so ni aumentaron su insul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¡Bingo! La obesidad y la diabetes son los grandes males de este nuevo sig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ropiedades del maíz morado, abren entonces nuevas esperanzas en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vención. ¿y cómo sabemos esto? Por la reciente publicación del estud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 revista Biochemical and Biofhysucal Research Commun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443080" y="651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66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65800" y="333360"/>
            <a:ext cx="4643280" cy="345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80" y="333360"/>
            <a:ext cx="4481640" cy="345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4680" y="4227480"/>
            <a:ext cx="9015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aunque estas son las últimas noticias, vale recordar, por si no lo sabía,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mbién se ha comprobado que tomando chichita morada o extracto de ma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rado estamos consumiendo uno de los antioxidantes mas potentes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undo (según la revista Nutraceuticals Word), un buen inhibidor del 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lo, un protector de la retina, estimulador de la circulación sanguínea y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demás impide el desarrollo del cáncer colonrrectal, nada menos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rminar como empeza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70360" y="6375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8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65800" y="333360"/>
            <a:ext cx="4643280" cy="345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80" y="333360"/>
            <a:ext cx="4481640" cy="345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96800" y="4071960"/>
            <a:ext cx="6375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bon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ún el Dr. Hugo Malaspina el maíz morado tambié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 Favorece la regeneración de tej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viene de enfermedades cardiovas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tarda procesos degenerativos en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ene acción antiarru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crementa el flujo sanguí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  Estimula la acción diuré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36600" y="63752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3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72360" cy="462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414800" y="627120"/>
            <a:ext cx="62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¡¡¡Y ES DEL PERÚ, SALUD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0200" y="64976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 para termi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2:58:17Z</dcterms:created>
  <dc:creator>Maria Antonieta</dc:creator>
  <dc:description/>
  <dc:language>en-US</dc:language>
  <cp:lastModifiedBy>Maria Antonieta</cp:lastModifiedBy>
  <dcterms:modified xsi:type="dcterms:W3CDTF">2006-10-21T14:14:49Z</dcterms:modified>
  <cp:revision>15</cp:revision>
  <dc:subject/>
  <dc:title>Diapositiva 1</dc:title>
</cp:coreProperties>
</file>