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2F0C1-CD59-48B2-92CB-671E86390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D67F1-68AF-4B10-922F-03D263F28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6728A-4734-4BC2-8E50-E6C3D66F9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FA553-B477-43BD-BCDF-70BBC9C63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9A8BF-9600-4B54-B4B2-BB462981C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B088C-97B6-45E3-9077-7AD43AF17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351D6-AAA5-45AB-AAE7-229CCF8E3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3C2C0-84BB-4C53-B251-D57AFF809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E324F-3B85-474F-9473-70319A2F3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AF84E-36F1-42BF-989E-4CE03A9CC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96B47-BB30-48B9-8787-0C441A018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57F9D-CF1E-4F53-BEBB-9416B4F0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D7866-675D-4E3D-8B62-4177EBE90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B7416-E7DE-48EE-9577-78C927572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06040-1784-482C-B48E-D06198A23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F030D-F9CC-4FA2-863B-1D978DC42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1AC01-FB33-4A8D-9D09-E5DB183D1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62F11-583A-4ECB-AE33-4649C5E80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FBEA6-DCB5-4555-AEF3-6B06957CF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3FD14-4888-4F22-82A5-21EDC9914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8DB73-346A-4441-BB92-2CD2BB145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F7A6-BF3E-4265-8937-9215AE243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3496F-5CC8-422E-B3BF-3274202B9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36A2-1EC6-40D5-9EA6-C93B0561D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86D0-E847-4093-ABB8-03CA94337E65}"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CF64-490D-4163-89AA-966C721F68D4}"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143000"/>
            <a:ext cx="7924680" cy="373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1b60f"/>
                </a:solidFill>
                <a:latin typeface="Arial"/>
              </a:rPr>
              <a:t>LA NASA Y LA BIBLIA</a:t>
            </a:r>
            <a:br>
              <a:rPr sz="8000"/>
            </a:br>
            <a:r>
              <a:rPr b="1" lang="es-ES_tradnl" sz="2000" spc="-1" strike="noStrike">
                <a:solidFill>
                  <a:srgbClr val="f1b60f"/>
                </a:solidFill>
                <a:latin typeface="Arial"/>
              </a:rPr>
              <a:t>(Extracto de un artículo publicado </a:t>
            </a:r>
            <a:br>
              <a:rPr sz="2000"/>
            </a:br>
            <a:r>
              <a:rPr b="1" lang="es-ES_tradnl" sz="2000" spc="-1" strike="noStrike">
                <a:solidFill>
                  <a:srgbClr val="f1b60f"/>
                </a:solidFill>
                <a:latin typeface="Arial"/>
              </a:rPr>
              <a:t>en la revista “La Biblia en las Américas” </a:t>
            </a:r>
            <a:br>
              <a:rPr sz="2000"/>
            </a:br>
            <a:r>
              <a:rPr b="1" lang="es-ES_tradnl" sz="2000" spc="-1" strike="noStrike">
                <a:solidFill>
                  <a:srgbClr val="f1b60f"/>
                </a:solidFill>
                <a:latin typeface="Arial"/>
              </a:rPr>
              <a:t>de las Sociedades Bíblicas Unidas, </a:t>
            </a:r>
            <a:br>
              <a:rPr sz="2000"/>
            </a:br>
            <a:r>
              <a:rPr b="1" lang="es-ES_tradnl" sz="2000" spc="-1" strike="noStrike">
                <a:solidFill>
                  <a:srgbClr val="f1b60f"/>
                </a:solidFill>
                <a:latin typeface="Arial"/>
              </a:rPr>
              <a:t>Miami, Florida, EE. UU.)</a:t>
            </a:r>
            <a:endParaRPr b="0" lang="en-US" sz="2000" spc="-1" strike="noStrike">
              <a:solidFill>
                <a:srgbClr val="f1b60f"/>
              </a:solidFill>
              <a:latin typeface="Arial"/>
            </a:endParaRPr>
          </a:p>
        </p:txBody>
      </p:sp>
    </p:spTree>
  </p:cSld>
  <p:transition>
    <p:random/>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55640" y="691920"/>
            <a:ext cx="7848720" cy="4817880"/>
          </a:xfrm>
          <a:prstGeom prst="rect">
            <a:avLst/>
          </a:prstGeom>
          <a:noFill/>
          <a:ln w="0">
            <a:noFill/>
          </a:ln>
        </p:spPr>
        <p:txBody>
          <a:bodyPr lIns="90000" rIns="90000" tIns="46800" bIns="46800" anchor="t">
            <a:normAutofit fontScale="99000"/>
          </a:bodyPr>
          <a:p>
            <a:pPr marL="339480" indent="0">
              <a:lnSpc>
                <a:spcPct val="8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os invito a compartir esta historia real con sus corresponsales del Correo Electrónico! </a:t>
            </a: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i no la comparten, les aseguro que no les va a pasar absolutamente nada... pero a lo mejor, a muchos les podría gustar leer este relato.</a:t>
            </a: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lgunos aún creemos en la Biblia más que en las novelas de Dan Brown, J. J. Benítez y otros...</a:t>
            </a:r>
            <a:endParaRPr b="0" lang="en-US" sz="2600" spc="-1" strike="noStrike">
              <a:solidFill>
                <a:srgbClr val="ffffff"/>
              </a:solidFill>
              <a:latin typeface="Arial"/>
            </a:endParaRPr>
          </a:p>
          <a:p>
            <a:pPr marL="339480" indent="0" algn="just">
              <a:lnSpc>
                <a:spcPct val="8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lgn="ct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1b60f"/>
                </a:solidFill>
                <a:latin typeface="Arial"/>
              </a:rPr>
              <a:t>¡YO SI CREO EN DIOS!</a:t>
            </a:r>
            <a:endParaRPr b="0" lang="en-US" sz="3600" spc="-1" strike="noStrike">
              <a:solidFill>
                <a:srgbClr val="ffffff"/>
              </a:solidFill>
              <a:latin typeface="Arial"/>
            </a:endParaRPr>
          </a:p>
        </p:txBody>
      </p:sp>
      <p:sp>
        <p:nvSpPr>
          <p:cNvPr id="101" name=""/>
          <p:cNvSpPr/>
          <p:nvPr/>
        </p:nvSpPr>
        <p:spPr>
          <a:xfrm>
            <a:off x="5257800" y="5943600"/>
            <a:ext cx="358128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304560"/>
            <a:ext cx="7543800" cy="160020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1b60f"/>
                </a:solidFill>
                <a:latin typeface="Arial"/>
              </a:rPr>
              <a:t>El programa espacial está encontrando </a:t>
            </a:r>
            <a:br>
              <a:rPr sz="3200"/>
            </a:br>
            <a:r>
              <a:rPr b="1" lang="es-ES_tradnl" sz="3200" spc="-1" strike="noStrike">
                <a:solidFill>
                  <a:srgbClr val="f1b60f"/>
                </a:solidFill>
                <a:latin typeface="Arial"/>
              </a:rPr>
              <a:t>respuestas a sus dudas en la Biblia.</a:t>
            </a:r>
            <a:endParaRPr b="0" lang="en-US" sz="3200" spc="-1" strike="noStrike">
              <a:solidFill>
                <a:srgbClr val="f1b60f"/>
              </a:solidFill>
              <a:latin typeface="Arial"/>
            </a:endParaRPr>
          </a:p>
        </p:txBody>
      </p:sp>
      <p:sp>
        <p:nvSpPr>
          <p:cNvPr id="90" name="PlaceHolder 2"/>
          <p:cNvSpPr>
            <a:spLocks noGrp="1"/>
          </p:cNvSpPr>
          <p:nvPr>
            <p:ph/>
          </p:nvPr>
        </p:nvSpPr>
        <p:spPr>
          <a:xfrm>
            <a:off x="914040" y="1915920"/>
            <a:ext cx="7543800" cy="4484520"/>
          </a:xfrm>
          <a:prstGeom prst="rect">
            <a:avLst/>
          </a:prstGeom>
          <a:noFill/>
          <a:ln w="0">
            <a:noFill/>
          </a:ln>
        </p:spPr>
        <p:txBody>
          <a:bodyPr lIns="90000" rIns="90000" tIns="46800" bIns="46800" anchor="t">
            <a:normAutofit/>
          </a:bodyPr>
          <a:p>
            <a:pPr marL="343080" indent="-343080" algn="just">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ientras que ciertas novelas y algunos canales de televisión por cable, por oscuras razones que van más allá del sensacionalismo, están gastando millones de dólares haciendo publicaciones y reportajes donde desacreditan de manera aparentemente científica y convincente a la Biblia, la NASA ha encontrado que “El Libro de Libros” no es tan solo un libro lleno de inspiradoras alegorías judías..</a:t>
            </a:r>
            <a:r>
              <a:rPr b="0" lang="es-ES" sz="2600" spc="-1" strike="noStrike">
                <a:solidFill>
                  <a:srgbClr val="ffffff"/>
                </a:solidFill>
                <a:latin typeface="Arial"/>
              </a:rPr>
              <a:t>.</a:t>
            </a:r>
            <a:endParaRPr b="0" lang="en-US" sz="2600" spc="-1" strike="noStrike">
              <a:solidFill>
                <a:srgbClr val="ffffff"/>
              </a:solidFill>
              <a:latin typeface="Arial"/>
            </a:endParaRPr>
          </a:p>
        </p:txBody>
      </p:sp>
    </p:spTree>
  </p:cSld>
  <p:transition>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04920"/>
            <a:ext cx="7848360" cy="1676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1b60f"/>
                </a:solidFill>
                <a:latin typeface="Arial"/>
              </a:rPr>
              <a:t>Es un relato del Sr.  Harold Hill, </a:t>
            </a:r>
            <a:br>
              <a:rPr sz="2800"/>
            </a:br>
            <a:r>
              <a:rPr b="1" lang="es-ES_tradnl" sz="2800" spc="-1" strike="noStrike">
                <a:solidFill>
                  <a:srgbClr val="f1b60f"/>
                </a:solidFill>
                <a:latin typeface="Arial"/>
              </a:rPr>
              <a:t>presidente de “Maquinaria Curtis” de Baltimore, Maryland, consultor de la NASA.</a:t>
            </a:r>
            <a:endParaRPr b="0" lang="en-US" sz="2800" spc="-1" strike="noStrike">
              <a:solidFill>
                <a:srgbClr val="f1b60f"/>
              </a:solidFill>
              <a:latin typeface="Arial"/>
            </a:endParaRPr>
          </a:p>
        </p:txBody>
      </p:sp>
      <p:sp>
        <p:nvSpPr>
          <p:cNvPr id="9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La NASA desarrolló un programa computarizado para saber la posición del sol, la luna y los planetas en el espacio en cualquier momento del futuro, para evitar que éstos cuerpos espaciales estén en la trayectoria de nuestras naves espaciales y satélites artificiales, y colisionen contra ello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14040" y="609480"/>
            <a:ext cx="7543800" cy="563904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Programaron la computadora para hacer el cálculo hacia delante y atrás en el tiempo, pero en un momento dado el programa se detuvo, dando una alerta de un grave error en el cómputo del tiempo.</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 revisar el programa, encontraron que la alarma se refería a la falta de un día en el espacio del tiempo que ya ha transcurrido en la tierra.</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staban perplejos, pues no tenían ninguna respuesta a ese problema.</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14040" y="609120"/>
            <a:ext cx="7543800" cy="5791320"/>
          </a:xfrm>
          <a:prstGeom prst="rect">
            <a:avLst/>
          </a:prstGeom>
          <a:noFill/>
          <a:ln w="0">
            <a:noFill/>
          </a:ln>
        </p:spPr>
        <p:txBody>
          <a:bodyPr lIns="90000" rIns="90000" tIns="46800" bIns="46800" anchor="t">
            <a:normAutofit/>
          </a:bodyPr>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Un miembro del equipo mencionó que cuando era niño, en la escuela Bíblica le enseñaron que una vez el sol se detuvo, porque Josué le pidió a DIOS poder continuar una difícil batalla y así pudo ganarla. Le dijeron: “Muéstranos”.</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Buscaron y hallaron Josué 10:12-13 “Y el sol se detuvo y la luna se paró...El sol se paró en medio del cielo, y no se apresuró a ponerse casi un día entero”</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lí estaba el día que faltaba!</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14040" y="533160"/>
            <a:ext cx="7543800" cy="57150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Verificaron el dato en la computadora, introduciendo los sucesos del libro bíblico de Josué. </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Coincidiendo con la afirmación de la Biblia de que no fue un día entero, el sistema calculó que la pausa del tiempo era de 23 horas con 20 minutos. ¿Y los otros 40 minutos?</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l mismo miembro del equipo recordó que en alguna parte de la Biblia decía que el sol había hecho su recorrido al revé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914400"/>
            <a:ext cx="7543800" cy="50292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Los científicos pensaron que eso ya era una locura, pero fueron al Segundo Libro de Reyes, Capítulo 20, donde se relata lo siguiente: que el Rey Ezequías, fue visitado en su lecho de muerte por el profeta Isaías, quien le dijo que no se angustiara, porque aún no iba a morir.  Ezequías le pidió una señal de prueba.  Isaías le dijo: “¿Quieres que la sombra del reloj de Acaz avance diez grados o que retroceda diez grado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14040" y="456840"/>
            <a:ext cx="7543800" cy="5791320"/>
          </a:xfrm>
          <a:prstGeom prst="rect">
            <a:avLst/>
          </a:prstGeom>
          <a:noFill/>
          <a:ln w="0">
            <a:noFill/>
          </a:ln>
        </p:spPr>
        <p:txBody>
          <a:bodyPr lIns="90000" rIns="90000" tIns="46800" bIns="46800" anchor="t">
            <a:normAutofit/>
          </a:bodyPr>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zequías contestó “Fácil es que la sombra decline diez grados, pero no que la sombra retroceda diez grados”.  Entonces el profeta Isaías clamó al SEÑOR y DIOS hizo retroceder la sombra los diez grados que había recorrido en el reloj de Acaz...</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Diez grados del reloj de Acaz son exactamente los 40 minutos que faltaban en el cálculo de la computadora, y completan el día perdido del Universo!</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304560"/>
            <a:ext cx="754380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1b60f"/>
                </a:solidFill>
                <a:latin typeface="Arial"/>
              </a:rPr>
              <a:t>Conclusión</a:t>
            </a:r>
            <a:endParaRPr b="0" lang="en-US" sz="4200" spc="-1" strike="noStrike">
              <a:solidFill>
                <a:srgbClr val="f1b60f"/>
              </a:solidFill>
              <a:latin typeface="Arial"/>
            </a:endParaRPr>
          </a:p>
        </p:txBody>
      </p:sp>
      <p:sp>
        <p:nvSpPr>
          <p:cNvPr id="99" name="PlaceHolder 2"/>
          <p:cNvSpPr>
            <a:spLocks noGrp="1"/>
          </p:cNvSpPr>
          <p:nvPr>
            <p:ph/>
          </p:nvPr>
        </p:nvSpPr>
        <p:spPr>
          <a:xfrm>
            <a:off x="609120" y="1125000"/>
            <a:ext cx="8077320" cy="5123160"/>
          </a:xfrm>
          <a:prstGeom prst="rect">
            <a:avLst/>
          </a:prstGeom>
          <a:noFill/>
          <a:ln w="0">
            <a:noFill/>
          </a:ln>
        </p:spPr>
        <p:txBody>
          <a:bodyPr lIns="90000" rIns="90000" tIns="46800" bIns="46800" anchor="t">
            <a:normAutofit/>
          </a:bodyPr>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a religión es algo privado de cada quien, pero si cree usted que DIOS no es un ser mitológico, y usted es Cristiano católico o protestante, eso implica que: Nuestro DIOS está vivo, que visitó éste mundo como JESUCRISTO Nuestro Salvador, que hoy manifiesta su presencia en Su ESPÍRITU SANTO, y que está aún haciendo maravillas en el Universo</a:t>
            </a:r>
            <a:r>
              <a:rPr b="0" lang="es-ES" sz="2600" spc="-1" strike="noStrike">
                <a:solidFill>
                  <a:srgbClr val="ffffff"/>
                </a:solidFill>
                <a:latin typeface="Arial"/>
              </a:rPr>
              <a:t>.</a:t>
            </a:r>
            <a:endParaRPr b="0" lang="en-US" sz="2600" spc="-1" strike="noStrike">
              <a:solidFill>
                <a:srgbClr val="ffffff"/>
              </a:solidFill>
              <a:latin typeface="Arial"/>
            </a:endParaRPr>
          </a:p>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Unos aficionados que creyeron en el SEÑOR, construyeron un Arca y la llenaron de miles de animales, y no se hundió...</a:t>
            </a:r>
            <a:endParaRPr b="0" lang="en-US" sz="2600" spc="-1" strike="noStrike">
              <a:solidFill>
                <a:srgbClr val="ffffff"/>
              </a:solidFill>
              <a:latin typeface="Arial"/>
            </a:endParaRPr>
          </a:p>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n cambio, unos profesionales que creyeron únicamente en la ciencia, hicieron el Titanic... lo demás es historia. </a:t>
            </a:r>
            <a:endParaRPr b="0" lang="en-US" sz="2600" spc="-1" strike="noStrike">
              <a:solidFill>
                <a:srgbClr val="ffffff"/>
              </a:solidFill>
              <a:latin typeface="Arial"/>
            </a:endParaRPr>
          </a:p>
        </p:txBody>
      </p:sp>
    </p:spTree>
  </p:cSld>
  <p:transition>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dy</cp:lastModifiedBy>
  <dcterms:modified xsi:type="dcterms:W3CDTF">2007-06-04T20:54:26Z</dcterms:modified>
  <cp:revision>17</cp:revision>
  <dc:subject/>
  <dc:title>Presentación de PowerPoint</dc:title>
</cp:coreProperties>
</file>