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3.jpeg" ContentType="image/jpeg"/>
  <Override PartName="/ppt/media/image23.png" ContentType="image/png"/>
  <Override PartName="/ppt/media/image1.wmf" ContentType="image/x-wmf"/>
  <Override PartName="/ppt/media/Remix%20Ave%20Maria.wav" ContentType="audio/x-wav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Custom Show 1" id="0">
      <p:sldLst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9F2-30A9-4364-AC3D-01291909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B8A-B038-443A-AF02-02FA4C6D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817-51B4-4805-8089-4C6BC1E5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134-4C9B-4CE2-B141-1630EE82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97C-EEF0-4286-BDF2-841A5C70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918-99F0-4AE8-95D5-B13FAE04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11E-E5A2-4AA2-8A0A-B0398A39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FEB-E8CF-40A1-84AB-2C41CFD6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BDF-2F22-420F-BBEC-E8EAA96D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A11-5A40-496B-8D82-E611B148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F38-D3A9-4E6C-81EE-7F1170E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19C-9970-4FCE-977D-C1DADAFD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7470-6FD9-4517-8053-C881EFDF3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Remix%20Ave%20Maria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5943600"/>
            <a:ext cx="5029200" cy="738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533520"/>
            <a:ext cx="739152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Tempus Sans ITC"/>
              </a:rPr>
              <a:t>BENDICIONES DE LA VIRGE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Tempus Sans ITC"/>
              </a:rPr>
              <a:t>PARA LOS DIFERENTES PAÍ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Tempus Sans ITC"/>
              </a:rPr>
              <a:t>HERMANOS CREYEN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426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00400" y="762120"/>
            <a:ext cx="54864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l Quinch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quien se encomiendan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Ecuatorianos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62720" y="2590920"/>
            <a:ext cx="3581280" cy="4267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4572000"/>
            <a:ext cx="5715000" cy="21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la Evangeliz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haces cercano el Evangel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los hijos del </a:t>
            </a:r>
            <a:r>
              <a:rPr b="1" lang="es-ES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Peru</a:t>
            </a:r>
            <a:r>
              <a:rPr b="1" i="1" lang="es-ES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20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95480" y="533520"/>
            <a:ext cx="54104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Virgen de Copacaba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con traje de ñusta aux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tus devotos de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Bolivia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0572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4648320"/>
            <a:ext cx="495288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Virgen del Car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acoges a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Chile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te rezan en Maip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04776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05320" y="685800"/>
            <a:ext cx="48006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Virgencita de Luján</a:t>
            </a:r>
            <a:r>
              <a:rPr b="1" lang="es-ES" sz="2400" spc="-1" strike="noStrike">
                <a:solidFill>
                  <a:srgbClr val="3399ff"/>
                </a:solidFill>
                <a:latin typeface="Monotype Corsiva"/>
                <a:ea typeface="Times New Roman"/>
              </a:rPr>
              <a:t>,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Madre amor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quisiste que tus colores vistie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la bandera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Argentina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20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43000" y="5049720"/>
            <a:ext cx="525780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Virgen de los 3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educas a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Uruguayo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en el amor a Jesús.</a:t>
            </a: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81280" y="685800"/>
            <a:ext cx="3353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Santa María de Caacupé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en Asunción reci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tus hijos del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Paraguay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6520" y="4343400"/>
            <a:ext cx="4267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Santa Señora de Coromoto, 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evangelizadora de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Venezolanos.</a:t>
            </a: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504960" cy="3504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38280" y="0"/>
            <a:ext cx="426744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Madre Amorosa que traes la Reconciliación</a:t>
            </a:r>
            <a:br>
              <a:rPr sz="2800"/>
            </a:b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todos los pueblos y razas de América Latina y del mundo</a:t>
            </a:r>
            <a:r>
              <a:rPr b="1" lang="es-ES" sz="4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5181480"/>
            <a:ext cx="3962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RUEGA POR NOSOTR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1447920"/>
            <a:ext cx="716292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Arial"/>
              </a:rPr>
              <a:t>ESTA PRESENTACION SE LA DED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Arial"/>
              </a:rPr>
              <a:t>A LOS CREYENT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Arial"/>
              </a:rPr>
              <a:t>O NO CREY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Arial"/>
              </a:rPr>
              <a:t>DE LA VIR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6858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THE 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333360"/>
            <a:ext cx="201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1520" y="514440"/>
            <a:ext cx="8543880" cy="6114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4267080"/>
            <a:ext cx="6553440" cy="1631160"/>
          </a:xfrm>
          <a:prstGeom prst="rect">
            <a:avLst/>
          </a:prstGeom>
          <a:blipFill rotWithShape="0">
            <a:blip r:embed="rId2">
              <a:alphaModFix amt="3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OY DIA 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35D711-6322-46AD-A6E9-03E4C7288F98}" type="datetime2">
              <a:rPr b="1" lang="es-ES" sz="2000" spc="-1" strike="noStrike">
                <a:solidFill>
                  <a:srgbClr val="000000"/>
                </a:solidFill>
                <a:latin typeface="Arial"/>
              </a:rPr>
              <a:t>viernes, 31 de julio de 2026</a:t>
            </a:fld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fld id="{ABCBCDD5-F209-4C1F-8C6F-9AEFA946B81F}" type="datetime10">
              <a:rPr b="1" lang="es-ES" sz="2000" spc="-1" strike="noStrike">
                <a:solidFill>
                  <a:srgbClr val="000000"/>
                </a:solidFill>
                <a:latin typeface="Arial"/>
              </a:rPr>
              <a:t>16:49</a:t>
            </a:fld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tiempo ira avanzando en esta presentacion como un relo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6172200"/>
            <a:ext cx="5867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MUSICAL: “Ave Maria” RE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6095880"/>
            <a:ext cx="1828800" cy="264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Cortesia: J.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Remix%20Ave%20Mari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6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609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1989000" cy="329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3000" y="3886200"/>
            <a:ext cx="756144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6600"/>
                </a:solidFill>
                <a:latin typeface="Monotype Corsiva"/>
                <a:ea typeface="Times New Roman"/>
              </a:rPr>
              <a:t>Nuestra Señora de la Caridad del Cobre, que velas por los hijos de </a:t>
            </a:r>
            <a:r>
              <a:rPr b="1" lang="es-ES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Cuba.</a:t>
            </a:r>
            <a:r>
              <a:rPr b="1" lang="es-ES" sz="4400" spc="-1" strike="noStrike">
                <a:solidFill>
                  <a:srgbClr val="ff6600"/>
                </a:solidFill>
                <a:latin typeface="Monotype Corsiva"/>
                <a:ea typeface="Times New Roman"/>
              </a:rPr>
              <a:t> </a:t>
            </a:r>
            <a:br>
              <a:rPr sz="4400"/>
            </a:br>
            <a:r>
              <a:rPr b="1" i="1" lang="es-ES" sz="2000" spc="-1" strike="noStrike">
                <a:solidFill>
                  <a:srgbClr val="ff6600"/>
                </a:solidFill>
                <a:latin typeface="Monotype Corsiva"/>
                <a:ea typeface="Times New Roman"/>
              </a:rPr>
              <a:t>Ruega por nos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2593800"/>
            <a:ext cx="2822760" cy="426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3360" y="4114800"/>
            <a:ext cx="62766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la Providenc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acompañ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los </a:t>
            </a:r>
            <a:r>
              <a:rPr b="1" lang="es-ES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Puertorriqueños</a:t>
            </a: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con bondad.</a:t>
            </a:r>
            <a:br>
              <a:rPr sz="2800"/>
            </a:br>
            <a:r>
              <a:rPr b="1" i="1" lang="es-ES" sz="20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28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2895480" cy="396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33920" y="304920"/>
            <a:ext cx="4647960" cy="20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Guadalup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maternal bend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desde tierra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Mexicana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para toda América Latina.</a:t>
            </a:r>
            <a:r>
              <a:rPr b="1" lang="es-ES" sz="20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352680" cy="426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00400" y="304920"/>
            <a:ext cx="5715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Señora de la Alta Gracia, que intercedes 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por los ruegos de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Dominicanos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4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588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4419720"/>
            <a:ext cx="5639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l Perpetuo Socorro,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iluminas el horizonte de tus hijos en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Haití.</a:t>
            </a: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4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251080" cy="3292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00400" y="533520"/>
            <a:ext cx="4724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Santa María del Rosario, a quien rezan con piedad filial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Guatemaltecos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4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19920" y="274320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95280" y="3581280"/>
            <a:ext cx="4800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la Paz, impulso y esperanza del Pueblo Fiel de 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El Salvador.</a:t>
            </a: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0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994120" cy="4925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00400" y="0"/>
            <a:ext cx="5943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Suyapa, fortaleza de los humildes de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Honduras.</a:t>
            </a: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4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11960" y="2286000"/>
            <a:ext cx="340344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029200"/>
            <a:ext cx="5715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la Concepción del Viejo, 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acoges en Chinandega a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Nicaragüenses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0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19520" cy="3760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00400" y="30492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los Ángeles, 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desde Cartago 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guías a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Costarricense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que te invocan.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410080" y="2971800"/>
            <a:ext cx="3227400" cy="3886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5280" y="4952880"/>
            <a:ext cx="54234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Inmaculada Concep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extiendes tu manto prot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sobre los hijos de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Panamá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2895480" cy="3730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14600" y="685800"/>
            <a:ext cx="62485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Aparec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quisiste ser rescatada de las agu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en el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Brasil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3353040" cy="4343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4724280"/>
            <a:ext cx="594360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Chiquinquirá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en tierras de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Colombia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perm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tu imagen luzca vistosa ante tus hijos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5:36:15Z</dcterms:created>
  <dc:creator>J.C.</dc:creator>
  <dc:description/>
  <dc:language>en-US</dc:language>
  <cp:lastModifiedBy>Cecilia Klatich</cp:lastModifiedBy>
  <dcterms:modified xsi:type="dcterms:W3CDTF">2007-07-02T17:33:40Z</dcterms:modified>
  <cp:revision>5</cp:revision>
  <dc:subject/>
  <dc:title>Slide 1</dc:title>
</cp:coreProperties>
</file>