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eru%20-%20mpg%20l3%20-%2018%20-%2011025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33A-E49B-44C5-9B08-3B5231DF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0C5-5D15-47CA-9E3D-702097C5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14B9B-BE0E-4D01-AC5F-96F4B768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27F09-B3FF-455A-9478-3901BD7B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19942-CB63-4C07-9505-2DDFEFED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C89B8-7991-4350-A752-C65732E1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1DE10-7676-4506-A05B-4E608169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FB88A-F6C6-4025-A364-065B8D3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D0F90-1CC2-4570-988F-4C49E67C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E7D44-C676-466D-B427-BCCEA313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100AD-31A2-4335-8C76-21D72BFD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9CC43-B0CF-4EF1-ACFA-55647837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7A0-23D0-4B92-8C82-85882A4D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2DF07-C307-4867-B467-65ABA9F9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9BD4A-ACF3-485C-85BE-6104F036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6076D-9FBE-4DEB-A281-00DE75AF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6C282-3F99-4300-AE58-5693EC9A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40C5A-2ADD-4A47-9B4B-43BD892D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AB939-C13D-4000-BBEF-EB62C9CD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3C87E-78DE-414B-80A8-214C5FE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68455-8A3B-4A09-8DF1-0F61EC1D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A6049-7AE4-4668-9AF7-B55CC2C0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0CE4C-A764-4CAD-9A5E-6E5CB60B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A81-05B8-43B4-9435-9D73F3C8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F023C-799E-41C3-9F41-D5859AE0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19CF-02A6-4A50-8B1C-D0DAA15F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0D6EA-05A8-49CB-93E5-422330AA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66D59-B83B-48D7-BDFD-FEFE7B81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4249B-2F78-456C-ACFC-64A3C2F0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4E32E-8854-490D-8FE4-5E4854E9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16CE0-FE3B-4E32-82BD-2CD8AACC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4F2DF-2D3C-498C-A313-F3CAD586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ECD39-5C58-4F1A-B6AE-4AF48A5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C09EA-5FB9-4F9B-9E16-368A81A5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A468-84B0-419D-A03A-7F695BF9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80603-7E14-49CD-AB4B-50370CD0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75391-3013-4538-9F08-D10F10C7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51400-2821-4EE3-A756-5C35F292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24E9F-4B17-44EC-8FE2-033D11AD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17A43-6CED-45C6-9431-05DC854E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4912F-A123-4D8A-8FB9-C329BB11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984EC-2FDC-4A8C-AA08-96FAE4C9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F3B7E-5C7D-4C0A-8634-A121F6F7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8AC7E-FC77-4A7C-99F0-9CAE031E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30A81-9D52-45DA-B483-2A17866D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09EA-3097-4586-A841-DE6098FF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90E3D-233D-4FA8-9652-E27A166E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43EA1-C045-4F68-AE99-34922FA8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E16D9-309F-46B1-8A7E-B1388CFC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505FE-7961-40B9-A07C-86996E67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CB94B-CCAA-48A0-BC26-5676EDC5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16D0-B33F-4EBA-BC2C-666A4B73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6B7F-F124-43AB-B695-89D6178D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41CE-AA57-420E-8044-0AB69135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96C1-B40E-4CB1-896D-E5AD754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DF83-CC59-473A-8851-CE1BF2E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9BB-0DB9-480A-BF2F-0F7B0912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8015-C638-48D0-BE47-9ADB8E00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8353-E12D-4E57-98DB-CD35D98B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1A57-B630-4D24-90CB-4ED7FDF1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B677-4E57-440B-BFC7-B34C03CB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192C-17F1-4923-9D93-9EA4C537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BC90-CA2A-43E1-A195-4738B84D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D4B2-2E16-4065-8DF1-6A58023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A4D49-E11C-49C8-9481-584BAB76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0502-A243-4801-AAB7-B3547987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FCC4-1573-45DF-9FEF-C31E4074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494-8274-4815-BD99-9251E429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088A-6680-4978-8432-62AD94D3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DD8D-C871-4888-BC15-AB36608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F8B1-82BD-49E9-BE3A-96316561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2869-DF28-486B-8D2A-ED66849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C9AB-114C-4C29-9E96-A6CCF708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2B27-914E-495C-8B4D-8CDC1D44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B6A8-FF43-4284-A81A-24E6988F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624E7-F53D-4993-9F41-AC39EC30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2CF8-2C8D-49D9-B3A7-A03E1421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0DDA-378D-4CE0-BA14-191754D2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6CE-26F1-4DB5-9C51-D32556C0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509B-B7AF-47EA-BBCD-E875A183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6DDE-7884-4A92-94B9-EDCE61F1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E379-FB89-4D75-903E-4832FB20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0B436-9D9D-462E-ACF7-BF19481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759B-9821-4FC2-93AD-A777DC81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3AE7-0CD5-4A16-9A0A-68015B91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EBDF-6F04-4D92-BB1C-2FF1465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5FCE0-6F37-4FF7-A6AC-75B0F26D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9138-8AEE-4501-A28E-DB87730D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3A1C6-7B70-40F7-85BF-D9B14B93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3E9-D4B5-4AAA-ACC1-6F46AA09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8540A-6540-495D-A221-2B454417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C43A-C6EF-44B2-88DD-87C9A783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FF26-805A-4300-846D-D7FAFAF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3559-2F13-4D5E-8D2C-0ED8924A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36E03-1838-48A6-84AC-FD930BA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17FE5-5F5F-41E1-B319-0E0ED20B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9BB9-0BD1-467A-96BB-56CEC782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F0CE-B7CD-435E-83F9-2C32E343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ABCBA-DF8B-40C7-BC60-B8887391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A736D-3F2C-497B-BE7F-68180DDB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7DF-3C8D-4C2C-98B3-FC28040D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74DBF-A62E-4186-A0D3-1943A579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82A0F-1431-4764-8738-99CB3FA8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AE70-85BA-48AA-81FD-23EC825E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0E35E-81D0-4FC3-986E-99F7FA2A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ACE1-9BF5-4727-A56B-7184956F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4B8A-7D52-449D-A18C-0ADE7F13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416C5-E52D-4AAE-95CB-19011CFC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4D39-6EBF-4D9C-B451-6D943EE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A258E-7AF8-4534-BE9F-5C9C52AA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6E598-F354-4912-A9CF-4E2F87BB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499-544F-48B4-8F52-F535A7D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DD75F-2005-470A-BFA4-6AD04F57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F926-E741-4720-9C6E-A7F241E1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37B7C-4CD9-4B98-917E-A698A9EB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1693B-57C6-4DD0-A75E-C0F22FFF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381F3-1BC8-4D0D-AA70-0012B26E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672E-F69E-43A9-8D95-0BE123E9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4F8CC-0C9F-44B9-B5E0-F2FC7C8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E2BDF-1F00-481E-9292-5A9751AF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232B0-9EBC-4A7F-8842-B3A9673E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9466D-3F11-4503-98FF-934CDDA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4EF-4E65-47C8-BBD0-AF336A9F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5F260-A1D0-4D9D-B0D5-45B04EC0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4DF66-CE1D-4B09-8ED5-42838E7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857D7-F1DB-4849-B1ED-00AF58E7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1CF44-0A34-4983-A779-6CD0B8B7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D6B7A-E2A6-4A70-91A6-17393DC1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DCC1-4FED-4A1D-A952-7C9D09E6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FFDD-4D8E-4B12-B15A-54639FCA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700A8-7FC1-44AC-9FED-E85BBC61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6176B-FBCD-474C-99A1-31A0F45A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27CD6-624C-4225-AE63-F9FFB334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24F-637F-476B-B4E5-7CFD6B2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3CE2-EA5A-41E0-AA1C-11582B49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18981-F5E1-40C5-8222-CEF6149E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2B425-0F6D-4055-80E6-190E8DD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5C33C-FD3B-4056-9B32-F990961A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6B4B-D08E-46B0-BB29-E02950B9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4C5F-F6D9-47B3-B2A2-6F14AFED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9715B-F85E-410A-AF70-D565E458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FEA94-51EE-432B-AC14-A62FC560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69B35-417A-4BA9-A5A3-948841ED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0B1D9-09C8-4838-AFAE-09214AC6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B4F4-14F1-405B-82D0-E0FB8F7E5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90B1-090C-4AC3-B76A-BA52595C6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D0C4-C578-453A-B2BC-6475EFF49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E521-F607-4117-BDD4-32A9A9A36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35FA-8AAA-49CF-B817-2BA2FB473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B083-4530-4AB4-8BD6-12A18EB1B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A41E-30C7-45A7-9D07-6E26F2D31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1A72-2F60-4E4F-BAFF-F5D34B9CE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F7D9-0FE0-4E1C-B1CC-72DE182A5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CF27-08B7-47A3-895D-B56A0A6FA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F8C-BC02-4ED2-8123-32D971D02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AE87-6C82-4E56-8FDA-CC914E82E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eru%20-%20mpg%20l3%20-%2018%20-%2011025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0" descr=""/>
          <p:cNvPicPr/>
          <p:nvPr/>
        </p:nvPicPr>
        <p:blipFill>
          <a:blip r:embed="rId1"/>
          <a:stretch/>
        </p:blipFill>
        <p:spPr>
          <a:xfrm>
            <a:off x="3492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3637080" cy="2427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487680" cy="56260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00000" y="476280"/>
            <a:ext cx="280836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292720" y="333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rgente!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623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ACUNDO CABRAL -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03640" y="6381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AZ CLIC A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eru%20-%20mpg%20l3%20-%2018%20-%2011025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6205680" cy="64533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104200">
            <a:off x="8106840" y="63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0" y="6597000"/>
            <a:ext cx="835344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2000" y="0"/>
            <a:ext cx="331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... que fue un gran empresario, un gran artista, un gran profesional, que llenó su agenda de urgencias, citas, proyectos, pero dentro de todo, lo más importante, se te olvidó VIV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88000" y="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az c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Rectangle 3" descr=""/>
          <p:cNvPicPr/>
          <p:nvPr/>
        </p:nvPicPr>
        <p:blipFill>
          <a:blip r:embed="rId1"/>
          <a:stretch/>
        </p:blipFill>
        <p:spPr>
          <a:xfrm>
            <a:off x="1258920" y="1511280"/>
            <a:ext cx="7128000" cy="5346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24000" y="404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ritalilichio@yahoo.com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Rectangle 3" descr=""/>
          <p:cNvPicPr/>
          <p:nvPr/>
        </p:nvPicPr>
        <p:blipFill>
          <a:blip r:embed="rId2"/>
          <a:stretch/>
        </p:blipFill>
        <p:spPr>
          <a:xfrm>
            <a:off x="8028000" y="6256440"/>
            <a:ext cx="887400" cy="60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8366040" cy="62755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80520" y="1197000"/>
            <a:ext cx="38307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Para ti, que siempre vives la vida a un ritmo vertiginoso, quiero recordarte que lo más importante que tienes en la vida, eres tú y todos los que te rodean, y recuerda qu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5 CuadroTexto"/>
          <p:cNvSpPr/>
          <p:nvPr/>
        </p:nvSpPr>
        <p:spPr>
          <a:xfrm>
            <a:off x="142920" y="428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26028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AZ CLIC CUANDO FINALICE LA LE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042920" y="150984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una palabra con la que vivimos día a día, en nuestra agitada vida, y a la cual, le hemos perdido ya todo significado de premura y prior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3581280" y="1752480"/>
            <a:ext cx="2514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6 CuadroTexto"/>
          <p:cNvSpPr/>
          <p:nvPr/>
        </p:nvSpPr>
        <p:spPr>
          <a:xfrm>
            <a:off x="8643960" y="1285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0" y="4797000"/>
            <a:ext cx="914400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la manera más pobre de vivir en este mundo, porque sabes, el día que nos vamos, dejamos pendiente las cosas, que verdaderamente fueron ur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6 CuadroTexto"/>
          <p:cNvSpPr/>
          <p:nvPr/>
        </p:nvSpPr>
        <p:spPr>
          <a:xfrm>
            <a:off x="714240" y="8571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4d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409080" cy="4618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0" y="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COMPAÑA LA LE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hagas un alto en tu ajetreada vida, y te pregun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Qué significado tiene todo esto que yo ha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seas más amigo, más humano, más her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6 CuadroTexto"/>
          <p:cNvSpPr/>
          <p:nvPr/>
        </p:nvSpPr>
        <p:spPr>
          <a:xfrm>
            <a:off x="-500040" y="500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125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53440" cy="5564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0" y="4292280"/>
            <a:ext cx="91440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sepas valorar el tiempo que te pide un niño, una ni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cada mañana, cuando veas salir el sol, te impregnes de su calor, y le des gracias al Señor, por tan maravilloso rega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6 CuadroTexto"/>
          <p:cNvSpPr/>
          <p:nvPr/>
        </p:nvSpPr>
        <p:spPr>
          <a:xfrm>
            <a:off x="-1500120" y="285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7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788000" y="404640"/>
            <a:ext cx="435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mires a tu familia, a tus hijos, a tu esposa, y a todos los que te rodean, y valores ese tan maravilloso teso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le digas a las personas que quieres, hoy, no mañana, cuánto los quieres!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559040" cy="6350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7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4752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te sepas hijo de Dios, y te des cuenta que él, te ama, y quiere verte sonreír feliz y lleno de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50160" cy="5805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no se te vaya la vida en un soplo y que cuando mires atrás, seas ya un anciano que no puede echar tiempo atrás, que todo lo hizo urgent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22:37:00Z</dcterms:created>
  <dc:creator>Nicolás Valderrama</dc:creator>
  <dc:description/>
  <dc:language>en-US</dc:language>
  <cp:lastModifiedBy>!!</cp:lastModifiedBy>
  <dcterms:modified xsi:type="dcterms:W3CDTF">2009-06-18T03:51:14Z</dcterms:modified>
  <cp:revision>40</cp:revision>
  <dc:subject/>
  <dc:title>URGENTE</dc:title>
</cp:coreProperties>
</file>