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gif" ContentType="image/gif"/>
  <Override PartName="/ppt/media/image13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eru%20-%20mpg%20l3%20-%2018%20-%2011025.wav" ContentType="audio/x-wav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3F77-D802-4311-982A-49D19DDE9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7DD3-9427-43B2-BFA2-A8B9A530F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9FF57B-DC61-48ED-9C99-4E630677F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27C435-9869-426A-A1A2-598840095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F58CE4-DCAF-4855-81D5-F2D302D37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01E0C8-D35B-4340-B29D-BA1C7006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9D2DF0-658C-433A-ACE3-2D6BE5E0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4BE13E-D5C9-4C41-879C-BDEA5F3E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6B2736-D682-4C11-8AFD-9AC430C44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F3E14F-480F-4063-8E8F-265689038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E51704-C45F-4E10-9831-0507E196E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2BF704-4CA6-476D-981D-6E29BA81C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5ED0-C262-4E98-B28B-5E852571E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121924-8FF6-4083-964F-848678293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E61591-042B-4698-B093-E56F28198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EFEBA1-613E-4B19-9330-4FA136FE5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E41E74-5DCA-4C53-887E-978F8802E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D0BE9D-B99D-43B2-841F-995DCA207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9E1B8C-3861-4C26-B8F3-0A5F2309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D9D1CF-0812-4FF5-A4EE-3C50697C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A71E1B-8F26-4456-B2C0-DA7673BB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0928E3-0879-4ECA-ABEA-A78AD7904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18F61F-AA1E-479F-A70D-280BF0E24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6D07-19CB-4115-8852-DAC2D3409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564148-1D0C-4808-8909-E501FCE55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A6A9B7-A92B-4B88-A118-711CF4258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102BD5-5A33-4CCC-83F5-3ECD08F8E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85228B-6DC2-4E2B-84A9-99C7BD903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639FC6-B70B-4F03-95D0-5D2F855F5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ABFBA9-A28F-40ED-AB39-0F17E1A7E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2FC8A4-8195-4D58-B4A0-B6CD3113C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7BAA59-7CD2-419D-9856-E46491A0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74B832-201E-4A17-ABC9-1A30C7D6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C743C9-9544-4916-A65B-D4D3CEFC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7DF83-7EC8-465D-A415-37B10F731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1BE91F-1F1A-4046-9C94-73F252F03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81EA81-7A42-4261-B39F-AFE02EC39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ACD0FE-EF06-430F-BFC3-E4F33703B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26AD62-1204-44FA-B927-D98292D77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306856-9141-4E59-AAD2-92D2CC1EA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F0BF35-03F9-4927-940F-91E965755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5A6262-9AD7-4F1C-9CC8-69E428837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2BDB98-758D-40CC-89CF-2F2DB71E5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E29D63-8A78-451F-8034-1B1206013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E24671-5FDB-45F5-AD16-4D45B68C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CAAAC-AFF8-4178-B93A-46CF09D2E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DE8745-B2A7-44A3-9886-C742383F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0C075E-7FA5-4E65-B295-AAF137E6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37449A-2CEC-4C0C-95EE-427CE8050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E8D19A-4A94-4575-A1F2-FD92FD12D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1F2F12-FF40-46CD-939F-465A9C4CA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F4BDB-2ADE-4898-9E2C-41CBC6C99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A99F9-7499-43FC-ADBE-D5885A598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0C549-6881-4DA4-89E2-C489582D9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6F771-91B9-492D-9240-82FB4B2A5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3CBE7-B3DE-4ABF-9B46-37027120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943D-4339-4D5B-8F95-2FC3442AB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427D6-2E35-4328-9136-221BCF3D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2530C-EE87-4920-9844-1A5E3EBD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3FA56-F012-4D75-AE6B-63E8CB12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CBD46-B69B-4EB6-A83D-9BD0096F7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295F3-B7E4-49C2-98EB-D12D1E70A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63E19-BF78-4E6E-B256-4B3B0E8D2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EA65A-2F81-4EAB-A36A-FB2CCC21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1F5EF-6BF5-44EB-8183-843B7A20F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7ADA0-9A56-41D8-979A-6A9F186EC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8619D-25D0-4890-8A08-CF08B926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3274-928B-473D-A4BE-3D94ECFB4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9819C-ABE1-4463-B92E-728B1EDF1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CC820-6D95-46DF-B2E8-D8601405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F9CF6-1B47-42DC-9C51-67724917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B89A5-2997-4F6B-AF76-3BA66F21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5C18B-4779-4146-9E7F-E7AA6E826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BD83C-5A76-4559-A0B1-30E4BEC82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AFD0F-9170-45F7-AED8-DCF83901B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398B6-8C35-43EE-B5C4-B294061DA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CEE59-6FA5-4C90-8F81-4F26DD5E5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2D008-6C65-45C1-AB10-A93622BD8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53DB-F1AC-4CE5-A3EC-A094C245D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75052-AB3D-464C-8FE6-B8E2DC468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69DA8-04A8-4FE1-9D5D-D7904928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31793-D5FF-46BC-86A5-FC873E0F6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21BD3-F5CD-497A-8396-C10B0455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04455-99A0-400A-9A12-8CD9672B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435E8-E61F-46A8-AD82-17445FA6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32320-BDE5-42E1-9AB0-6A98E6187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CE67F-07CB-4235-9FA7-A4AF89958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28ACD-6002-4D39-9E93-14DB57219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B8C67-CE07-47B2-AC52-59B970908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AC12-4240-4FB8-9F5D-B1C7EB254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2EBA3-46E0-452A-B338-980447121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4AFC9-6F0C-490D-BB96-ABE917B5D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17904-6264-4DD0-A352-F1674DA40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F4185-B38C-4109-8476-B32B5EB83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F6951-C541-4B50-AE78-3507C900C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DA184-7048-4C54-8C35-AAC2C862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E6612-CA2C-4729-804A-E2EFF4DE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0A513-E595-43A9-A8D4-5ED7ADE5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ABDFE-3745-49E9-B080-D909B195A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ED837-47B0-4B5F-AC17-9E36FC848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B644-2448-40E1-85F4-2B379FA6C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B0F09-91CA-468A-B619-52C05D674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D70B60-F5A9-4EBF-BB94-6777C1673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7A679-088A-43A5-B6A2-D217D838C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FBFC3-0ACA-4915-ADE3-2BBBC4059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74B32-76CF-4A55-9CD5-C95B5E2D8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DA3D79-2A93-45FF-B6F5-E3F55021F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60FAC-07A0-40B8-B5BE-5B925A541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82EDD-65B1-4D8D-B51A-EA3D39CB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97E6D-B91C-42A7-A116-75D1470A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38CDB-D039-4532-8BD8-D33C0938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0036-F3DD-473C-B4BD-62D5278A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92A08-4E98-430B-B32E-845E7570A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3556B-66F3-4D86-9915-2B31A950E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79FC8-5850-4ADF-BC92-4F0DCBDC9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E9FA2-AAE9-4149-82CD-32269A528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374389-F71F-4C1E-8B4D-7F1AEDB61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2DE89-1033-48F9-AD0C-DAA091A5D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BAD9D3-1FF9-4FE9-851C-2BCFB8C5E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4A2D1-ACC3-4416-8F16-4B6F243A1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0C4F91-F02C-4E9A-BAE6-81043F50E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7659A-925D-4F5E-9CBB-3FDCDC57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1C80-5D99-46F4-A183-42966E4B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F2C37-F6C3-4CAA-8970-1166AB0C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9B987-99EA-4564-927D-B662E2D4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9D884-C69D-4BEC-B5A5-35729F57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3F2E24-E052-4CB4-A94A-D6C6704E1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B7A61-0813-4758-875C-A949BBEE4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E09119-6EA9-48BA-8033-BEE28F23C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D1314-0DF5-4535-B53A-2BEB0D6DF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420A82-07F3-4C81-99BE-F6584DA49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E6ED65-D365-4944-A381-487F5EF12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29C759-91EF-49FE-8725-8C8AC9627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7B82-E541-4DCD-98A2-7A9627E5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CA7A5E-7577-4B76-B388-58340FB12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BAC155-69D5-49AC-A4CD-B87E7765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16F9A5-383E-4481-B617-49E95CE5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BE569E-9B8E-4596-B7B5-D389D1E6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111DC7-15B7-476F-AECF-6CA79D70B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D72D69-A4BF-4499-B6D3-F3F3FD6DC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188433-E1D4-4778-B665-9EFF928AB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31320F-9D98-48C6-BF9D-5D8E85F14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90234A-EBA9-4DA3-814B-1C9D29AD0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F808CB-3924-4AEF-B1A5-1A44F5549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29FA9-47E6-4C54-B110-A7D74E7562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4FA81-060B-4B6F-BF8B-FCD76F20F8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9981B-C6EE-4574-AA66-B0E02E0164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C321B-A0F3-41A1-BC6D-6FBEFF6CEA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1A122-1C7E-43FA-8D3C-07C3D7146C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DC8B-14D5-45D1-9CA9-FA5F2C85DB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A5338-A1D1-4E21-9D79-95AF99A16E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8AEE5-C42E-483D-856A-3A15BE8B0D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36A34-2252-4628-B4DB-0F7BFE02D1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7E5A1-DAF9-4AAB-A1AB-9E4B4522DE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E1DC8-EB05-422C-B79B-24729AF749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5A662-BA50-4905-8570-18058F0FB6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audio" Target="../media/eru%20-%20mpg%20l3%20-%2018%20-%2011025.wav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10" descr=""/>
          <p:cNvPicPr/>
          <p:nvPr/>
        </p:nvPicPr>
        <p:blipFill>
          <a:blip r:embed="rId1"/>
          <a:stretch/>
        </p:blipFill>
        <p:spPr>
          <a:xfrm>
            <a:off x="3492360" y="638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/>
          <p:cNvPicPr/>
          <p:nvPr/>
        </p:nvPicPr>
        <p:blipFill>
          <a:blip r:embed="rId2"/>
          <a:stretch/>
        </p:blipFill>
        <p:spPr>
          <a:xfrm>
            <a:off x="4716360" y="2349360"/>
            <a:ext cx="3637080" cy="242748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3"/>
          <a:stretch/>
        </p:blipFill>
        <p:spPr>
          <a:xfrm>
            <a:off x="539640" y="476280"/>
            <a:ext cx="3487680" cy="562608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900000" y="476280"/>
            <a:ext cx="2808360" cy="288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5292720" y="333360"/>
            <a:ext cx="280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Urgente!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7" name=""/>
          <p:cNvSpPr/>
          <p:nvPr/>
        </p:nvSpPr>
        <p:spPr>
          <a:xfrm>
            <a:off x="324000" y="62373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FACUNDO CABRAL - ARGEN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003640" y="638172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HAZ CLIC AHO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4" name="eru%20-%20mpg%20l3%20-%2018%20-%2011025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6205680" cy="645336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 rot="20104200">
            <a:off x="8106840" y="6305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0" y="6597000"/>
            <a:ext cx="8353440" cy="260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12000" y="0"/>
            <a:ext cx="33130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6600"/>
                </a:solidFill>
                <a:latin typeface="Comic Sans MS"/>
              </a:rPr>
              <a:t>... que fue un gran empresario, un gran artista, un gran profesional, que llenó su agenda de urgencias, citas, proyectos, pero dentro de todo, lo más importante, se te olvidó VIV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788000" y="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Haz c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Rectangle 3" descr=""/>
          <p:cNvPicPr/>
          <p:nvPr/>
        </p:nvPicPr>
        <p:blipFill>
          <a:blip r:embed="rId1"/>
          <a:stretch/>
        </p:blipFill>
        <p:spPr>
          <a:xfrm>
            <a:off x="1258920" y="1511280"/>
            <a:ext cx="7128000" cy="534672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324000" y="40464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Arial"/>
              </a:rPr>
              <a:t>ritalilichio@yahoo.com.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2" name="Rectangle 3" descr=""/>
          <p:cNvPicPr/>
          <p:nvPr/>
        </p:nvPicPr>
        <p:blipFill>
          <a:blip r:embed="rId2"/>
          <a:stretch/>
        </p:blipFill>
        <p:spPr>
          <a:xfrm>
            <a:off x="8028000" y="6256440"/>
            <a:ext cx="887400" cy="601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4427640" y="260280"/>
            <a:ext cx="8366040" cy="627552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380520" y="1197000"/>
            <a:ext cx="383076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6600"/>
                </a:solidFill>
                <a:latin typeface="Comic Sans MS"/>
              </a:rPr>
              <a:t>Para ti, que siempre vives la vida a un ritmo vertiginoso, quiero recordarte que lo más importante que tienes en la vida, eres tú y todos los que te rodean, y recuerda qu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5 CuadroTexto"/>
          <p:cNvSpPr/>
          <p:nvPr/>
        </p:nvSpPr>
        <p:spPr>
          <a:xfrm>
            <a:off x="142920" y="42876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260280"/>
            <a:ext cx="47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HAZ CLIC CUANDO FINALICE LA LET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1042920" y="1509840"/>
            <a:ext cx="7129440" cy="534816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0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6600"/>
                </a:solidFill>
                <a:latin typeface="Comic Sans MS"/>
              </a:rPr>
              <a:t>Urgente, es una palabra con la que vivimos día a día, en nuestra agitada vida, y a la cual, le hemos perdido ya todo significado de premura y prior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5"/>
          <p:cNvSpPr/>
          <p:nvPr/>
        </p:nvSpPr>
        <p:spPr>
          <a:xfrm>
            <a:off x="3581280" y="1752480"/>
            <a:ext cx="251460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6 CuadroTexto"/>
          <p:cNvSpPr/>
          <p:nvPr/>
        </p:nvSpPr>
        <p:spPr>
          <a:xfrm>
            <a:off x="8643960" y="12859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0" y="4797000"/>
            <a:ext cx="9144000" cy="99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6600"/>
                </a:solidFill>
                <a:latin typeface="Comic Sans MS"/>
              </a:rPr>
              <a:t>Urgente, es la manera más pobre de vivir en este mundo, porque sabes, el día que nos vamos, dejamos pendiente las cosas, que verdaderamente fueron urg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6 CuadroTexto"/>
          <p:cNvSpPr/>
          <p:nvPr/>
        </p:nvSpPr>
        <p:spPr>
          <a:xfrm>
            <a:off x="714240" y="85716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4d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1"/>
          <a:stretch/>
        </p:blipFill>
        <p:spPr>
          <a:xfrm>
            <a:off x="1547640" y="189000"/>
            <a:ext cx="6409080" cy="4618080"/>
          </a:xfrm>
          <a:prstGeom prst="rect">
            <a:avLst/>
          </a:prstGeom>
          <a:ln w="0">
            <a:noFill/>
          </a:ln>
        </p:spPr>
      </p:pic>
      <p:sp>
        <p:nvSpPr>
          <p:cNvPr id="510" name=""/>
          <p:cNvSpPr/>
          <p:nvPr/>
        </p:nvSpPr>
        <p:spPr>
          <a:xfrm>
            <a:off x="0" y="0"/>
            <a:ext cx="176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ACOMPAÑA LA LE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8064360" cy="6048360"/>
          </a:xfrm>
          <a:prstGeom prst="rect">
            <a:avLst/>
          </a:prstGeom>
          <a:ln w="0">
            <a:noFill/>
          </a:ln>
        </p:spPr>
      </p:pic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0" y="456840"/>
            <a:ext cx="9144000" cy="27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6600"/>
                </a:solidFill>
                <a:latin typeface="Comic Sans MS"/>
              </a:rPr>
              <a:t>Urgente, es que hagas un alto en tu ajetreada vida, y te pregunt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6600"/>
                </a:solidFill>
                <a:latin typeface="Comic Sans MS"/>
              </a:rPr>
              <a:t>Qué significado tiene todo esto que yo hag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6600"/>
                </a:solidFill>
                <a:latin typeface="Comic Sans MS"/>
              </a:rPr>
              <a:t>Urgente, es que seas más amigo, más humano, más herma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6 CuadroTexto"/>
          <p:cNvSpPr/>
          <p:nvPr/>
        </p:nvSpPr>
        <p:spPr>
          <a:xfrm>
            <a:off x="-500040" y="5000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125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69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353440" cy="5564520"/>
          </a:xfrm>
          <a:prstGeom prst="rect">
            <a:avLst/>
          </a:prstGeom>
          <a:ln w="0">
            <a:noFill/>
          </a:ln>
        </p:spPr>
      </p:pic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0" y="4292280"/>
            <a:ext cx="9144000" cy="23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6600"/>
                </a:solidFill>
                <a:latin typeface="Comic Sans MS"/>
              </a:rPr>
              <a:t>Urgente, es que sepas valorar el tiempo que te pide un niño, una niñ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6600"/>
                </a:solidFill>
                <a:latin typeface="Comic Sans MS"/>
              </a:rPr>
              <a:t>Urgente, es que cada mañana, cuando veas salir el sol, te impregnes de su calor, y le des gracias al Señor, por tan maravilloso rega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6 CuadroTexto"/>
          <p:cNvSpPr/>
          <p:nvPr/>
        </p:nvSpPr>
        <p:spPr>
          <a:xfrm>
            <a:off x="-1500120" y="2858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275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788000" y="404640"/>
            <a:ext cx="43560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6600"/>
                </a:solidFill>
                <a:latin typeface="Comic Sans MS"/>
              </a:rPr>
              <a:t>Urgente, es que mires a tu familia, a tus hijos, a tu esposa, y a todos los que te rodean, y valores ese tan maravilloso teso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6600"/>
                </a:solidFill>
                <a:latin typeface="Comic Sans MS"/>
              </a:rPr>
              <a:t>Urgente, es que le digas a las personas que quieres, hoy, no mañana, cuánto los quieres!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4559040" cy="63500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7725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280360" cy="621036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324000" y="260280"/>
            <a:ext cx="475272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6600"/>
                </a:solidFill>
                <a:latin typeface="Comic Sans MS"/>
              </a:rPr>
              <a:t>Urgente, es que te sepas hijo de Dios, y te des cuenta que él, te ama, y quiere verte sonreír feliz y lleno de vi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7850160" cy="580572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0" y="4869000"/>
            <a:ext cx="9144000" cy="76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6600"/>
                </a:solidFill>
                <a:latin typeface="Comic Sans MS"/>
              </a:rPr>
              <a:t>Urgente, es que no se te vaya la vida en un soplo y que cuando mires atrás, seas ya un anciano que no puede echar tiempo atrás, que todo lo hizo urgente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4T22:37:00Z</dcterms:created>
  <dc:creator>Nicolás Valderrama</dc:creator>
  <dc:description/>
  <dc:language>en-US</dc:language>
  <cp:lastModifiedBy>!!</cp:lastModifiedBy>
  <dcterms:modified xsi:type="dcterms:W3CDTF">2009-06-18T03:51:14Z</dcterms:modified>
  <cp:revision>40</cp:revision>
  <dc:subject/>
  <dc:title>URGENTE</dc:title>
</cp:coreProperties>
</file>