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B53-7AFF-4C4B-9A76-B1721DBB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A199-EE17-4DA5-A1C1-47170B8C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A2E-D31B-4CAE-8D9F-1758991D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7699-F7B6-43ED-97AE-F4AC9975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746-9F08-4050-8EB9-9FC661C3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C5E-A48D-4A96-A9B5-5A5A64BD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AFB-A421-4F9C-8C69-3EAAB89C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3B6-D577-4FF2-9144-46014DB2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0CC-8F92-43A8-8663-39805EB8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BB61-71E4-40C5-8741-1AF56602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9D2-6330-432F-94E2-1134C886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ED6-818C-4123-BF20-0731EBED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6704-C0F2-4522-B29E-603F2EEE0A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826920" y="1341360"/>
            <a:ext cx="7417080" cy="233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Footlight MT Light"/>
              </a:rPr>
              <a:t>Nueva etap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Footlight MT Light"/>
              <a:ea typeface="Footlight MT Light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2050920" y="4724280"/>
            <a:ext cx="5113440" cy="11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00004e"/>
                  </a:outerShdw>
                </a:effectLst>
                <a:latin typeface="Corbel"/>
              </a:rPr>
              <a:t>Sesenta o setenta añ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0"/>
              </a:gradFill>
              <a:effectLst>
                <a:outerShdw dist="17819" dir="2700000" blurRad="0" rotWithShape="0">
                  <a:srgbClr val="00004e"/>
                </a:outerShdw>
              </a:effectLst>
              <a:latin typeface="Corbel"/>
              <a:ea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00004e"/>
                  </a:outerShdw>
                </a:effectLst>
                <a:latin typeface="Corbel"/>
              </a:rPr>
              <a:t>en el siglo XXI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0"/>
              </a:gradFill>
              <a:effectLst>
                <a:outerShdw dist="17819" dir="2700000" blurRad="0" rotWithShape="0">
                  <a:srgbClr val="00004e"/>
                </a:outerShdw>
              </a:effectLst>
              <a:latin typeface="Corbel"/>
              <a:ea typeface="Corbe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184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noFill/>
          <a:ln w="184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riz9m2e"/>
          <p:cNvPicPr/>
          <p:nvPr/>
        </p:nvPicPr>
        <p:blipFill>
          <a:blip r:embed="rId1"/>
          <a:stretch/>
        </p:blipFill>
        <p:spPr>
          <a:xfrm>
            <a:off x="90000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971640" y="4724280"/>
            <a:ext cx="770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 escribe, y se ve, con los hijos que están lejos y hasta se olvidan del viejo teléfono para contactar con sus amigos y les escriben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-mail sus ideas y viv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or lo general están satisfechas de su estado civil y si no lo están, no se conforman y procuran cambiarlo.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ramente se deshacen en un  llanto sentim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aqbf9kv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5148360" y="4653000"/>
            <a:ext cx="3600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diferencia de los jóvenes; ellos conocen y  ponderan todos los riesgos.  Nadie se pone a llorar cuando pierde: sólo reflexiona y toma nota, a lo su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yezvmkii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5219640" y="4508640"/>
            <a:ext cx="36003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gente grande comparte la devoción por la juventud y sus formas superlativas, casi insolentes de belleza, pero no se sienten en  retirada.  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ompiten de otra forma, cultivan su propio estil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ehuo8rku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5580000" y="2925360"/>
            <a:ext cx="316728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llos no envidian la apariencia de jóvenes astros del deporte, o de los que lucen un traje Armani, ni ellas sueñan con tener la figura tuneada de una vedet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n lugar de eso saben de la importancia de una mirada cómplice, de una frase inteligente o de una sonrisa iluminada por la experienci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w2kqksbm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900000" y="5013360"/>
            <a:ext cx="78487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oy la gente de 60 ó 70, como es su costumbre, está estrenando una edad que todavía NO TIENE NOMBRE, antes los de esa edad eran viejos y hoy ya no lo son, hoy están plenos física e intelectualmente, recuerdan la juventud, pero sin nostalgias, por que la juventud también está llena de caídas y nostalgias y ellos lo s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ellyrl2t"/>
          <p:cNvPicPr/>
          <p:nvPr/>
        </p:nvPicPr>
        <p:blipFill>
          <a:blip r:embed="rId1"/>
          <a:stretch/>
        </p:blipFill>
        <p:spPr>
          <a:xfrm>
            <a:off x="900000" y="33336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5364000" y="4508640"/>
            <a:ext cx="33847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gente de 60 ó 70 de hoy, celebra el sol cada mañana  y sonríe para sí misma muy a menud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izás, por alguna razón secreta que sólo saben los de sesenta en el siglo XX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attachment"/>
          <p:cNvPicPr/>
          <p:nvPr/>
        </p:nvPicPr>
        <p:blipFill>
          <a:blip r:embed="rId1"/>
          <a:stretch/>
        </p:blipFill>
        <p:spPr>
          <a:xfrm>
            <a:off x="2916360" y="189000"/>
            <a:ext cx="3809880" cy="39434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981160" y="414864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cc"/>
                </a:solidFill>
                <a:latin typeface="Arial"/>
              </a:rPr>
              <a:t>...a quien lo escribió.....</a:t>
            </a:r>
            <a:r>
              <a:rPr b="0" i="1" lang="es-ES" sz="2400" spc="-1" strike="noStrike">
                <a:solidFill>
                  <a:srgbClr val="ff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qs1205417383t"/>
          <p:cNvPicPr/>
          <p:nvPr/>
        </p:nvPicPr>
        <p:blipFill>
          <a:blip r:embed="rId2"/>
          <a:stretch/>
        </p:blipFill>
        <p:spPr>
          <a:xfrm>
            <a:off x="3780000" y="4941720"/>
            <a:ext cx="1734840" cy="1722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7236000" y="6308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Lucida Handwriting"/>
              </a:rPr>
              <a:t>R a m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go793v7m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5148360" y="4797360"/>
            <a:ext cx="36352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i miramos con cuidado podemos detectar la aparición de una franja social que antes no existía: la gente que hoy tiene alrededor de sesenta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l18oypy"/>
          <p:cNvPicPr/>
          <p:nvPr/>
        </p:nvPicPr>
        <p:blipFill>
          <a:blip r:embed="rId1"/>
          <a:stretch/>
        </p:blipFill>
        <p:spPr>
          <a:xfrm>
            <a:off x="826920" y="33336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5148360" y="4508640"/>
            <a:ext cx="36003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 una generación que ha pateado fuera del idioma la palabra "sexagenario" o "septuagenario", porque sencillamente no tiene entre sus planes actuales el hecho de enveje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lykchtn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900000" y="5005440"/>
            <a:ext cx="7920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 trata de una verdadera novedad demográfica parecida a la aparición en su momento, de la "adolescencia", que también fue una franja social nueva que surgió a mediados del siglo veinte para dar identidad a una masa de niños desbordados en cuerpos creciditos, que no sabían hasta entonces dónde meterse, ni cómo vesti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6h53h3gu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971640" y="5013360"/>
            <a:ext cx="7848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e nuevo grupo humano que hoy ronda los sesenta o setenta, ha llevado una vida razonablemente satisfac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on hombres y mujeres independientes  que trabajan desde hace mucho tiempo y han logrado cambiar el significado tétrico que tanta literatura rioplatense le dio durante décadas al concepto del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jat3dpi2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826920" y="4581360"/>
            <a:ext cx="792180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ejos de las tristes oficinas de J.C. Onetti o Roberto Arlt, esta gente buscó y encontró hace mucho la  actividad que más le gustaba y se ganó la vida con 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upuestamente debe de ser por esto que se sienten plenos...algunos ni sueñan con jubila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ntro de ese universo de personas saludables, curiosas y activas, la mujer tiene un papel rutil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wedbwl23"/>
          <p:cNvPicPr/>
          <p:nvPr/>
        </p:nvPicPr>
        <p:blipFill>
          <a:blip r:embed="rId1"/>
          <a:stretch/>
        </p:blipFill>
        <p:spPr>
          <a:xfrm>
            <a:off x="90000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5292720" y="4221360"/>
            <a:ext cx="34545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a mujer pudo sobrevivir a la borrachera de poder que le dio el feminismo y en determinado momento de su juventud en el que los cambios eran tantos, pudo detenerse a reflexionar qué quería en re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lbfcgqr4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364000" y="4293000"/>
            <a:ext cx="33483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lgunas se fueron a vivir solas, otras estudiaron carreras, otras eligieron tener hijos, otras fueron periodistas, atletas, o crearon su propio "YO S.A.".  Pero cada una hizo su volunt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bv4mvbti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971640" y="5013360"/>
            <a:ext cx="77976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econozcamos que no fue un asunto fácil y todavía lo van diseñando cotidianamente.  Pero algunas cosas ya pueden darse por sabidas, por ejemplo que no son personas detenidas en el tiempo;  la gente de sesenta maneja la computadora como si lo hubiera hecho toda la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3:29:44Z</dcterms:created>
  <dc:creator>Eliza Torres</dc:creator>
  <dc:description/>
  <dc:language>en-US</dc:language>
  <cp:lastModifiedBy>RAPÀ</cp:lastModifiedBy>
  <dcterms:modified xsi:type="dcterms:W3CDTF">2011-02-27T17:26:37Z</dcterms:modified>
  <cp:revision>14</cp:revision>
  <dc:subject/>
  <dc:title>Slide 1</dc:title>
</cp:coreProperties>
</file>