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830-C506-4D84-BAE9-6E82B474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A83-1B06-43FC-8E17-0DE11D8E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A20-649A-4DA5-917A-0C011BD9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FE7-F290-446E-B8E7-4C0E3155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EBE-EB82-452C-AC61-F97A6890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AF3-734F-4F13-9B9D-DCF7837D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A755-5F68-471A-B351-5071C68B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58FB-9635-49AD-862C-C9EB5E50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C73-D32A-4C0A-B2EA-D2F3BD77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912-1E0B-4018-B357-C3CB72B2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084-5173-4FAE-9F7B-94D7B643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2C30-0A2D-46F3-BE2A-7D2ABF54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DC38-69A7-4AC1-8E18-AE5159E2AA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826920" y="1341360"/>
            <a:ext cx="7417080" cy="233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Footlight MT Light"/>
              </a:rPr>
              <a:t>Nueva etap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Footlight MT Light"/>
              <a:ea typeface="Footlight MT Light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2050920" y="4724280"/>
            <a:ext cx="5113440" cy="11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00004e"/>
                  </a:outerShdw>
                </a:effectLst>
                <a:latin typeface="Corbel"/>
              </a:rPr>
              <a:t>Sesenta o setenta añ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0"/>
              </a:gradFill>
              <a:effectLst>
                <a:outerShdw dist="17819" dir="2700000" blurRad="0" rotWithShape="0">
                  <a:srgbClr val="00004e"/>
                </a:outerShdw>
              </a:effectLst>
              <a:latin typeface="Corbel"/>
              <a:ea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00004e"/>
                  </a:outerShdw>
                </a:effectLst>
                <a:latin typeface="Corbel"/>
              </a:rPr>
              <a:t>en el siglo XXI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0"/>
              </a:gradFill>
              <a:effectLst>
                <a:outerShdw dist="17819" dir="2700000" blurRad="0" rotWithShape="0">
                  <a:srgbClr val="00004e"/>
                </a:outerShdw>
              </a:effectLst>
              <a:latin typeface="Corbel"/>
              <a:ea typeface="Corbe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184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noFill/>
          <a:ln w="184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mriz9m2e"/>
          <p:cNvPicPr/>
          <p:nvPr/>
        </p:nvPicPr>
        <p:blipFill>
          <a:blip r:embed="rId1"/>
          <a:stretch/>
        </p:blipFill>
        <p:spPr>
          <a:xfrm>
            <a:off x="90000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971640" y="4724280"/>
            <a:ext cx="770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e escribe, y se ve, con los hijos que están lejos y hasta se olvidan del viejo teléfono para contactar con sus amigos y les escriben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-mail sus ideas y vive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or lo general están satisfechas de su estado civil y si no lo están, no se conforman y procuran cambiarlo.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aramente se deshacen en un  llanto sentim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aqbf9kv"/>
          <p:cNvPicPr/>
          <p:nvPr/>
        </p:nvPicPr>
        <p:blipFill>
          <a:blip r:embed="rId1"/>
          <a:stretch/>
        </p:blipFill>
        <p:spPr>
          <a:xfrm>
            <a:off x="82692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5148360" y="4653000"/>
            <a:ext cx="36003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 diferencia de los jóvenes; ellos conocen y  ponderan todos los riesgos.  Nadie se pone a llorar cuando pierde: sólo reflexiona y toma nota, a lo su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yezvmkii"/>
          <p:cNvPicPr/>
          <p:nvPr/>
        </p:nvPicPr>
        <p:blipFill>
          <a:blip r:embed="rId1"/>
          <a:stretch/>
        </p:blipFill>
        <p:spPr>
          <a:xfrm>
            <a:off x="82692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5219640" y="4508640"/>
            <a:ext cx="360036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gente grande comparte la devoción por la juventud y sus formas superlativas, casi insolentes de belleza, pero no se sienten en  retirada.  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ompiten de otra forma, cultivan su propio estil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ehuo8rku"/>
          <p:cNvPicPr/>
          <p:nvPr/>
        </p:nvPicPr>
        <p:blipFill>
          <a:blip r:embed="rId1"/>
          <a:stretch/>
        </p:blipFill>
        <p:spPr>
          <a:xfrm>
            <a:off x="82692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5580000" y="2925360"/>
            <a:ext cx="316728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llos no envidian la apariencia de jóvenes astros del deporte, o de los que lucen un traje Armani, ni ellas sueñan con tener la figura tuneada de una vedet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n lugar de eso saben de la importancia de una mirada cómplice, de una frase inteligente o de una sonrisa iluminada por la experienci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w2kqksbm"/>
          <p:cNvPicPr/>
          <p:nvPr/>
        </p:nvPicPr>
        <p:blipFill>
          <a:blip r:embed="rId1"/>
          <a:stretch/>
        </p:blipFill>
        <p:spPr>
          <a:xfrm>
            <a:off x="82692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900000" y="5013360"/>
            <a:ext cx="784872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oy la gente de 60 ó 70, como es su costumbre, está estrenando una edad que todavía NO TIENE NOMBRE, antes los de esa edad eran viejos y hoy ya no lo son, hoy están plenos física e intelectualmente, recuerdan la juventud, pero sin nostalgias, por que la juventud también está llena de caídas y nostalgias y ellos lo s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ellyrl2t"/>
          <p:cNvPicPr/>
          <p:nvPr/>
        </p:nvPicPr>
        <p:blipFill>
          <a:blip r:embed="rId1"/>
          <a:stretch/>
        </p:blipFill>
        <p:spPr>
          <a:xfrm>
            <a:off x="900000" y="33336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5364000" y="4508640"/>
            <a:ext cx="338472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gente de 60 ó 70 de hoy, celebra el sol cada mañana  y sonríe para sí misma muy a menud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izás, por alguna razón secreta que sólo saben los de sesenta en el siglo XX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attachment"/>
          <p:cNvPicPr/>
          <p:nvPr/>
        </p:nvPicPr>
        <p:blipFill>
          <a:blip r:embed="rId1"/>
          <a:stretch/>
        </p:blipFill>
        <p:spPr>
          <a:xfrm>
            <a:off x="2916360" y="189000"/>
            <a:ext cx="3809880" cy="39434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981160" y="414864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cc"/>
                </a:solidFill>
                <a:latin typeface="Arial"/>
              </a:rPr>
              <a:t>...a quien lo escribió.....</a:t>
            </a:r>
            <a:r>
              <a:rPr b="0" i="1" lang="es-ES" sz="2400" spc="-1" strike="noStrike">
                <a:solidFill>
                  <a:srgbClr val="ff66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cqs1205417383t"/>
          <p:cNvPicPr/>
          <p:nvPr/>
        </p:nvPicPr>
        <p:blipFill>
          <a:blip r:embed="rId2"/>
          <a:stretch/>
        </p:blipFill>
        <p:spPr>
          <a:xfrm>
            <a:off x="3780000" y="4941720"/>
            <a:ext cx="1734840" cy="1722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7236000" y="6308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Lucida Handwriting"/>
              </a:rPr>
              <a:t>R a m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go793v7m"/>
          <p:cNvPicPr/>
          <p:nvPr/>
        </p:nvPicPr>
        <p:blipFill>
          <a:blip r:embed="rId1"/>
          <a:stretch/>
        </p:blipFill>
        <p:spPr>
          <a:xfrm>
            <a:off x="82692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5148360" y="4797360"/>
            <a:ext cx="36352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i miramos con cuidado podemos detectar la aparición de una franja social que antes no existía: la gente que hoy tiene alrededor de sesenta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l18oypy"/>
          <p:cNvPicPr/>
          <p:nvPr/>
        </p:nvPicPr>
        <p:blipFill>
          <a:blip r:embed="rId1"/>
          <a:stretch/>
        </p:blipFill>
        <p:spPr>
          <a:xfrm>
            <a:off x="826920" y="33336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5148360" y="4508640"/>
            <a:ext cx="360036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s una generación que ha pateado fuera del idioma la palabra "sexagenario" o "septuagenario", porque sencillamente no tiene entre sus planes actuales el hecho de enveje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dlykchtn"/>
          <p:cNvPicPr/>
          <p:nvPr/>
        </p:nvPicPr>
        <p:blipFill>
          <a:blip r:embed="rId1"/>
          <a:stretch/>
        </p:blipFill>
        <p:spPr>
          <a:xfrm>
            <a:off x="82692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900000" y="5005440"/>
            <a:ext cx="79200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e trata de una verdadera novedad demográfica parecida a la aparición en su momento, de la "adolescencia", que también fue una franja social nueva que surgió a mediados del siglo veinte para dar identidad a una masa de niños desbordados en cuerpos creciditos, que no sabían hasta entonces dónde meterse, ni cómo vesti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6h53h3gu"/>
          <p:cNvPicPr/>
          <p:nvPr/>
        </p:nvPicPr>
        <p:blipFill>
          <a:blip r:embed="rId1"/>
          <a:stretch/>
        </p:blipFill>
        <p:spPr>
          <a:xfrm>
            <a:off x="82692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971640" y="5013360"/>
            <a:ext cx="7848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ste nuevo grupo humano que hoy ronda los sesenta o setenta, ha llevado una vida razonablemente satisfac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on hombres y mujeres independientes  que trabajan desde hace mucho tiempo y han logrado cambiar el significado tétrico que tanta literatura rioplatense le dio durante décadas al concepto del tra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jat3dpi2"/>
          <p:cNvPicPr/>
          <p:nvPr/>
        </p:nvPicPr>
        <p:blipFill>
          <a:blip r:embed="rId1"/>
          <a:stretch/>
        </p:blipFill>
        <p:spPr>
          <a:xfrm>
            <a:off x="82692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826920" y="4581360"/>
            <a:ext cx="792180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ejos de las tristes oficinas de J.C. Onetti o Roberto Arlt, esta gente buscó y encontró hace mucho la  actividad que más le gustaba y se ganó la vida con 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upuestamente debe de ser por esto que se sienten plenos...algunos ni sueñan con jubila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entro de ese universo de personas saludables, curiosas y activas, la mujer tiene un papel rutil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wedbwl23"/>
          <p:cNvPicPr/>
          <p:nvPr/>
        </p:nvPicPr>
        <p:blipFill>
          <a:blip r:embed="rId1"/>
          <a:stretch/>
        </p:blipFill>
        <p:spPr>
          <a:xfrm>
            <a:off x="90000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5292720" y="4221360"/>
            <a:ext cx="34545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sta mujer pudo sobrevivir a la borrachera de poder que le dio el feminismo y en determinado momento de su juventud en el que los cambios eran tantos, pudo detenerse a reflexionar qué quería en re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lbfcgqr4"/>
          <p:cNvPicPr/>
          <p:nvPr/>
        </p:nvPicPr>
        <p:blipFill>
          <a:blip r:embed="rId1"/>
          <a:stretch/>
        </p:blipFill>
        <p:spPr>
          <a:xfrm>
            <a:off x="82692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5364000" y="4293000"/>
            <a:ext cx="33483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lgunas se fueron a vivir solas, otras estudiaron carreras, otras eligieron tener hijos, otras fueron periodistas, atletas, o crearon su propio "YO S.A.".  Pero cada una hizo su volunt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755640" y="189000"/>
            <a:ext cx="8137440" cy="6480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bv4mvbti"/>
          <p:cNvPicPr/>
          <p:nvPr/>
        </p:nvPicPr>
        <p:blipFill>
          <a:blip r:embed="rId1"/>
          <a:stretch/>
        </p:blipFill>
        <p:spPr>
          <a:xfrm>
            <a:off x="826920" y="26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971640" y="5013360"/>
            <a:ext cx="77976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econozcamos que no fue un asunto fácil y todavía lo van diseñando cotidianamente.  Pero algunas cosas ya pueden darse por sabidas, por ejemplo que no son personas detenidas en el tiempo;  la gente de sesenta maneja la computadora como si lo hubiera hecho toda la v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3:29:44Z</dcterms:created>
  <dc:creator>Eliza Torres</dc:creator>
  <dc:description/>
  <dc:language>en-US</dc:language>
  <cp:lastModifiedBy>RAPÀ</cp:lastModifiedBy>
  <dcterms:modified xsi:type="dcterms:W3CDTF">2011-02-27T17:26:37Z</dcterms:modified>
  <cp:revision>14</cp:revision>
  <dc:subject/>
  <dc:title>Slide 1</dc:title>
</cp:coreProperties>
</file>