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BEElPescadorJoseEsparza.wav" ContentType="audio/x-wav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6EC5-1131-4AC7-BD2E-08BD8B75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EB6-9EE8-4F8A-9B81-1333F038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15A-EDAC-440D-8091-5D982ED4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106E-3363-4A38-907C-14A9E6D9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F64-48CC-42EA-B867-2FC10A39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4321-5492-443A-B324-55143FD2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CC9-7FBA-47D2-BC0A-2AB40836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BF0A-2D89-4434-A542-0538A859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020-8AC4-4314-8BEE-4658A769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56C7-3EA8-429C-BF88-4AB53387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34B0-A760-42E7-AD5C-39E01F91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C7F-162E-4309-946C-EE0F14A2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28CF-5CF3-42A4-B857-74BA649649F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EElPescadorJoseEsparz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stbenet@benedictinescat.com" TargetMode="External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763560" y="4173480"/>
            <a:ext cx="4291200" cy="22269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cuchando “El pescador”, sintamos que Jesús quiere atraer el corazón de los jóvenes hacia su Igl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699120" y="2781360"/>
            <a:ext cx="43167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000" spc="-1" strike="noStrike">
                <a:solidFill>
                  <a:srgbClr val="460000"/>
                </a:solidFill>
                <a:latin typeface="Arial Unicode MS"/>
              </a:rPr>
              <a:t>23 AÑO c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7 Imagen" descr="Emaustttcc.jpg"/>
          <p:cNvPicPr/>
          <p:nvPr/>
        </p:nvPicPr>
        <p:blipFill>
          <a:blip r:embed="rId1"/>
          <a:stretch/>
        </p:blipFill>
        <p:spPr>
          <a:xfrm>
            <a:off x="6108840" y="1052640"/>
            <a:ext cx="2439720" cy="5110200"/>
          </a:xfrm>
          <a:prstGeom prst="rect">
            <a:avLst/>
          </a:prstGeom>
          <a:ln w="0">
            <a:noFill/>
          </a:ln>
        </p:spPr>
      </p:pic>
      <p:grpSp>
        <p:nvGrpSpPr>
          <p:cNvPr id="45" name="8 Grupo"/>
          <p:cNvGrpSpPr/>
          <p:nvPr/>
        </p:nvGrpSpPr>
        <p:grpSpPr>
          <a:xfrm>
            <a:off x="395280" y="357120"/>
            <a:ext cx="5032440" cy="1940040"/>
            <a:chOff x="395280" y="357120"/>
            <a:chExt cx="5032440" cy="1940040"/>
          </a:xfrm>
        </p:grpSpPr>
        <p:sp>
          <p:nvSpPr>
            <p:cNvPr id="46" name="7 Rectángulo"/>
            <p:cNvSpPr/>
            <p:nvPr/>
          </p:nvSpPr>
          <p:spPr>
            <a:xfrm>
              <a:off x="426960" y="357120"/>
              <a:ext cx="5000760" cy="1857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WordArt 87"/>
            <p:cNvSpPr txBox="1"/>
            <p:nvPr/>
          </p:nvSpPr>
          <p:spPr>
            <a:xfrm>
              <a:off x="395280" y="428400"/>
              <a:ext cx="5003640" cy="186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0">
                    <a:noFill/>
                  </a:ln>
                  <a:gradFill rotWithShape="0">
                    <a:gsLst>
                      <a:gs pos="0">
                        <a:srgbClr val="ef2a03"/>
                      </a:gs>
                      <a:gs pos="100000">
                        <a:srgbClr val="580604"/>
                      </a:gs>
                    </a:gsLst>
                    <a:lin ang="5400000"/>
                  </a:gradFill>
                  <a:effectLst>
                    <a:outerShdw dist="38183" dir="2700000" blurRad="0" rotWithShape="0">
                      <a:srgbClr val="c00000">
                        <a:alpha val="43000"/>
                      </a:srgbClr>
                    </a:outerShdw>
                  </a:effectLst>
                  <a:latin typeface="Arial Black"/>
                </a:rPr>
                <a:t>DOMINGO</a:t>
              </a:r>
              <a:endPara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ef2a03"/>
                    </a:gs>
                    <a:gs pos="100000">
                      <a:srgbClr val="580604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c00000">
                      <a:alpha val="43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8" name="14 CuadroTexto"/>
          <p:cNvSpPr/>
          <p:nvPr/>
        </p:nvSpPr>
        <p:spPr>
          <a:xfrm>
            <a:off x="6143760" y="6143760"/>
            <a:ext cx="1214280" cy="10076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Mistral"/>
              </a:rPr>
              <a:t>Reg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BEElPescadorJoseEsparz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"/>
          <p:cNvSpPr/>
          <p:nvPr/>
        </p:nvSpPr>
        <p:spPr>
          <a:xfrm>
            <a:off x="395280" y="620640"/>
            <a:ext cx="8209080" cy="585468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s aseguro que todo lo que atéis en la tierra quedará atado en el cielo, y todo lo que desatéis en la tierra quedará desatado en el cielo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1 Imagen" descr=""/>
          <p:cNvPicPr/>
          <p:nvPr/>
        </p:nvPicPr>
        <p:blipFill>
          <a:blip r:embed="rId1"/>
          <a:stretch/>
        </p:blipFill>
        <p:spPr>
          <a:xfrm>
            <a:off x="3240" y="115920"/>
            <a:ext cx="8456400" cy="6669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4932360" y="115920"/>
            <a:ext cx="4165560" cy="1922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Yo he dejado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 mi obra en vuestras ma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227640" y="2127240"/>
            <a:ext cx="28051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No la destruyá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"/>
          <p:cNvSpPr/>
          <p:nvPr/>
        </p:nvSpPr>
        <p:spPr>
          <a:xfrm>
            <a:off x="357120" y="428760"/>
            <a:ext cx="8391600" cy="667440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s aseguro, además, que si dos de vosotros se ponen de acuerdo en la tierra para pedir algo, se lo dará mi Padre del cielo. Porque donde dos o tres están reunidos en mi nombre, allí estoy yo en medio de ellos."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" descr="transfigct"/>
          <p:cNvPicPr/>
          <p:nvPr/>
        </p:nvPicPr>
        <p:blipFill>
          <a:blip r:embed="rId1"/>
          <a:stretch/>
        </p:blipFill>
        <p:spPr>
          <a:xfrm>
            <a:off x="0" y="1484280"/>
            <a:ext cx="5327640" cy="5373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1403280" y="162000"/>
            <a:ext cx="763272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Yo estoy en medio de vosotros, aunque no lo veá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148360" y="1611360"/>
            <a:ext cx="3887640" cy="472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Dentro de cada hermano,  de arriba o de abajo, que manda o que obedece,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Yo vivo “transfigurado”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785880" y="549360"/>
            <a:ext cx="7643880" cy="5616360"/>
          </a:xfrm>
          <a:prstGeom prst="rect">
            <a:avLst/>
          </a:prstGeom>
          <a:gradFill rotWithShape="0">
            <a:gsLst>
              <a:gs pos="0">
                <a:srgbClr val="460000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1955880" y="1157400"/>
            <a:ext cx="5280120" cy="43603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eñor, haz que, conscientes de ser tu IGLESIA, no defraudemos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u il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4 Grupo"/>
          <p:cNvGrpSpPr/>
          <p:nvPr/>
        </p:nvGrpSpPr>
        <p:grpSpPr>
          <a:xfrm>
            <a:off x="395280" y="4653000"/>
            <a:ext cx="8286840" cy="1928880"/>
            <a:chOff x="395280" y="4653000"/>
            <a:chExt cx="8286840" cy="1928880"/>
          </a:xfrm>
        </p:grpSpPr>
        <p:sp>
          <p:nvSpPr>
            <p:cNvPr id="87" name="Rectangle 5"/>
            <p:cNvSpPr/>
            <p:nvPr/>
          </p:nvSpPr>
          <p:spPr>
            <a:xfrm>
              <a:off x="395280" y="4653000"/>
              <a:ext cx="8286840" cy="192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2"/>
            <p:cNvSpPr/>
            <p:nvPr/>
          </p:nvSpPr>
          <p:spPr>
            <a:xfrm>
              <a:off x="609480" y="4930920"/>
              <a:ext cx="7782480" cy="1404000"/>
            </a:xfrm>
            <a:prstGeom prst="rect">
              <a:avLst/>
            </a:prstGeom>
            <a:gradFill rotWithShape="0">
              <a:gsLst>
                <a:gs pos="0">
                  <a:srgbClr val="5a3e16"/>
                </a:gs>
                <a:gs pos="100000">
                  <a:srgbClr val="c99f5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s-ES_tradnl" sz="3000" spc="-1" strike="noStrike">
                  <a:solidFill>
                    <a:srgbClr val="ffffff"/>
                  </a:solidFill>
                  <a:latin typeface="Arial"/>
                </a:rPr>
                <a:t>onjas  de  St. Benet de Montserrat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_tradnl" sz="2800" spc="-1" strike="noStrike" u="sng">
                  <a:solidFill>
                    <a:srgbClr val="ccccff"/>
                  </a:solidFill>
                  <a:uFillTx/>
                  <a:latin typeface="Arial"/>
                  <a:hlinkClick r:id="rId1"/>
                </a:rPr>
                <a:t>stbenet@benedictinescat.com</a:t>
              </a: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0" lang="es-ES" sz="2800" spc="-1" strike="noStrike" u="sng">
                  <a:solidFill>
                    <a:srgbClr val="ccccff"/>
                  </a:solidFill>
                  <a:uFillTx/>
                  <a:latin typeface="Arial"/>
                  <a:hlinkClick r:id="rId2"/>
                </a:rPr>
                <a:t>www.benedictinescat.com/montserr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Picture 7" descr="C:\Documents and Settings\st benet\Mis documentos\Fotos\SBw.jpg"/>
            <p:cNvPicPr/>
            <p:nvPr/>
          </p:nvPicPr>
          <p:blipFill>
            <a:blip r:embed="rId3"/>
            <a:stretch/>
          </p:blipFill>
          <p:spPr>
            <a:xfrm>
              <a:off x="752400" y="5297400"/>
              <a:ext cx="827280" cy="712800"/>
            </a:xfrm>
            <a:prstGeom prst="rect">
              <a:avLst/>
            </a:prstGeom>
            <a:ln w="38160">
              <a:solidFill>
                <a:srgbClr val="76521c"/>
              </a:solidFill>
              <a:miter/>
            </a:ln>
          </p:spPr>
        </p:pic>
      </p:grpSp>
    </p:spTree>
  </p:cSld>
  <p:transition spd="med"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11160" y="5516640"/>
            <a:ext cx="9132840" cy="1601640"/>
          </a:xfrm>
          <a:prstGeom prst="rect">
            <a:avLst/>
          </a:prstGeom>
          <a:solidFill>
            <a:srgbClr val="00000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ef642d"/>
                </a:solidFill>
                <a:latin typeface="Arial Unicode MS"/>
              </a:rPr>
              <a:t>Foto ante la puerta de la Casa de Cafarnaún, donde Jesús vive con los discípulo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79280" y="260280"/>
            <a:ext cx="8785440" cy="605088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e2af64"/>
                </a:solidFill>
                <a:latin typeface="Arial Unicode MS"/>
              </a:rPr>
              <a:t> </a:t>
            </a:r>
            <a:r>
              <a:rPr b="1" lang="es-ES" sz="4500" spc="-1" strike="noStrike">
                <a:solidFill>
                  <a:srgbClr val="e2af64"/>
                </a:solidFill>
                <a:latin typeface="Arial Unicode MS"/>
              </a:rPr>
              <a:t>4a Parte del evangelio de Mt:</a:t>
            </a:r>
            <a:br>
              <a:rPr sz="4500"/>
            </a:br>
            <a:r>
              <a:rPr b="1" i="1" lang="es-ES" sz="4500" spc="-1" strike="noStrike">
                <a:solidFill>
                  <a:srgbClr val="eed09a"/>
                </a:solidFill>
                <a:latin typeface="Arial Unicode MS"/>
              </a:rPr>
              <a:t>“Tener el corazón cerca de Dios”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Compartiendo el Pan de Jesús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-Confesando que Él es Hijo del Dios vivo</a:t>
            </a:r>
            <a:br>
              <a:rPr sz="3200"/>
            </a:br>
            <a:r>
              <a:rPr b="1" lang="es-ES" sz="3200" spc="-1" strike="noStrike">
                <a:solidFill>
                  <a:srgbClr val="eed09a"/>
                </a:solidFill>
                <a:latin typeface="Arial Unicode MS"/>
              </a:rPr>
              <a:t>Sermón sobre la iglesia: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-En Cafarnaún: nuevos valores eclesiales  </a:t>
            </a:r>
            <a:r>
              <a:rPr b="1" lang="es-ES" sz="3200" spc="-1" strike="noStrike">
                <a:solidFill>
                  <a:srgbClr val="ffe757"/>
                </a:solidFill>
                <a:latin typeface="Arial Unicode MS"/>
              </a:rPr>
              <a:t>(hoy)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-En Transjordania: cada uno según el propio estado (matrimonios o célibes por el Rei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6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6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0" descr="Cafarna8t"/>
          <p:cNvPicPr/>
          <p:nvPr/>
        </p:nvPicPr>
        <p:blipFill>
          <a:blip r:embed="rId1"/>
          <a:stretch/>
        </p:blipFill>
        <p:spPr>
          <a:xfrm>
            <a:off x="-2700360" y="68400"/>
            <a:ext cx="14617800" cy="6789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419640" y="5589720"/>
            <a:ext cx="5329080" cy="146448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000"/>
                </a:solidFill>
                <a:latin typeface="Arial Unicode MS"/>
              </a:rPr>
              <a:t>Restos de la casa convertida en iglesia octogonal en el sI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11280" y="257040"/>
            <a:ext cx="7200720" cy="131292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</a:rPr>
              <a:t>Jesús nos dice qué espíritu  quiere que tenga su Igles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858 -0.00139 L -0.33472 -0.00139 E">
                                      <p:cBhvr>
                                        <p:cTn id="41" dur="1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11280" y="765000"/>
            <a:ext cx="8026200" cy="61880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18,15-20 En aquel tiempo, dijo Jesús a sus discípulos: "Si tu hermano peca, repréndelo a solas entre los dos. Si te hace caso, has salvado a tu herman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 Imagen" descr=""/>
          <p:cNvPicPr/>
          <p:nvPr/>
        </p:nvPicPr>
        <p:blipFill>
          <a:blip r:embed="rId1"/>
          <a:stretch/>
        </p:blipFill>
        <p:spPr>
          <a:xfrm>
            <a:off x="0" y="1440000"/>
            <a:ext cx="8094600" cy="541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2"/>
          <p:cNvSpPr/>
          <p:nvPr/>
        </p:nvSpPr>
        <p:spPr>
          <a:xfrm>
            <a:off x="179280" y="125280"/>
            <a:ext cx="725508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omo hermanos, sois responsables unos de 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5580000" y="1528920"/>
            <a:ext cx="3492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Yo os hago COMUN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531720" y="692280"/>
            <a:ext cx="8215560" cy="521208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i no te hace caso, llama a otro o a otros dos, para que todo el asunto quede confirmado por boca de dos o tres testigos. Si no les hace caso, díselo a la comunid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1 Imagen" descr=""/>
          <p:cNvPicPr/>
          <p:nvPr/>
        </p:nvPicPr>
        <p:blipFill>
          <a:blip r:embed="rId1"/>
          <a:stretch/>
        </p:blipFill>
        <p:spPr>
          <a:xfrm>
            <a:off x="264960" y="1268280"/>
            <a:ext cx="8785440" cy="55515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3060720" y="128520"/>
            <a:ext cx="583236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s propio de la iglesia reunirse y hacer fies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08000" y="174600"/>
            <a:ext cx="280836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abemos  vivir unidos, jóvenes y ancian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2 Rectángulo"/>
          <p:cNvSpPr/>
          <p:nvPr/>
        </p:nvSpPr>
        <p:spPr>
          <a:xfrm>
            <a:off x="6264720" y="622944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JMJ Madrid 20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 CuadroTexto"/>
          <p:cNvSpPr/>
          <p:nvPr/>
        </p:nvSpPr>
        <p:spPr>
          <a:xfrm rot="21428400">
            <a:off x="5135400" y="1781280"/>
            <a:ext cx="115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Benito XV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"/>
          <p:cNvSpPr/>
          <p:nvPr/>
        </p:nvSpPr>
        <p:spPr>
          <a:xfrm>
            <a:off x="1042920" y="333360"/>
            <a:ext cx="6769080" cy="702648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si no hace caso ni siquiera a la comunidad, considéralo como un pagano o un publicano.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1 Imagen" descr=""/>
          <p:cNvPicPr/>
          <p:nvPr/>
        </p:nvPicPr>
        <p:blipFill>
          <a:blip r:embed="rId1"/>
          <a:stretch/>
        </p:blipFill>
        <p:spPr>
          <a:xfrm>
            <a:off x="3132000" y="2152800"/>
            <a:ext cx="5889600" cy="46288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174600" y="139680"/>
            <a:ext cx="8069400" cy="1922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 los de fuera de la Comunidad, amadlos, cómo Yo amé a los paganos y pecador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79280" y="2152800"/>
            <a:ext cx="28083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No marquéis tantas distan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2 CuadroTexto"/>
          <p:cNvSpPr/>
          <p:nvPr/>
        </p:nvSpPr>
        <p:spPr>
          <a:xfrm>
            <a:off x="324000" y="591012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Juan Pablo II con su ases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REGINA</cp:lastModifiedBy>
  <dcterms:modified xsi:type="dcterms:W3CDTF">2011-08-23T14:36:43Z</dcterms:modified>
  <cp:revision>627</cp:revision>
  <dc:subject/>
  <dc:title>evangeli</dc:title>
</cp:coreProperties>
</file>