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PatrizioBuanne-UnAngelo.wav" ContentType="audio/x-wav"/>
  <Override PartName="/ppt/media/image20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A91-D00A-439D-AA89-FF8DF5D3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732-4E22-4793-B625-C3D986CA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92D-C006-47A5-B8C9-82582608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62D-F503-4A3A-A186-84964E1C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DA7-A475-49F4-AAFA-9F0F9D7C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950-739F-428D-BC3C-A188F45A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921-EBB2-4044-BA2A-A8F6B19E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75B-193C-44DC-A2D0-46C3A7A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E4C-F706-4666-82B4-F1B94DE6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B6A-240F-487C-AAD1-ED9250E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60C-7B0B-4D0E-AF9C-76FD9AA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121-4240-4C36-BB51-CB62A3E7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0E8-B5D8-405D-9EA0-B5C244B36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trizioBuanne-UnAngel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ticino riv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025280" y="500040"/>
            <a:ext cx="71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c00000"/>
                </a:solidFill>
                <a:latin typeface="Bradley Hand ITC"/>
              </a:rPr>
              <a:t>LOMBARD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725920" y="1857240"/>
            <a:ext cx="365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c00000"/>
                </a:solidFill>
                <a:latin typeface="Bradley Hand ITC"/>
              </a:rPr>
              <a:t>ITAL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PatrizioBuanne-UnAngel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800px-9LakeGard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800px-Bresci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3760" y="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BRE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800px-Brescia_Loggia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760" y="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BRE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800px-SanMemete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9080" y="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SAN ME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800px-Varenna1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640" y="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AR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800px-Varenna_2004_07_09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8640" y="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AR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800px-Brusimpianio_Italy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-51840" y="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BRUMISPIA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800px-Campioned'Itali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-75600" y="0"/>
            <a:ext cx="27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AMPIONE D’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5" descr="800px-Como1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-33840" y="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lake como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7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-9720" y="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1milan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-20520" y="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M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lakeMaggiore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-7200" y="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MAGGI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Mantua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-11160" y="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ANT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800px-Mantova_-_Houses_on_canal_2004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75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-11160" y="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MANT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3" descr="800px-Concarena_Giarell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-6840" y="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ONC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800px-Cremona_Duom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-10080" y="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CREM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3" descr="800px-Menaggio_Lago_di_Com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-31680" y="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EN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800px-Italia-Menaggio-ferry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-31680" y="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EN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798px-Lake Como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912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-9720" y="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800pxlake como-Villa_del_Balbianell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-18360" y="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ILLA DEL BALBIANELLO – 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800px-Villa_Carlotta_-_Lake_Como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0" y="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VILLA CARLOTTA – 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12milan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-20520" y="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M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800px-Lake_Como_-_Villa_d'Este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8280" y="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VILLA D’ESTE – LAK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800px-lake-Iseo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75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25920" y="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I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800px-Lecco_dai_Piani_d'Erna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-3600" y="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E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3" descr="800px-Porlezza_Lago_di_Lugano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84960" y="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PORL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3" descr="800px-Lake_Garda000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744920" y="500040"/>
            <a:ext cx="539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c00000"/>
                </a:solidFill>
                <a:latin typeface="Bradley Hand ITC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144360" y="6143760"/>
            <a:ext cx="89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00000"/>
                </a:solidFill>
                <a:latin typeface="Bradley Hand ITC"/>
              </a:rPr>
              <a:t>You Can Keep Listening To The Music Or Press ‘Esc’ To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3774600" y="20718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00000"/>
                </a:solidFill>
                <a:latin typeface="Bradley Hand ITC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850120" y="28576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00000"/>
                </a:solidFill>
                <a:latin typeface="Bradley Hand ITC"/>
              </a:rPr>
              <a:t>PATRIZIO BU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876MilanoDuomo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-20520" y="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milancentralstation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-6480" y="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MILAN CENTRAL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Cuggiono-San Giogio.jpg"/>
          <p:cNvPicPr/>
          <p:nvPr/>
        </p:nvPicPr>
        <p:blipFill>
          <a:blip r:embed="rId1"/>
          <a:stretch/>
        </p:blipFill>
        <p:spPr>
          <a:xfrm>
            <a:off x="0" y="-17640"/>
            <a:ext cx="9155160" cy="6946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-50040" y="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Bradley Hand ITC"/>
              </a:rPr>
              <a:t>CUGG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798px-LakeGarda1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800px-LakeGarda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800px-Punta_San_Vigilio-LakeGarda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29160" y="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00000"/>
                </a:solidFill>
                <a:latin typeface="Bradley Hand ITC"/>
              </a:rPr>
              <a:t>LAKE G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2:06:42Z</dcterms:created>
  <dc:creator>John</dc:creator>
  <dc:description/>
  <dc:language>en-US</dc:language>
  <cp:lastModifiedBy>Noica</cp:lastModifiedBy>
  <dcterms:modified xsi:type="dcterms:W3CDTF">2009-06-17T20:21:15Z</dcterms:modified>
  <cp:revision>11</cp:revision>
  <dc:subject/>
  <dc:title>Lombardy Region - Italy</dc:title>
</cp:coreProperties>
</file>