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F175-AB1D-456C-A03B-D3002F7C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9C4-0C62-4134-9CB8-CFD99515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4908-F214-4C05-BD6F-2FD9A879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319-281B-4669-8F71-D5240347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0427-D783-4C5C-AF16-57BB81E6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CC2-4D62-4D36-8E8E-A9B41B93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9E6-E0EE-4B59-B3F3-2C32CF72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0E6-4110-4BE8-A32C-615C55F4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CFD-379F-4BD4-9295-6CEDD79A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62D-EF77-4C7C-9D3F-DD8CD781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6B76-8BCE-440E-8281-F4554DC7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B53-DE7A-4590-A0AD-CA20B484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5233-B60E-43F9-A8C9-2CE16F40B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7:38:01Z</dcterms:created>
  <dc:creator>ALEX</dc:creator>
  <dc:description/>
  <dc:language>en-US</dc:language>
  <cp:lastModifiedBy>ALEX</cp:lastModifiedBy>
  <dcterms:modified xsi:type="dcterms:W3CDTF">2006-02-01T17:48:05Z</dcterms:modified>
  <cp:revision>2</cp:revision>
  <dc:subject/>
  <dc:title>Presentación de PowerPoint</dc:title>
</cp:coreProperties>
</file>