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B26-0246-43E2-A92D-062061E6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85A-6C26-408C-BD3C-3EF3CA3A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80A-1FCA-4A9C-B342-A6778203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FAA-3AF8-46F6-B60B-5204A2BA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010-3ED5-4430-9923-E1EBC463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6A8-7D81-409C-8923-6F377545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7B5-92BA-408E-B4CA-5573C59C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27E-535A-4B6E-8D2E-D3719A95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86C-09B6-4124-8E4F-C1C247A0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255-CC64-4437-ADC6-67056AFA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7E1-A00D-415C-8AB6-22C3AD5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B01-3C12-4381-A59A-E9AA8113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83B-45E5-45D7-AB0D-1E281ED44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7:38:01Z</dcterms:created>
  <dc:creator>ALEX</dc:creator>
  <dc:description/>
  <dc:language>en-US</dc:language>
  <cp:lastModifiedBy>ALEX</cp:lastModifiedBy>
  <dcterms:modified xsi:type="dcterms:W3CDTF">2006-02-01T17:48:05Z</dcterms:modified>
  <cp:revision>2</cp:revision>
  <dc:subject/>
  <dc:title>Presentación de PowerPoint</dc:title>
</cp:coreProperties>
</file>