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%20cinta%20amarill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071-E694-43AC-BBA2-5C711309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548-692F-42D5-B326-5A8AF3BE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342-9649-40A7-9F67-ADAF5824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2FA-0DEC-4E82-98B3-851DF5A7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E93A-312E-4B83-A27B-BE92ED97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9EA3-3DEC-4B0A-8F00-D73BCA7E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0B55-D95B-4DDD-9CCA-46EAE0F5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C679-BF69-4404-9178-78FDC4CA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96E-43BA-4CF3-A96D-2B0D9EEF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BE9E-02EE-4410-90AC-81660DBB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8D7F-453C-4F69-8E04-180B1461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3EC-3ABF-4315-8301-84C4B52C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F192-4D0D-4FB4-B8E3-39C3EC0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1E11-C737-4BBA-9FA2-578B4AF6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A542-CFAA-4695-B900-85B0851D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754C-B670-44C2-9670-2E7066EC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0C3E-AB2C-4689-9E07-784BE83E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C2C-FE28-499B-ACCF-046840D2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6B9-2A26-44ED-A431-D856504B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762-1EF9-49E4-B187-F3971224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A56-2817-4CDD-81A6-01022A75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C98-31D4-4E39-AB55-F83AAE55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2B4-469D-408C-909F-D6775D43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261-E699-4CA5-9796-34ED5F9F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5107-E208-4FA2-A115-18B1DC12B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BF8B-6B09-405D-A803-EFB138BAD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%20cinta%20amarilla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720" y="1523880"/>
            <a:ext cx="4859280" cy="4114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66"/>
                </a:solidFill>
                <a:latin typeface="Arial"/>
              </a:rPr>
              <a:t>ha anunciado que un nuevo virus ha sido descubierto recientemente...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58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800" spc="-1" strike="noStrike">
                <a:solidFill>
                  <a:srgbClr val="000066"/>
                </a:solidFill>
                <a:latin typeface="Arial Black"/>
              </a:rPr>
              <a:t>CNN</a:t>
            </a:r>
            <a:r>
              <a:rPr b="0" lang="es-AR" sz="4800" spc="-1" strike="noStrike">
                <a:solidFill>
                  <a:srgbClr val="6699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04920"/>
            <a:ext cx="358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800" spc="-1" strike="noStrike">
                <a:solidFill>
                  <a:srgbClr val="cc66ff"/>
                </a:solidFill>
                <a:latin typeface="Arial Black"/>
              </a:rPr>
              <a:t>CNN</a:t>
            </a:r>
            <a:r>
              <a:rPr b="0" lang="es-AR" sz="4800" spc="-1" strike="noStrike">
                <a:solidFill>
                  <a:srgbClr val="cc66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685800"/>
            <a:ext cx="358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800" spc="-1" strike="noStrike">
                <a:solidFill>
                  <a:srgbClr val="ffffff"/>
                </a:solidFill>
                <a:latin typeface="Arial Black"/>
              </a:rPr>
              <a:t>CNN</a:t>
            </a: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  <p:sndAc>
      <p:stSnd>
        <p:snd r:embed="rId1" name="La%20cinta%20amarill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1400" y="685800"/>
            <a:ext cx="7086600" cy="320040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UNA PERSONA SE LO PUEDE TRANSMITIR A MILLONES MÁS PORQUE ES MUY CONTAGIOSO.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EL CENTRO DE SALUD ANUNCIÓ ESTA SEMANA QUE SE PASA MUY RÁPIDO DE UNA PERSONA A OTR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98880" y="4064040"/>
            <a:ext cx="1182600" cy="2488320"/>
            <a:chOff x="3998880" y="4064040"/>
            <a:chExt cx="1182600" cy="2488320"/>
          </a:xfrm>
        </p:grpSpPr>
        <p:grpSp>
          <p:nvGrpSpPr>
            <p:cNvPr id="105" name=""/>
            <p:cNvGrpSpPr/>
            <p:nvPr/>
          </p:nvGrpSpPr>
          <p:grpSpPr>
            <a:xfrm>
              <a:off x="3998880" y="4835160"/>
              <a:ext cx="1182600" cy="1717200"/>
              <a:chOff x="3998880" y="4835160"/>
              <a:chExt cx="1182600" cy="1717200"/>
            </a:xfrm>
          </p:grpSpPr>
          <p:sp>
            <p:nvSpPr>
              <p:cNvPr id="106" name=""/>
              <p:cNvSpPr/>
              <p:nvPr/>
            </p:nvSpPr>
            <p:spPr>
              <a:xfrm>
                <a:off x="4201920" y="4835160"/>
                <a:ext cx="792360" cy="3711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998880" y="5076360"/>
                <a:ext cx="1182600" cy="14760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00320" y="4835160"/>
                <a:ext cx="435240" cy="59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41560" y="4838040"/>
                <a:ext cx="438120" cy="59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267080" y="4064040"/>
              <a:ext cx="642960" cy="71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55880" y="4140360"/>
            <a:ext cx="1106640" cy="2412000"/>
            <a:chOff x="2855880" y="4140360"/>
            <a:chExt cx="1106640" cy="2412000"/>
          </a:xfrm>
        </p:grpSpPr>
        <p:grpSp>
          <p:nvGrpSpPr>
            <p:cNvPr id="112" name=""/>
            <p:cNvGrpSpPr/>
            <p:nvPr/>
          </p:nvGrpSpPr>
          <p:grpSpPr>
            <a:xfrm>
              <a:off x="2855880" y="4887720"/>
              <a:ext cx="1106640" cy="1664640"/>
              <a:chOff x="2855880" y="4887720"/>
              <a:chExt cx="1106640" cy="1664640"/>
            </a:xfrm>
          </p:grpSpPr>
          <p:sp>
            <p:nvSpPr>
              <p:cNvPr id="113" name=""/>
              <p:cNvSpPr/>
              <p:nvPr/>
            </p:nvSpPr>
            <p:spPr>
              <a:xfrm>
                <a:off x="3045600" y="4887720"/>
                <a:ext cx="741240" cy="3600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55880" y="5121720"/>
                <a:ext cx="1106640" cy="143064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56960" y="4887720"/>
                <a:ext cx="40716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510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106800" y="4140360"/>
              <a:ext cx="601560" cy="69084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12880" y="4368960"/>
            <a:ext cx="1030320" cy="2183400"/>
            <a:chOff x="1712880" y="4368960"/>
            <a:chExt cx="1030320" cy="2183400"/>
          </a:xfrm>
        </p:grpSpPr>
        <p:grpSp>
          <p:nvGrpSpPr>
            <p:cNvPr id="119" name=""/>
            <p:cNvGrpSpPr/>
            <p:nvPr/>
          </p:nvGrpSpPr>
          <p:grpSpPr>
            <a:xfrm>
              <a:off x="1712880" y="5045760"/>
              <a:ext cx="1030320" cy="1506600"/>
              <a:chOff x="1712880" y="5045760"/>
              <a:chExt cx="1030320" cy="1506600"/>
            </a:xfrm>
          </p:grpSpPr>
          <p:sp>
            <p:nvSpPr>
              <p:cNvPr id="120" name=""/>
              <p:cNvSpPr/>
              <p:nvPr/>
            </p:nvSpPr>
            <p:spPr>
              <a:xfrm>
                <a:off x="1889640" y="5045760"/>
                <a:ext cx="690120" cy="3258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2880" y="5257440"/>
                <a:ext cx="1030320" cy="12949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13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6016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6520" y="4368960"/>
              <a:ext cx="560160" cy="62532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6200" y="4597560"/>
            <a:ext cx="877680" cy="1955160"/>
            <a:chOff x="646200" y="4597560"/>
            <a:chExt cx="877680" cy="1955160"/>
          </a:xfrm>
        </p:grpSpPr>
        <p:grpSp>
          <p:nvGrpSpPr>
            <p:cNvPr id="126" name=""/>
            <p:cNvGrpSpPr/>
            <p:nvPr/>
          </p:nvGrpSpPr>
          <p:grpSpPr>
            <a:xfrm>
              <a:off x="646200" y="5203440"/>
              <a:ext cx="877680" cy="1349280"/>
              <a:chOff x="646200" y="5203440"/>
              <a:chExt cx="877680" cy="1349280"/>
            </a:xfrm>
          </p:grpSpPr>
          <p:sp>
            <p:nvSpPr>
              <p:cNvPr id="127" name=""/>
              <p:cNvSpPr/>
              <p:nvPr/>
            </p:nvSpPr>
            <p:spPr>
              <a:xfrm>
                <a:off x="796680" y="5203440"/>
                <a:ext cx="587880" cy="2916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6200" y="5393160"/>
                <a:ext cx="877680" cy="115956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692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9736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844920" y="4597560"/>
              <a:ext cx="477000" cy="55980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217840" y="4140360"/>
            <a:ext cx="1106280" cy="2412000"/>
            <a:chOff x="5217840" y="4140360"/>
            <a:chExt cx="1106280" cy="2412000"/>
          </a:xfrm>
        </p:grpSpPr>
        <p:grpSp>
          <p:nvGrpSpPr>
            <p:cNvPr id="133" name=""/>
            <p:cNvGrpSpPr/>
            <p:nvPr/>
          </p:nvGrpSpPr>
          <p:grpSpPr>
            <a:xfrm>
              <a:off x="5217840" y="4887720"/>
              <a:ext cx="1106280" cy="1664640"/>
              <a:chOff x="5217840" y="4887720"/>
              <a:chExt cx="1106280" cy="1664640"/>
            </a:xfrm>
          </p:grpSpPr>
          <p:sp>
            <p:nvSpPr>
              <p:cNvPr id="134" name=""/>
              <p:cNvSpPr/>
              <p:nvPr/>
            </p:nvSpPr>
            <p:spPr>
              <a:xfrm flipH="1">
                <a:off x="5392800" y="4887720"/>
                <a:ext cx="741240" cy="3600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5217480" y="5121720"/>
                <a:ext cx="1106280" cy="143064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5916240" y="4887720"/>
                <a:ext cx="40644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52196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5472360" y="4140360"/>
              <a:ext cx="601200" cy="69084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37160" y="4368960"/>
            <a:ext cx="1030320" cy="2183400"/>
            <a:chOff x="6437160" y="4368960"/>
            <a:chExt cx="1030320" cy="2183400"/>
          </a:xfrm>
        </p:grpSpPr>
        <p:grpSp>
          <p:nvGrpSpPr>
            <p:cNvPr id="140" name=""/>
            <p:cNvGrpSpPr/>
            <p:nvPr/>
          </p:nvGrpSpPr>
          <p:grpSpPr>
            <a:xfrm>
              <a:off x="6437160" y="5045760"/>
              <a:ext cx="1030320" cy="1506600"/>
              <a:chOff x="6437160" y="5045760"/>
              <a:chExt cx="1030320" cy="150660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6600240" y="5045760"/>
                <a:ext cx="690120" cy="3258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437160" y="5257440"/>
                <a:ext cx="1030320" cy="12949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086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643860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H="1">
              <a:off x="6673680" y="4368960"/>
              <a:ext cx="560160" cy="62532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656120" y="4597560"/>
            <a:ext cx="878040" cy="1955160"/>
            <a:chOff x="7656120" y="4597560"/>
            <a:chExt cx="878040" cy="1955160"/>
          </a:xfrm>
        </p:grpSpPr>
        <p:grpSp>
          <p:nvGrpSpPr>
            <p:cNvPr id="147" name=""/>
            <p:cNvGrpSpPr/>
            <p:nvPr/>
          </p:nvGrpSpPr>
          <p:grpSpPr>
            <a:xfrm>
              <a:off x="7656120" y="5203440"/>
              <a:ext cx="878040" cy="1349280"/>
              <a:chOff x="7656120" y="5203440"/>
              <a:chExt cx="878040" cy="134928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7795440" y="5203440"/>
                <a:ext cx="588240" cy="2916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655760" y="5393160"/>
                <a:ext cx="878040" cy="115956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821016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765720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flipH="1">
              <a:off x="7857720" y="4597560"/>
              <a:ext cx="477360" cy="55980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98880" y="4064040"/>
            <a:ext cx="1182600" cy="2488320"/>
            <a:chOff x="3998880" y="4064040"/>
            <a:chExt cx="1182600" cy="2488320"/>
          </a:xfrm>
        </p:grpSpPr>
        <p:grpSp>
          <p:nvGrpSpPr>
            <p:cNvPr id="154" name=""/>
            <p:cNvGrpSpPr/>
            <p:nvPr/>
          </p:nvGrpSpPr>
          <p:grpSpPr>
            <a:xfrm>
              <a:off x="3998880" y="4835160"/>
              <a:ext cx="1182600" cy="1717200"/>
              <a:chOff x="3998880" y="4835160"/>
              <a:chExt cx="1182600" cy="1717200"/>
            </a:xfrm>
          </p:grpSpPr>
          <p:sp>
            <p:nvSpPr>
              <p:cNvPr id="155" name=""/>
              <p:cNvSpPr/>
              <p:nvPr/>
            </p:nvSpPr>
            <p:spPr>
              <a:xfrm>
                <a:off x="4201920" y="4835160"/>
                <a:ext cx="792360" cy="371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98880" y="5076360"/>
                <a:ext cx="1182600" cy="1476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00320" y="4835160"/>
                <a:ext cx="435240" cy="59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41560" y="4838040"/>
                <a:ext cx="438120" cy="59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267080" y="4064040"/>
              <a:ext cx="642960" cy="7124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55880" y="4140360"/>
            <a:ext cx="1106640" cy="2412000"/>
            <a:chOff x="2855880" y="4140360"/>
            <a:chExt cx="1106640" cy="2412000"/>
          </a:xfrm>
        </p:grpSpPr>
        <p:grpSp>
          <p:nvGrpSpPr>
            <p:cNvPr id="161" name=""/>
            <p:cNvGrpSpPr/>
            <p:nvPr/>
          </p:nvGrpSpPr>
          <p:grpSpPr>
            <a:xfrm>
              <a:off x="2855880" y="4887720"/>
              <a:ext cx="1106640" cy="1664640"/>
              <a:chOff x="2855880" y="4887720"/>
              <a:chExt cx="1106640" cy="166464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5600" y="4887720"/>
                <a:ext cx="741240" cy="360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55880" y="5121720"/>
                <a:ext cx="1106640" cy="1430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56960" y="4887720"/>
                <a:ext cx="40716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510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06800" y="4140360"/>
              <a:ext cx="601560" cy="6908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712880" y="4368960"/>
            <a:ext cx="1030320" cy="2183400"/>
            <a:chOff x="1712880" y="4368960"/>
            <a:chExt cx="1030320" cy="2183400"/>
          </a:xfrm>
        </p:grpSpPr>
        <p:grpSp>
          <p:nvGrpSpPr>
            <p:cNvPr id="168" name=""/>
            <p:cNvGrpSpPr/>
            <p:nvPr/>
          </p:nvGrpSpPr>
          <p:grpSpPr>
            <a:xfrm>
              <a:off x="1712880" y="5045760"/>
              <a:ext cx="1030320" cy="1506600"/>
              <a:chOff x="1712880" y="5045760"/>
              <a:chExt cx="1030320" cy="1506600"/>
            </a:xfrm>
          </p:grpSpPr>
          <p:sp>
            <p:nvSpPr>
              <p:cNvPr id="169" name=""/>
              <p:cNvSpPr/>
              <p:nvPr/>
            </p:nvSpPr>
            <p:spPr>
              <a:xfrm>
                <a:off x="1889640" y="5045760"/>
                <a:ext cx="690120" cy="3258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12880" y="5257440"/>
                <a:ext cx="1030320" cy="12949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13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6016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1946520" y="4368960"/>
              <a:ext cx="560160" cy="625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46200" y="4597560"/>
            <a:ext cx="877680" cy="1955160"/>
            <a:chOff x="646200" y="4597560"/>
            <a:chExt cx="877680" cy="1955160"/>
          </a:xfrm>
        </p:grpSpPr>
        <p:grpSp>
          <p:nvGrpSpPr>
            <p:cNvPr id="175" name=""/>
            <p:cNvGrpSpPr/>
            <p:nvPr/>
          </p:nvGrpSpPr>
          <p:grpSpPr>
            <a:xfrm>
              <a:off x="646200" y="5203440"/>
              <a:ext cx="877680" cy="1349280"/>
              <a:chOff x="646200" y="5203440"/>
              <a:chExt cx="877680" cy="1349280"/>
            </a:xfrm>
          </p:grpSpPr>
          <p:sp>
            <p:nvSpPr>
              <p:cNvPr id="176" name=""/>
              <p:cNvSpPr/>
              <p:nvPr/>
            </p:nvSpPr>
            <p:spPr>
              <a:xfrm>
                <a:off x="796680" y="5203440"/>
                <a:ext cx="587880" cy="291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6200" y="5393160"/>
                <a:ext cx="877680" cy="1159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692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9736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844920" y="4597560"/>
              <a:ext cx="477000" cy="559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217840" y="4140360"/>
            <a:ext cx="1106280" cy="2412000"/>
            <a:chOff x="5217840" y="4140360"/>
            <a:chExt cx="1106280" cy="2412000"/>
          </a:xfrm>
        </p:grpSpPr>
        <p:grpSp>
          <p:nvGrpSpPr>
            <p:cNvPr id="182" name=""/>
            <p:cNvGrpSpPr/>
            <p:nvPr/>
          </p:nvGrpSpPr>
          <p:grpSpPr>
            <a:xfrm>
              <a:off x="5217840" y="4887720"/>
              <a:ext cx="1106280" cy="1664640"/>
              <a:chOff x="5217840" y="4887720"/>
              <a:chExt cx="1106280" cy="1664640"/>
            </a:xfrm>
          </p:grpSpPr>
          <p:sp>
            <p:nvSpPr>
              <p:cNvPr id="183" name=""/>
              <p:cNvSpPr/>
              <p:nvPr/>
            </p:nvSpPr>
            <p:spPr>
              <a:xfrm flipH="1">
                <a:off x="5392800" y="4887720"/>
                <a:ext cx="741240" cy="360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217480" y="5121720"/>
                <a:ext cx="1106280" cy="1430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916240" y="4887720"/>
                <a:ext cx="40644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2196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>
              <a:off x="5472360" y="4140360"/>
              <a:ext cx="601200" cy="6908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437160" y="4368960"/>
            <a:ext cx="1030320" cy="2183400"/>
            <a:chOff x="6437160" y="4368960"/>
            <a:chExt cx="1030320" cy="2183400"/>
          </a:xfrm>
        </p:grpSpPr>
        <p:grpSp>
          <p:nvGrpSpPr>
            <p:cNvPr id="189" name=""/>
            <p:cNvGrpSpPr/>
            <p:nvPr/>
          </p:nvGrpSpPr>
          <p:grpSpPr>
            <a:xfrm>
              <a:off x="6437160" y="5045760"/>
              <a:ext cx="1030320" cy="1506600"/>
              <a:chOff x="6437160" y="5045760"/>
              <a:chExt cx="1030320" cy="1506600"/>
            </a:xfrm>
          </p:grpSpPr>
          <p:sp>
            <p:nvSpPr>
              <p:cNvPr id="190" name=""/>
              <p:cNvSpPr/>
              <p:nvPr/>
            </p:nvSpPr>
            <p:spPr>
              <a:xfrm flipH="1">
                <a:off x="6600240" y="5045760"/>
                <a:ext cx="690120" cy="3258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437160" y="5257440"/>
                <a:ext cx="1030320" cy="12949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7086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643860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6673680" y="4368960"/>
              <a:ext cx="560160" cy="625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656120" y="4597560"/>
            <a:ext cx="878040" cy="1955160"/>
            <a:chOff x="7656120" y="4597560"/>
            <a:chExt cx="878040" cy="1955160"/>
          </a:xfrm>
        </p:grpSpPr>
        <p:grpSp>
          <p:nvGrpSpPr>
            <p:cNvPr id="196" name=""/>
            <p:cNvGrpSpPr/>
            <p:nvPr/>
          </p:nvGrpSpPr>
          <p:grpSpPr>
            <a:xfrm>
              <a:off x="7656120" y="5203440"/>
              <a:ext cx="878040" cy="1349280"/>
              <a:chOff x="7656120" y="5203440"/>
              <a:chExt cx="878040" cy="134928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7795440" y="5203440"/>
                <a:ext cx="588240" cy="291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7655760" y="5393160"/>
                <a:ext cx="878040" cy="1159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821016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765720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7857720" y="4597560"/>
              <a:ext cx="477360" cy="559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600"/>
                            </p:stCondLst>
                            <p:childTnLst>
                              <p:par>
                                <p:cTn id="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100"/>
                            </p:stCondLst>
                            <p:childTnLst>
                              <p:par>
                                <p:cTn id="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600"/>
                            </p:stCondLst>
                            <p:childTnLst>
                              <p:par>
                                <p:cTn id="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10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600"/>
                            </p:stCondLst>
                            <p:childTnLst>
                              <p:par>
                                <p:cTn id="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1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6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1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600"/>
                            </p:stCondLst>
                            <p:childTnLst>
                              <p:par>
                                <p:cTn id="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10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60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1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600"/>
                            </p:stCondLst>
                            <p:childTnLst>
                              <p:par>
                                <p:cTn id="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1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88600" y="304560"/>
            <a:ext cx="6172200" cy="14475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E HAN DADO UN NOMBRE MUY INTERESANTE A ESTE VIRUS.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SE LLAMA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19520" y="1752480"/>
            <a:ext cx="3085920" cy="3962520"/>
            <a:chOff x="2819520" y="1752480"/>
            <a:chExt cx="3085920" cy="3962520"/>
          </a:xfrm>
        </p:grpSpPr>
        <p:sp>
          <p:nvSpPr>
            <p:cNvPr id="204" name=""/>
            <p:cNvSpPr/>
            <p:nvPr/>
          </p:nvSpPr>
          <p:spPr>
            <a:xfrm>
              <a:off x="3349800" y="3768840"/>
              <a:ext cx="2066760" cy="969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24200" y="3768840"/>
              <a:ext cx="1132920" cy="155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6"/>
                  </a:moveTo>
                  <a:arcTo wR="10800" hR="10800" stAng="-10754288" swAng="52813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6"/>
                  </a:moveTo>
                  <a:arcTo wR="10800" hR="10800" stAng="-10754288" swAng="5281349"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57400" y="3776760"/>
              <a:ext cx="11430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7" y="0"/>
                  </a:moveTo>
                  <a:arcTo wR="10800" hR="10800" stAng="-5381852" swAng="535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7" y="0"/>
                  </a:moveTo>
                  <a:arcTo wR="10800" hR="10800" stAng="-5381852" swAng="5351007"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819520" y="1752480"/>
              <a:ext cx="3085920" cy="3962520"/>
              <a:chOff x="2819520" y="1752480"/>
              <a:chExt cx="3085920" cy="3962520"/>
            </a:xfrm>
          </p:grpSpPr>
          <p:sp>
            <p:nvSpPr>
              <p:cNvPr id="208" name=""/>
              <p:cNvSpPr/>
              <p:nvPr/>
            </p:nvSpPr>
            <p:spPr>
              <a:xfrm>
                <a:off x="2819520" y="4398840"/>
                <a:ext cx="3085920" cy="1316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05320" y="1752480"/>
                <a:ext cx="1692000" cy="1981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3780000" y="2286000"/>
              <a:ext cx="1143000" cy="129528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62520" y="2209680"/>
              <a:ext cx="2286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95680" y="2209680"/>
              <a:ext cx="2286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1295280" y="3736800"/>
            <a:ext cx="6096240" cy="312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50000">
                      <a:srgbClr val="ffff00"/>
                    </a:gs>
                    <a:gs pos="100000">
                      <a:srgbClr val="cc00ff"/>
                    </a:gs>
                  </a:gsLst>
                  <a:lin ang="10800000"/>
                </a:gradFill>
                <a:latin typeface="Impact"/>
              </a:rPr>
              <a:t>SONRISA</a:t>
            </a:r>
            <a:endParaRPr b="0" lang="en-US" sz="2400" spc="1" strike="noStrike">
              <a:ln w="381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50000">
                    <a:srgbClr val="ffff00"/>
                  </a:gs>
                  <a:gs pos="100000">
                    <a:srgbClr val="cc00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p:transition spd="med" advTm="2000"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2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700"/>
                            </p:stCondLst>
                            <p:childTnLst>
                              <p:par>
                                <p:cTn id="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19320" y="0"/>
            <a:ext cx="6476760" cy="685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286000" y="1600200"/>
            <a:ext cx="4375080" cy="4747680"/>
            <a:chOff x="2286000" y="1600200"/>
            <a:chExt cx="4375080" cy="4747680"/>
          </a:xfrm>
        </p:grpSpPr>
        <p:sp>
          <p:nvSpPr>
            <p:cNvPr id="216" name=""/>
            <p:cNvSpPr/>
            <p:nvPr/>
          </p:nvSpPr>
          <p:spPr>
            <a:xfrm flipV="1">
              <a:off x="2286000" y="1863360"/>
              <a:ext cx="4375080" cy="448416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84400" y="1600200"/>
              <a:ext cx="874800" cy="1582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25960" y="1600200"/>
              <a:ext cx="874800" cy="1582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8892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 Black"/>
              </a:rPr>
              <a:t>¡OH NO! </a:t>
            </a:r>
            <a:br>
              <a:rPr sz="4800"/>
            </a:br>
            <a:r>
              <a:rPr b="0" lang="es-AR" sz="4800" spc="-1" strike="noStrike">
                <a:solidFill>
                  <a:srgbClr val="ffffff"/>
                </a:solidFill>
                <a:latin typeface="Arial Black"/>
              </a:rPr>
              <a:t>¡DEMASIADO TARDE! </a:t>
            </a:r>
            <a:br>
              <a:rPr sz="4800"/>
            </a:br>
            <a:r>
              <a:rPr b="0" lang="es-AR" sz="4800" spc="-1" strike="noStrike">
                <a:solidFill>
                  <a:srgbClr val="ffffff"/>
                </a:solidFill>
                <a:latin typeface="Arial Black"/>
              </a:rPr>
              <a:t>¡YA LA VEO EN TU CARA!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4579920"/>
            <a:ext cx="662940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66"/>
                </a:solidFill>
                <a:latin typeface="Arial"/>
              </a:rPr>
              <a:t>¡YA TIENES EL VIRUS!</a:t>
            </a:r>
            <a:br>
              <a:rPr sz="4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400"/>
                            </p:stCondLst>
                            <p:childTnLst>
                              <p:par>
                                <p:cTn id="10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4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ff0066"/>
                </a:solidFill>
                <a:latin typeface="Arial Black"/>
              </a:rPr>
              <a:t>¡ALERTA!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038480" y="-304920"/>
            <a:ext cx="3656880" cy="4038120"/>
            <a:chOff x="4038480" y="-304920"/>
            <a:chExt cx="3656880" cy="4038120"/>
          </a:xfrm>
        </p:grpSpPr>
        <p:sp>
          <p:nvSpPr>
            <p:cNvPr id="223" name=""/>
            <p:cNvSpPr/>
            <p:nvPr/>
          </p:nvSpPr>
          <p:spPr>
            <a:xfrm>
              <a:off x="4038480" y="-304920"/>
              <a:ext cx="3656880" cy="4038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632120" y="781200"/>
              <a:ext cx="2470320" cy="263988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26680" y="626760"/>
              <a:ext cx="493920" cy="93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9040" y="626760"/>
              <a:ext cx="493920" cy="93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952880" y="2514600"/>
            <a:ext cx="4190400" cy="4342680"/>
            <a:chOff x="4952880" y="2514600"/>
            <a:chExt cx="4190400" cy="4342680"/>
          </a:xfrm>
        </p:grpSpPr>
        <p:sp>
          <p:nvSpPr>
            <p:cNvPr id="228" name=""/>
            <p:cNvSpPr/>
            <p:nvPr/>
          </p:nvSpPr>
          <p:spPr>
            <a:xfrm>
              <a:off x="4952880" y="2514600"/>
              <a:ext cx="4190400" cy="434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632920" y="3683880"/>
              <a:ext cx="2830680" cy="283896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85080" y="3516480"/>
              <a:ext cx="565920" cy="10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05560" y="3516480"/>
              <a:ext cx="565920" cy="10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1447920"/>
            <a:ext cx="3885480" cy="3961800"/>
            <a:chOff x="1523880" y="1447920"/>
            <a:chExt cx="3885480" cy="3961800"/>
          </a:xfrm>
        </p:grpSpPr>
        <p:sp>
          <p:nvSpPr>
            <p:cNvPr id="233" name=""/>
            <p:cNvSpPr/>
            <p:nvPr/>
          </p:nvSpPr>
          <p:spPr>
            <a:xfrm>
              <a:off x="1523880" y="1447920"/>
              <a:ext cx="3885480" cy="39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154600" y="2514600"/>
              <a:ext cx="2624760" cy="258984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73640" y="2361960"/>
              <a:ext cx="5248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98000" y="2361960"/>
              <a:ext cx="5248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095880" y="0"/>
            <a:ext cx="3047760" cy="3352320"/>
            <a:chOff x="6095880" y="0"/>
            <a:chExt cx="3047760" cy="3352320"/>
          </a:xfrm>
        </p:grpSpPr>
        <p:sp>
          <p:nvSpPr>
            <p:cNvPr id="238" name=""/>
            <p:cNvSpPr/>
            <p:nvPr/>
          </p:nvSpPr>
          <p:spPr>
            <a:xfrm>
              <a:off x="6095880" y="0"/>
              <a:ext cx="3047760" cy="335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590520" y="901440"/>
              <a:ext cx="2058840" cy="21913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1920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7968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848720" y="2590920"/>
            <a:ext cx="1295280" cy="1295280"/>
            <a:chOff x="7848720" y="2590920"/>
            <a:chExt cx="1295280" cy="1295280"/>
          </a:xfrm>
        </p:grpSpPr>
        <p:sp>
          <p:nvSpPr>
            <p:cNvPr id="243" name=""/>
            <p:cNvSpPr/>
            <p:nvPr/>
          </p:nvSpPr>
          <p:spPr>
            <a:xfrm>
              <a:off x="7848720" y="25909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058960" y="293940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9864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0688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0" y="0"/>
            <a:ext cx="3047760" cy="3352320"/>
            <a:chOff x="0" y="0"/>
            <a:chExt cx="3047760" cy="3352320"/>
          </a:xfrm>
        </p:grpSpPr>
        <p:sp>
          <p:nvSpPr>
            <p:cNvPr id="248" name=""/>
            <p:cNvSpPr/>
            <p:nvPr/>
          </p:nvSpPr>
          <p:spPr>
            <a:xfrm>
              <a:off x="0" y="0"/>
              <a:ext cx="3047760" cy="335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94640" y="901440"/>
              <a:ext cx="2058840" cy="21913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332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8380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71800" y="4114800"/>
            <a:ext cx="2590560" cy="2742840"/>
            <a:chOff x="2971800" y="4114800"/>
            <a:chExt cx="2590560" cy="2742840"/>
          </a:xfrm>
        </p:grpSpPr>
        <p:sp>
          <p:nvSpPr>
            <p:cNvPr id="253" name=""/>
            <p:cNvSpPr/>
            <p:nvPr/>
          </p:nvSpPr>
          <p:spPr>
            <a:xfrm>
              <a:off x="2971800" y="4114800"/>
              <a:ext cx="2590560" cy="2742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392280" y="4853160"/>
              <a:ext cx="1749960" cy="17928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71640" y="4747680"/>
              <a:ext cx="34992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88120" y="4747680"/>
              <a:ext cx="34992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438280" y="0"/>
            <a:ext cx="2133360" cy="2361960"/>
            <a:chOff x="2438280" y="0"/>
            <a:chExt cx="2133360" cy="2361960"/>
          </a:xfrm>
        </p:grpSpPr>
        <p:sp>
          <p:nvSpPr>
            <p:cNvPr id="258" name=""/>
            <p:cNvSpPr/>
            <p:nvPr/>
          </p:nvSpPr>
          <p:spPr>
            <a:xfrm>
              <a:off x="2438280" y="0"/>
              <a:ext cx="2133360" cy="2361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784600" y="634680"/>
              <a:ext cx="1441080" cy="154404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4640" y="545040"/>
              <a:ext cx="288000" cy="54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87120" y="545040"/>
              <a:ext cx="288000" cy="54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0" y="4114800"/>
            <a:ext cx="2514240" cy="2742840"/>
            <a:chOff x="0" y="4114800"/>
            <a:chExt cx="2514240" cy="2742840"/>
          </a:xfrm>
        </p:grpSpPr>
        <p:sp>
          <p:nvSpPr>
            <p:cNvPr id="263" name=""/>
            <p:cNvSpPr/>
            <p:nvPr/>
          </p:nvSpPr>
          <p:spPr>
            <a:xfrm>
              <a:off x="0" y="4114800"/>
              <a:ext cx="2514240" cy="2742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07880" y="4853160"/>
              <a:ext cx="1698480" cy="17928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9320" y="4747680"/>
              <a:ext cx="33948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71680" y="4747680"/>
              <a:ext cx="33948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666880"/>
            <a:ext cx="1752120" cy="1752840"/>
            <a:chOff x="0" y="2666880"/>
            <a:chExt cx="1752120" cy="1752840"/>
          </a:xfrm>
        </p:grpSpPr>
        <p:sp>
          <p:nvSpPr>
            <p:cNvPr id="268" name=""/>
            <p:cNvSpPr/>
            <p:nvPr/>
          </p:nvSpPr>
          <p:spPr>
            <a:xfrm>
              <a:off x="0" y="2666880"/>
              <a:ext cx="1752120" cy="1752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84400" y="3138840"/>
              <a:ext cx="1183680" cy="11455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3400" y="307116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25640" y="307116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828800" y="5105520"/>
            <a:ext cx="1752120" cy="1752480"/>
            <a:chOff x="1828800" y="5105520"/>
            <a:chExt cx="1752120" cy="1752480"/>
          </a:xfrm>
        </p:grpSpPr>
        <p:sp>
          <p:nvSpPr>
            <p:cNvPr id="273" name=""/>
            <p:cNvSpPr/>
            <p:nvPr/>
          </p:nvSpPr>
          <p:spPr>
            <a:xfrm>
              <a:off x="1828800" y="510552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113200" y="5577120"/>
              <a:ext cx="1183680" cy="11455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2200" y="550980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54440" y="550980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876920" y="5562720"/>
            <a:ext cx="1295280" cy="1295280"/>
            <a:chOff x="4876920" y="5562720"/>
            <a:chExt cx="1295280" cy="1295280"/>
          </a:xfrm>
        </p:grpSpPr>
        <p:sp>
          <p:nvSpPr>
            <p:cNvPr id="278" name=""/>
            <p:cNvSpPr/>
            <p:nvPr/>
          </p:nvSpPr>
          <p:spPr>
            <a:xfrm>
              <a:off x="487692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087160" y="591120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2684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508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0" y="0"/>
            <a:ext cx="1295280" cy="1295280"/>
            <a:chOff x="0" y="0"/>
            <a:chExt cx="1295280" cy="1295280"/>
          </a:xfrm>
        </p:grpSpPr>
        <p:sp>
          <p:nvSpPr>
            <p:cNvPr id="283" name=""/>
            <p:cNvSpPr/>
            <p:nvPr/>
          </p:nvSpPr>
          <p:spPr>
            <a:xfrm>
              <a:off x="0" y="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10240" y="34812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992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816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8305920" y="5935680"/>
            <a:ext cx="838080" cy="922320"/>
            <a:chOff x="8305920" y="5935680"/>
            <a:chExt cx="838080" cy="922320"/>
          </a:xfrm>
        </p:grpSpPr>
        <p:sp>
          <p:nvSpPr>
            <p:cNvPr id="288" name=""/>
            <p:cNvSpPr/>
            <p:nvPr/>
          </p:nvSpPr>
          <p:spPr>
            <a:xfrm>
              <a:off x="8305920" y="5935680"/>
              <a:ext cx="838080" cy="92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8442000" y="6183000"/>
              <a:ext cx="565920" cy="603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32360" y="614844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796240" y="614844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305920" y="0"/>
            <a:ext cx="838080" cy="922320"/>
            <a:chOff x="8305920" y="0"/>
            <a:chExt cx="838080" cy="922320"/>
          </a:xfrm>
        </p:grpSpPr>
        <p:sp>
          <p:nvSpPr>
            <p:cNvPr id="293" name=""/>
            <p:cNvSpPr/>
            <p:nvPr/>
          </p:nvSpPr>
          <p:spPr>
            <a:xfrm>
              <a:off x="8305920" y="0"/>
              <a:ext cx="838080" cy="92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8442000" y="246960"/>
              <a:ext cx="565920" cy="603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32360" y="21276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96240" y="21276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838080" y="321300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66"/>
                </a:solidFill>
                <a:latin typeface="Arial"/>
              </a:rPr>
              <a:t>¡HAS SIDO CONTAGIADO POR UNA PERSONA QUE TE QUIERE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66"/>
                </a:solidFill>
                <a:latin typeface="Arial Black"/>
              </a:rPr>
              <a:t>TE DESEO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38080" y="1295280"/>
            <a:ext cx="1295640" cy="1295640"/>
            <a:chOff x="838080" y="1295280"/>
            <a:chExt cx="1295640" cy="1295640"/>
          </a:xfrm>
        </p:grpSpPr>
        <p:sp>
          <p:nvSpPr>
            <p:cNvPr id="300" name=""/>
            <p:cNvSpPr/>
            <p:nvPr/>
          </p:nvSpPr>
          <p:spPr>
            <a:xfrm>
              <a:off x="838080" y="1295280"/>
              <a:ext cx="1295640" cy="1295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048320" y="1644120"/>
              <a:ext cx="87516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88000" y="1594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96240" y="1594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286000" y="1295280"/>
            <a:ext cx="6858000" cy="1219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66"/>
                </a:solidFill>
                <a:latin typeface="Arial"/>
              </a:rPr>
              <a:t>SONRISAS CUANDO LA TRISTEZA TE INVAD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048120"/>
            <a:ext cx="678168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66"/>
                </a:solidFill>
                <a:latin typeface="Arial Black"/>
              </a:rPr>
              <a:t>ARCOIRIS PARA SEGUIR A LAS NUBES,</a:t>
            </a:r>
            <a:br>
              <a:rPr sz="2400"/>
            </a:br>
            <a:r>
              <a:rPr b="0" lang="es-AR" sz="2800" spc="-1" strike="noStrike">
                <a:solidFill>
                  <a:srgbClr val="000066"/>
                </a:solidFill>
                <a:latin typeface="Arial"/>
              </a:rPr>
              <a:t>RISAS QUE BESEN TUS LABI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800600"/>
            <a:ext cx="6781680" cy="129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66"/>
                </a:solidFill>
                <a:latin typeface="Arial"/>
              </a:rPr>
              <a:t>ABRAZOS GENTILES CUANDO EL ESPÍRITU NO ESTÉ EN TI</a:t>
            </a:r>
            <a:r>
              <a:rPr b="0" lang="es-AR" sz="32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086600" y="3048120"/>
            <a:ext cx="1295280" cy="1295280"/>
            <a:chOff x="7086600" y="3048120"/>
            <a:chExt cx="1295280" cy="1295280"/>
          </a:xfrm>
        </p:grpSpPr>
        <p:sp>
          <p:nvSpPr>
            <p:cNvPr id="308" name=""/>
            <p:cNvSpPr/>
            <p:nvPr/>
          </p:nvSpPr>
          <p:spPr>
            <a:xfrm>
              <a:off x="7086600" y="30481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295760" y="339732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35440" y="334656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45120" y="334656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38080" y="4724280"/>
            <a:ext cx="1295640" cy="1295640"/>
            <a:chOff x="838080" y="4724280"/>
            <a:chExt cx="1295640" cy="1295640"/>
          </a:xfrm>
        </p:grpSpPr>
        <p:sp>
          <p:nvSpPr>
            <p:cNvPr id="313" name=""/>
            <p:cNvSpPr/>
            <p:nvPr/>
          </p:nvSpPr>
          <p:spPr>
            <a:xfrm>
              <a:off x="838080" y="4724280"/>
              <a:ext cx="1295640" cy="1295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048320" y="5073120"/>
              <a:ext cx="87516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88000" y="5023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96240" y="5023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6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9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4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 flipH="1">
            <a:off x="-720" y="609480"/>
            <a:ext cx="7162920" cy="1219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66"/>
                </a:solidFill>
                <a:latin typeface="Arial"/>
              </a:rPr>
              <a:t>AMIGOS QUE ILUMINEN TU SER, </a:t>
            </a:r>
            <a:r>
              <a:rPr b="0" lang="es-AR" sz="2800" spc="-1" strike="noStrike">
                <a:solidFill>
                  <a:srgbClr val="000066"/>
                </a:solidFill>
                <a:latin typeface="Arial"/>
              </a:rPr>
              <a:t>BELLEZA QUE TUS OJOS PUEDAN V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209680" y="2286000"/>
            <a:ext cx="6934320" cy="1828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0066"/>
                </a:solidFill>
                <a:latin typeface="Arial"/>
              </a:rPr>
              <a:t>CONFIANZA CUANDO TENGAS DUDAS,</a:t>
            </a:r>
            <a:br>
              <a:rPr sz="3600"/>
            </a:br>
            <a:r>
              <a:rPr b="1" lang="es-AR" sz="3600" spc="-1" strike="noStrike">
                <a:solidFill>
                  <a:srgbClr val="000066"/>
                </a:solidFill>
                <a:latin typeface="Arial"/>
              </a:rPr>
              <a:t>FE PARA QUE CREAS</a:t>
            </a:r>
            <a:r>
              <a:rPr b="0" lang="es-AR" sz="44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-720" y="4800600"/>
            <a:ext cx="7010280" cy="15238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66"/>
                </a:solidFill>
                <a:latin typeface="Arial Black"/>
              </a:rPr>
              <a:t>VALENTÍA PARA CONOCERTE A TI MISMO, </a:t>
            </a:r>
            <a:r>
              <a:rPr b="0" lang="es-AR" sz="2800" spc="-1" strike="noStrike">
                <a:solidFill>
                  <a:srgbClr val="000066"/>
                </a:solidFill>
                <a:latin typeface="Arial"/>
              </a:rPr>
              <a:t>PACIENCIA PARA ACEPTAR LA REALIDAD, 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391520" y="609480"/>
            <a:ext cx="1295280" cy="1295280"/>
            <a:chOff x="7391520" y="609480"/>
            <a:chExt cx="1295280" cy="1295280"/>
          </a:xfrm>
        </p:grpSpPr>
        <p:sp>
          <p:nvSpPr>
            <p:cNvPr id="321" name=""/>
            <p:cNvSpPr/>
            <p:nvPr/>
          </p:nvSpPr>
          <p:spPr>
            <a:xfrm>
              <a:off x="7391520" y="60948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7600680" y="95868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40360" y="90792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150040" y="90792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09480" y="2590920"/>
            <a:ext cx="1295640" cy="1295280"/>
            <a:chOff x="609480" y="2590920"/>
            <a:chExt cx="1295640" cy="1295280"/>
          </a:xfrm>
        </p:grpSpPr>
        <p:sp>
          <p:nvSpPr>
            <p:cNvPr id="326" name=""/>
            <p:cNvSpPr/>
            <p:nvPr/>
          </p:nvSpPr>
          <p:spPr>
            <a:xfrm>
              <a:off x="609480" y="259092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19720" y="2939400"/>
              <a:ext cx="87516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5940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6764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467480" y="4952880"/>
            <a:ext cx="1295640" cy="1295280"/>
            <a:chOff x="7467480" y="4952880"/>
            <a:chExt cx="1295640" cy="1295280"/>
          </a:xfrm>
        </p:grpSpPr>
        <p:sp>
          <p:nvSpPr>
            <p:cNvPr id="331" name=""/>
            <p:cNvSpPr/>
            <p:nvPr/>
          </p:nvSpPr>
          <p:spPr>
            <a:xfrm>
              <a:off x="7467480" y="495288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7677000" y="5302080"/>
              <a:ext cx="87660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16680" y="5251320"/>
              <a:ext cx="1764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6360" y="5251320"/>
              <a:ext cx="1746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blinds dir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400"/>
                            </p:stCondLst>
                            <p:childTnLst>
                              <p:par>
                                <p:cTn id="2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900"/>
                            </p:stCondLst>
                            <p:childTnLst>
                              <p:par>
                                <p:cTn id="26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900"/>
                            </p:stCondLst>
                            <p:childTnLst>
                              <p:par>
                                <p:cTn id="26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400"/>
                            </p:stCondLst>
                            <p:childTnLst>
                              <p:par>
                                <p:cTn id="27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975040" y="1752480"/>
            <a:ext cx="3200400" cy="2895840"/>
          </a:xfrm>
          <a:custGeom>
            <a:avLst/>
            <a:gdLst>
              <a:gd name="textAreaLeft" fmla="*/ 752040 w 3200400"/>
              <a:gd name="textAreaRight" fmla="*/ 2446200 w 3200400"/>
              <a:gd name="textAreaTop" fmla="*/ 340200 h 2895840"/>
              <a:gd name="textAreaBottom" fmla="*/ 1816560 h 28958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67120" y="2209680"/>
            <a:ext cx="1412640" cy="1752120"/>
            <a:chOff x="3867120" y="2209680"/>
            <a:chExt cx="1412640" cy="1752120"/>
          </a:xfrm>
        </p:grpSpPr>
        <p:sp>
          <p:nvSpPr>
            <p:cNvPr id="337" name=""/>
            <p:cNvSpPr/>
            <p:nvPr/>
          </p:nvSpPr>
          <p:spPr>
            <a:xfrm flipH="1" flipV="1">
              <a:off x="3867120" y="2308680"/>
              <a:ext cx="1412640" cy="16531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769640" y="2209680"/>
              <a:ext cx="284040" cy="58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112280" y="2209680"/>
              <a:ext cx="281160" cy="58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 txBox="1"/>
          <p:nvPr/>
        </p:nvSpPr>
        <p:spPr>
          <a:xfrm>
            <a:off x="1108080" y="609480"/>
            <a:ext cx="6934320" cy="624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76837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 Black"/>
              </a:rPr>
              <a:t>QUE TENGAS UNA BUENA SEMA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1984320" y="4952880"/>
            <a:ext cx="5181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66"/>
                </a:solidFill>
                <a:latin typeface="Arial Black"/>
              </a:rPr>
              <a:t>¡AMOR PARA OFREC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03280" y="1341360"/>
            <a:ext cx="6477120" cy="4114800"/>
          </a:xfrm>
          <a:prstGeom prst="rect">
            <a:avLst/>
          </a:prstGeom>
          <a:solidFill>
            <a:srgbClr val="66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Times New Roman"/>
              </a:rPr>
              <a:t>POR FAVOR REENVÍA ESTE CORREO A QUIENES TÚ QUIERAS MANDAR UNA SONRI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848720" y="1773360"/>
            <a:ext cx="1295280" cy="1295280"/>
            <a:chOff x="7848720" y="1773360"/>
            <a:chExt cx="1295280" cy="1295280"/>
          </a:xfrm>
        </p:grpSpPr>
        <p:sp>
          <p:nvSpPr>
            <p:cNvPr id="344" name=""/>
            <p:cNvSpPr/>
            <p:nvPr/>
          </p:nvSpPr>
          <p:spPr>
            <a:xfrm>
              <a:off x="7848720" y="177336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057880" y="212256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197560" y="207180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07240" y="207180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0" y="0"/>
            <a:ext cx="1295280" cy="1295280"/>
            <a:chOff x="0" y="0"/>
            <a:chExt cx="1295280" cy="1295280"/>
          </a:xfrm>
        </p:grpSpPr>
        <p:sp>
          <p:nvSpPr>
            <p:cNvPr id="349" name=""/>
            <p:cNvSpPr/>
            <p:nvPr/>
          </p:nvSpPr>
          <p:spPr>
            <a:xfrm>
              <a:off x="0" y="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10240" y="34812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992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816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848720" y="5562720"/>
            <a:ext cx="1295280" cy="1295280"/>
            <a:chOff x="7848720" y="5562720"/>
            <a:chExt cx="1295280" cy="1295280"/>
          </a:xfrm>
        </p:grpSpPr>
        <p:sp>
          <p:nvSpPr>
            <p:cNvPr id="354" name=""/>
            <p:cNvSpPr/>
            <p:nvPr/>
          </p:nvSpPr>
          <p:spPr>
            <a:xfrm>
              <a:off x="784872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57880" y="591192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97560" y="586116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07240" y="586116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0" y="5562720"/>
            <a:ext cx="1295280" cy="1295280"/>
            <a:chOff x="0" y="5562720"/>
            <a:chExt cx="1295280" cy="1295280"/>
          </a:xfrm>
        </p:grpSpPr>
        <p:sp>
          <p:nvSpPr>
            <p:cNvPr id="359" name=""/>
            <p:cNvSpPr/>
            <p:nvPr/>
          </p:nvSpPr>
          <p:spPr>
            <a:xfrm>
              <a:off x="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10240" y="591120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992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816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0" y="2852640"/>
            <a:ext cx="1295280" cy="1295640"/>
            <a:chOff x="0" y="2852640"/>
            <a:chExt cx="1295280" cy="1295640"/>
          </a:xfrm>
        </p:grpSpPr>
        <p:sp>
          <p:nvSpPr>
            <p:cNvPr id="364" name=""/>
            <p:cNvSpPr/>
            <p:nvPr/>
          </p:nvSpPr>
          <p:spPr>
            <a:xfrm>
              <a:off x="0" y="285264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10240" y="320148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9920" y="315144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8160" y="315144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763640" y="0"/>
            <a:ext cx="1295640" cy="1295280"/>
            <a:chOff x="1763640" y="0"/>
            <a:chExt cx="1295640" cy="1295280"/>
          </a:xfrm>
        </p:grpSpPr>
        <p:sp>
          <p:nvSpPr>
            <p:cNvPr id="369" name=""/>
            <p:cNvSpPr/>
            <p:nvPr/>
          </p:nvSpPr>
          <p:spPr>
            <a:xfrm>
              <a:off x="1763640" y="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73160" y="348840"/>
              <a:ext cx="87660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12840" y="298440"/>
              <a:ext cx="1764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22520" y="298440"/>
              <a:ext cx="1746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708360" y="0"/>
            <a:ext cx="1295280" cy="1295280"/>
            <a:chOff x="3708360" y="0"/>
            <a:chExt cx="1295280" cy="1295280"/>
          </a:xfrm>
        </p:grpSpPr>
        <p:sp>
          <p:nvSpPr>
            <p:cNvPr id="374" name=""/>
            <p:cNvSpPr/>
            <p:nvPr/>
          </p:nvSpPr>
          <p:spPr>
            <a:xfrm>
              <a:off x="3708360" y="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918600" y="34812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828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6652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724360" y="0"/>
            <a:ext cx="1295640" cy="1295280"/>
            <a:chOff x="5724360" y="0"/>
            <a:chExt cx="1295640" cy="1295280"/>
          </a:xfrm>
        </p:grpSpPr>
        <p:sp>
          <p:nvSpPr>
            <p:cNvPr id="379" name=""/>
            <p:cNvSpPr/>
            <p:nvPr/>
          </p:nvSpPr>
          <p:spPr>
            <a:xfrm>
              <a:off x="5724360" y="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933880" y="348840"/>
              <a:ext cx="87660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73560" y="298440"/>
              <a:ext cx="1764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83240" y="298440"/>
              <a:ext cx="1746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596360" y="0"/>
            <a:ext cx="1295280" cy="1295280"/>
            <a:chOff x="7596360" y="0"/>
            <a:chExt cx="1295280" cy="1295280"/>
          </a:xfrm>
        </p:grpSpPr>
        <p:sp>
          <p:nvSpPr>
            <p:cNvPr id="384" name=""/>
            <p:cNvSpPr/>
            <p:nvPr/>
          </p:nvSpPr>
          <p:spPr>
            <a:xfrm>
              <a:off x="7596360" y="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7806600" y="34812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4628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5452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0" y="1413000"/>
            <a:ext cx="1295280" cy="1295280"/>
            <a:chOff x="0" y="1413000"/>
            <a:chExt cx="1295280" cy="1295280"/>
          </a:xfrm>
        </p:grpSpPr>
        <p:sp>
          <p:nvSpPr>
            <p:cNvPr id="389" name=""/>
            <p:cNvSpPr/>
            <p:nvPr/>
          </p:nvSpPr>
          <p:spPr>
            <a:xfrm>
              <a:off x="0" y="141300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09160" y="176220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8840" y="171144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8520" y="171144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0" y="4221000"/>
            <a:ext cx="1295280" cy="1295280"/>
            <a:chOff x="0" y="4221000"/>
            <a:chExt cx="1295280" cy="1295280"/>
          </a:xfrm>
        </p:grpSpPr>
        <p:sp>
          <p:nvSpPr>
            <p:cNvPr id="394" name=""/>
            <p:cNvSpPr/>
            <p:nvPr/>
          </p:nvSpPr>
          <p:spPr>
            <a:xfrm>
              <a:off x="0" y="422100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09160" y="457020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8840" y="451944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8520" y="451944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476360" y="5562720"/>
            <a:ext cx="1295280" cy="1295280"/>
            <a:chOff x="1476360" y="5562720"/>
            <a:chExt cx="1295280" cy="1295280"/>
          </a:xfrm>
        </p:grpSpPr>
        <p:sp>
          <p:nvSpPr>
            <p:cNvPr id="399" name=""/>
            <p:cNvSpPr/>
            <p:nvPr/>
          </p:nvSpPr>
          <p:spPr>
            <a:xfrm>
              <a:off x="147636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685520" y="591192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25200" y="586116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4880" y="586116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27640" y="5562720"/>
            <a:ext cx="1295280" cy="1295280"/>
            <a:chOff x="4427640" y="5562720"/>
            <a:chExt cx="1295280" cy="1295280"/>
          </a:xfrm>
        </p:grpSpPr>
        <p:sp>
          <p:nvSpPr>
            <p:cNvPr id="404" name=""/>
            <p:cNvSpPr/>
            <p:nvPr/>
          </p:nvSpPr>
          <p:spPr>
            <a:xfrm>
              <a:off x="442764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636800" y="591192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76480" y="586116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86160" y="586116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987640" y="5562720"/>
            <a:ext cx="1295280" cy="1295280"/>
            <a:chOff x="2987640" y="5562720"/>
            <a:chExt cx="1295280" cy="1295280"/>
          </a:xfrm>
        </p:grpSpPr>
        <p:sp>
          <p:nvSpPr>
            <p:cNvPr id="409" name=""/>
            <p:cNvSpPr/>
            <p:nvPr/>
          </p:nvSpPr>
          <p:spPr>
            <a:xfrm>
              <a:off x="298764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197880" y="591120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3756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4580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084720" y="5562720"/>
            <a:ext cx="1295640" cy="1295280"/>
            <a:chOff x="6084720" y="5562720"/>
            <a:chExt cx="1295640" cy="1295280"/>
          </a:xfrm>
        </p:grpSpPr>
        <p:sp>
          <p:nvSpPr>
            <p:cNvPr id="414" name=""/>
            <p:cNvSpPr/>
            <p:nvPr/>
          </p:nvSpPr>
          <p:spPr>
            <a:xfrm>
              <a:off x="6084720" y="556272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294960" y="5911200"/>
              <a:ext cx="87516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3464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4288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848720" y="3500280"/>
            <a:ext cx="1295280" cy="1295640"/>
            <a:chOff x="7848720" y="3500280"/>
            <a:chExt cx="1295280" cy="1295640"/>
          </a:xfrm>
        </p:grpSpPr>
        <p:sp>
          <p:nvSpPr>
            <p:cNvPr id="419" name=""/>
            <p:cNvSpPr/>
            <p:nvPr/>
          </p:nvSpPr>
          <p:spPr>
            <a:xfrm>
              <a:off x="7848720" y="350028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058960" y="384912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98640" y="3799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06880" y="3799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blinds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3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6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1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6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1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6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1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6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1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600"/>
                            </p:stCondLst>
                            <p:childTnLst>
                              <p:par>
                                <p:cTn id="3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100"/>
                            </p:stCondLst>
                            <p:childTnLst>
                              <p:par>
                                <p:cTn id="3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600"/>
                            </p:stCondLst>
                            <p:childTnLst>
                              <p:par>
                                <p:cTn id="3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10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1600"/>
                            </p:stCondLst>
                            <p:childTnLst>
                              <p:par>
                                <p:cTn id="3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5T20:35:08Z</dcterms:created>
  <dc:creator/>
  <dc:description>Enviado por Mª Cruz</dc:description>
  <dc:language>en-US</dc:language>
  <cp:lastModifiedBy>Mª Angeles</cp:lastModifiedBy>
  <dcterms:modified xsi:type="dcterms:W3CDTF">2008-11-30T22:26:39Z</dcterms:modified>
  <cp:revision>25</cp:revision>
  <dc:subject>Música: La cinta amarilla</dc:subject>
  <dc:title>Nuevo virus descubierto: Sonrisa</dc:title>
</cp:coreProperties>
</file>