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ecortazar-%20waltzoflove.wav" ContentType="audio/x-wav"/>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E00A3-EABA-4079-AA03-84621D09A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0E478-1D2D-419F-A8A3-D818F75F8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DAACD-AD2C-479E-8E08-D5F3ABB25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A7B1F-41BE-459C-8777-BEF6EEF8F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17CEA-3F0D-4947-A9E7-E5530EB2F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3ACF3-CA0C-4104-A96A-D68527919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77092-F2E2-4DE6-BC81-624AA6279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B6BE5-25B3-4CE6-9468-AE04F2FE0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34EBC-15DD-4B3E-9F5E-070078171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FB2D3-AFA0-497B-91ED-DB7377CD1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41FA6-92E1-442D-8368-59EAD0BA7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FFDEF-C605-4B8D-B50B-391D88712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3FF1F-94FB-4C5A-89D9-C8056EF2C5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ecortazar-%20waltzoflove.wav" TargetMode="External"/><Relationship Id="rId2" Type="http://schemas.microsoft.com/office/2007/relationships/media" Target="file:///tmp/home/.config/libreoffice/4/user/gallery/ecortazar-%20waltzoflove.wav" TargetMode="External"/><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audio" Target="../media/ecortazar-%20waltzoflove.wav"/><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a:hlinkClick r:id="" action="ppaction://media"/>
          </p:cNvPr>
          <p:cNvPicPr/>
          <p:nvPr>
            <a:audioFile r:link="rId1"/>
            <p:extLst>
              <p:ext uri="{DAA4B4D4-6D71-4841-9C94-3DE7FCFB9230}">
                <p14:media r:link="rId2"/>
              </p:ext>
            </p:extLst>
          </p:nvPr>
        </p:nvPicPr>
        <p:blipFill>
          <a:blip r:embed="rId3"/>
          <a:stretch>
            <a:fillRect/>
          </a:stretch>
        </p:blipFill>
        <p:spPr>
          <a:xfrm>
            <a:off x="4419720" y="3276720"/>
            <a:ext cx="304560" cy="304560"/>
          </a:xfrm>
          <a:prstGeom prst="rect">
            <a:avLst/>
          </a:prstGeom>
          <a:ln w="0">
            <a:noFill/>
          </a:ln>
        </p:spPr>
      </p:pic>
      <p:pic>
        <p:nvPicPr>
          <p:cNvPr id="42" name="" descr=""/>
          <p:cNvPicPr/>
          <p:nvPr/>
        </p:nvPicPr>
        <p:blipFill>
          <a:blip r:embed="rId4"/>
          <a:stretch/>
        </p:blipFill>
        <p:spPr>
          <a:xfrm>
            <a:off x="0" y="0"/>
            <a:ext cx="9144000" cy="6858000"/>
          </a:xfrm>
          <a:prstGeom prst="rect">
            <a:avLst/>
          </a:prstGeom>
          <a:ln w="0">
            <a:noFill/>
          </a:ln>
        </p:spPr>
      </p:pic>
      <p:sp>
        <p:nvSpPr>
          <p:cNvPr id="43" name="PlaceHolder 1"/>
          <p:cNvSpPr>
            <a:spLocks noGrp="1"/>
          </p:cNvSpPr>
          <p:nvPr>
            <p:ph type="title"/>
          </p:nvPr>
        </p:nvSpPr>
        <p:spPr>
          <a:xfrm>
            <a:off x="685800" y="2565000"/>
            <a:ext cx="7772400" cy="10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MX" sz="4400" spc="-1" strike="noStrike">
                <a:solidFill>
                  <a:srgbClr val="ffffff"/>
                </a:solidFill>
                <a:latin typeface="Arial"/>
              </a:rPr>
              <a:t>LOS AMIGOS CURAN</a:t>
            </a:r>
            <a:br>
              <a:rPr sz="4000"/>
            </a:b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43"/>
                                        </p:tgtEl>
                                      </p:cBhvr>
                                      <p:to x="150000" y="150000"/>
                                    </p:animScale>
                                  </p:childTnLst>
                                </p:cTn>
                              </p:par>
                            </p:childTnLst>
                          </p:cTn>
                        </p:par>
                        <p:par>
                          <p:cTn id="7" fill="hold">
                            <p:stCondLst>
                              <p:cond delay="2000"/>
                            </p:stCondLst>
                            <p:childTnLst>
                              <p:par>
                                <p:cTn id="8" nodeType="afterEffect" fill="hold" presetClass="mediacall" presetID="1">
                                  <p:stCondLst>
                                    <p:cond delay="0"/>
                                  </p:stCondLst>
                                  <p:childTnLst>
                                    <p:cmd type="call" cmd="playFrom(0.0)">
                                      <p:cBhvr>
                                        <p:cTn id="9" dur="1" fill="hold"/>
                                        <p:tgtEl>
                                          <p:spTgt spid="4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1"/>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2987640" y="1341360"/>
            <a:ext cx="583236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Interesante descubrimiento:              Un estudio publicado                                       por la Universidad de Los Ángeles,Ca, indica que la amistad                                        es verdaderamente especial.                            Se descubrió que los amigos contribuyen al fortalecimiento                           de la identidad y protección                                  de nuestro futuro.                                         Constituyen un remanso                                               en medio del mundo real                               lleno de tempestades y obstáculos.</a:t>
            </a:r>
            <a:r>
              <a:rPr b="0" lang="es-MX"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11160"/>
            <a:ext cx="6300720" cy="6869160"/>
          </a:xfrm>
          <a:prstGeom prst="rect">
            <a:avLst/>
          </a:prstGeom>
          <a:ln w="0">
            <a:noFill/>
          </a:ln>
        </p:spPr>
      </p:pic>
      <p:sp>
        <p:nvSpPr>
          <p:cNvPr id="47" name=""/>
          <p:cNvSpPr/>
          <p:nvPr/>
        </p:nvSpPr>
        <p:spPr>
          <a:xfrm>
            <a:off x="3635280" y="476280"/>
            <a:ext cx="55087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os amigos nos ayudan                               a llenar los vacíos emocionales                      y nos ayudan a recordar                          quienes somos realmente.                     Después de 50 años                                          de investigaciones,                                               se identificó que existen                                sustancias químicas producidas     por el cerebro que ayudan a crear              y mantener lazos de amist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052640"/>
            <a:ext cx="9144000" cy="4539960"/>
          </a:xfrm>
          <a:prstGeom prst="rect">
            <a:avLst/>
          </a:prstGeom>
          <a:ln w="0">
            <a:noFill/>
          </a:ln>
        </p:spPr>
      </p:pic>
      <p:sp>
        <p:nvSpPr>
          <p:cNvPr id="49" name=""/>
          <p:cNvSpPr/>
          <p:nvPr/>
        </p:nvSpPr>
        <p:spPr>
          <a:xfrm>
            <a:off x="2916360" y="1052640"/>
            <a:ext cx="6227640" cy="577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os investigadores se sorprendieron                con los resultados de los estudios. Cuando la hormona OXITOCINA                            es liberada como parte de la reacción frente al estrés,                                                             los amigos sienten la necesidad                       de agruparse; cuando pasa eso,                           se produce una cantidad aún mayor                     de oxitocina,                                                        que reduce el estrés más agudo                                                                                             y provoca un efecto calmant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Innocent Angel"/>
          <p:cNvPicPr/>
          <p:nvPr/>
        </p:nvPicPr>
        <p:blipFill>
          <a:blip r:embed="rId1"/>
          <a:stretch/>
        </p:blipFill>
        <p:spPr>
          <a:xfrm>
            <a:off x="0" y="0"/>
            <a:ext cx="4284720" cy="6858000"/>
          </a:xfrm>
          <a:prstGeom prst="rect">
            <a:avLst/>
          </a:prstGeom>
          <a:ln w="0">
            <a:noFill/>
          </a:ln>
        </p:spPr>
      </p:pic>
      <p:sp>
        <p:nvSpPr>
          <p:cNvPr id="51" name=""/>
          <p:cNvSpPr/>
          <p:nvPr/>
        </p:nvSpPr>
        <p:spPr>
          <a:xfrm>
            <a:off x="4500720" y="476280"/>
            <a:ext cx="43923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3132000" y="260280"/>
            <a:ext cx="60120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Después de repetidos estudios, se demostró                                                     que los lazos emocionales verdaderos y leal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contribuyen para una reducción de riesgos de enfermedades ligadas a la presión arterial                          y coleste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2205000"/>
            <a:ext cx="9036000" cy="4653000"/>
          </a:xfrm>
          <a:prstGeom prst="rect">
            <a:avLst/>
          </a:prstGeom>
          <a:ln w="0">
            <a:noFill/>
          </a:ln>
        </p:spPr>
      </p:pic>
      <p:sp>
        <p:nvSpPr>
          <p:cNvPr id="54" name=""/>
          <p:cNvSpPr/>
          <p:nvPr/>
        </p:nvSpPr>
        <p:spPr>
          <a:xfrm>
            <a:off x="2484360" y="2349360"/>
            <a:ext cx="554508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Se cree que ésta puede ser                          una de las razones que la amistad prolonga la vida.                                      Quien no establece relaciones                     de amistad,                                                          no muestra los mismos resultados en su salu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404640"/>
            <a:ext cx="9144000" cy="5732640"/>
          </a:xfrm>
          <a:prstGeom prst="rect">
            <a:avLst/>
          </a:prstGeom>
          <a:ln w="0">
            <a:noFill/>
          </a:ln>
        </p:spPr>
      </p:pic>
      <p:sp>
        <p:nvSpPr>
          <p:cNvPr id="56" name=""/>
          <p:cNvSpPr/>
          <p:nvPr/>
        </p:nvSpPr>
        <p:spPr>
          <a:xfrm>
            <a:off x="3780000" y="476280"/>
            <a:ext cx="5113080" cy="540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sí que tener amigos nos ayuda no solamente a vivir más,                          sino también a vivir mejor.                         El estudio sobre la salud                      indica que cuantos                                         más amigos tengamos,                         mayor es la probabilidad                       de  llegar a viejos                                            sin problemas físicos                                        y llevando una vida plena                        y saludable.</a:t>
            </a:r>
            <a:r>
              <a:rPr b="0" lang="es-MX" sz="2400" spc="-1" strike="noStrike">
                <a:solidFill>
                  <a:srgbClr val="3333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2627280" y="404640"/>
            <a:ext cx="65167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n este mismo estudio se observó                    cómo la amistad ayuda a superar                           los momentos críticos (como la muerte                  del cónyuge ó de los padres)                                          y se percibió que quien puede confiar                       en sus amigos reacciona                                            sin enfermedades graves                                            y se recupera en un lapso menor                             que aquéllos que no tienen                                             en quien confiar.                                                               El estudio concluyó que la amistad  constituye una fuente de fuerza,                    bienestar, alegría y salu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70600"/>
          </a:xfrm>
          <a:prstGeom prst="rect">
            <a:avLst/>
          </a:prstGeom>
          <a:ln w="0">
            <a:noFill/>
          </a:ln>
        </p:spPr>
      </p:pic>
      <p:sp>
        <p:nvSpPr>
          <p:cNvPr id="60" name=""/>
          <p:cNvSpPr/>
          <p:nvPr/>
        </p:nvSpPr>
        <p:spPr>
          <a:xfrm>
            <a:off x="250920" y="404640"/>
            <a:ext cx="5329080" cy="334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Por eso y por muchas cosas más: ¡Qué viva la amistad!                             ¡¡QUERIDOS AMIGO/AS POR ESTO Y POR TANTAS COSAS MÁS !! ¡¡GRACIAS!!                                   Bendiciones en Abundancia                   sobre sus vid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3T20:01:32Z</dcterms:created>
  <dc:creator>shcp</dc:creator>
  <dc:description/>
  <dc:language>en-US</dc:language>
  <cp:lastModifiedBy>gg</cp:lastModifiedBy>
  <dcterms:modified xsi:type="dcterms:W3CDTF">2009-07-09T19:23:00Z</dcterms:modified>
  <cp:revision>13</cp:revision>
  <dc:subject/>
  <dc:title>LAS AMIGAS CURAN </dc:title>
</cp:coreProperties>
</file>