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.jpeg" ContentType="image/jpeg"/>
  <Override PartName="/ppt/media/Nocturne%20Improvision.wav" ContentType="audio/x-wav"/>
  <Override PartName="/ppt/media/image19.gif" ContentType="image/gif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6600-E1CA-492C-809D-0C31C0B235A2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0983-049A-4713-A7EE-1A5B8CDF8CE6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8F17-FC84-4FA7-BE84-4E64D5F338EC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ACBF-067D-4377-9253-87F2DEC4ED81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E106-B9E2-49B6-A187-10331E2F7101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C4B8-BA11-4E74-B65A-9DA878D404AF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A71-19E7-4CDD-8F1F-1698D844DEF0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AD7-2757-439B-9341-15D227A3D535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030-8A20-4287-906F-F898B09712A3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C8F-546D-4DFB-9E52-643834EDB052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2610-C37B-4B0C-A83B-FC8AA2526BEC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03C7-2E0A-472E-8BE5-BEA757974B2D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E47-067C-4E70-9D02-53CC893763CA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6C09-744A-4987-9C7A-2A35B5EECA7C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23DF-84BD-45EB-9FD0-E6A431307343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FE57-416A-47AD-8CA3-BD1CF056A4FB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6080-DBEB-4183-BC2C-ED7252D20494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500-D5A7-4906-8982-8D190DD5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117-1520-44EA-9954-F4FE2AE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6E9-B52A-4AB0-8EA9-4350DDE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68F-4883-4BAF-BC4B-8734F245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269-57A8-4E70-87D2-FE11B51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9CD-27BB-4979-81C6-0E102ED5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F9B-E0F3-4CF3-864E-9AE18A5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B91-F1EF-400E-A86D-95F0A2E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7A8-69CB-4DF5-AAB5-067A04E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DF3-3FEC-459E-8C1D-8053987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B70-1D65-4E8A-A900-CC9BA2C6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85B-6F57-4F13-90FE-04F88FD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956E-6C4B-4D93-8A18-76328A75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octurne%20Improvis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0" spc="-1" strike="noStrike">
                <a:solidFill>
                  <a:srgbClr val="ffffff"/>
                </a:solidFill>
                <a:latin typeface="Bradley Hand ITC"/>
              </a:rPr>
              <a:t>La </a:t>
            </a:r>
            <a:r>
              <a:rPr b="1" lang="es-HN" sz="8000" spc="-1" strike="noStrike">
                <a:solidFill>
                  <a:srgbClr val="ffffff"/>
                </a:solidFill>
                <a:latin typeface="Bradley Hand ITC"/>
              </a:rPr>
              <a:t>Farmacia</a:t>
            </a:r>
            <a:r>
              <a:rPr b="1" lang="en-CA" sz="8000" spc="-1" strike="noStrike">
                <a:solidFill>
                  <a:srgbClr val="ffffff"/>
                </a:solidFill>
                <a:latin typeface="Bradley Hand ITC"/>
              </a:rPr>
              <a:t> de Dios</a:t>
            </a:r>
            <a:r>
              <a:rPr b="0" lang="en-CA" sz="60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Nocturne%20Improvis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-17064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-1706400" y="2989440"/>
            <a:ext cx="95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-572040"/>
            <a:ext cx="90583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Los higos están llenos de semillas y cuelgan en pares cuan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crecen. Los higos incrementan la movilidad del esperma masculi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E Incrementan el conteo de esperma previniendo la infertil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masculi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0" y="2832120"/>
            <a:ext cx="9525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879120" y="5588280"/>
            <a:ext cx="1105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900" spc="-1" strike="noStrike">
                <a:solidFill>
                  <a:srgbClr val="3333ff"/>
                </a:solidFill>
                <a:latin typeface="Bradley Hand ITC"/>
                <a:ea typeface="Times New Roman"/>
              </a:rPr>
              <a:t>El camote se parece mucho al páncreas, y de hecho, regul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900" spc="-1" strike="noStrike">
                <a:solidFill>
                  <a:srgbClr val="3333ff"/>
                </a:solidFill>
                <a:latin typeface="Bradley Hand ITC"/>
                <a:ea typeface="Times New Roman"/>
              </a:rPr>
              <a:t>El índice gluc</a:t>
            </a:r>
            <a:r>
              <a:rPr b="1" lang="es-HN" sz="2800" spc="-1" strike="noStrike">
                <a:solidFill>
                  <a:srgbClr val="3333ff"/>
                </a:solidFill>
                <a:latin typeface="Bradley Hand ITC"/>
              </a:rPr>
              <a:t>é</a:t>
            </a:r>
            <a:r>
              <a:rPr b="1" lang="es-HN" sz="2900" spc="-1" strike="noStrike">
                <a:solidFill>
                  <a:srgbClr val="3333ff"/>
                </a:solidFill>
                <a:latin typeface="Bradley Hand ITC"/>
                <a:ea typeface="Times New Roman"/>
              </a:rPr>
              <a:t>mico en los diabéticos.</a:t>
            </a:r>
            <a:r>
              <a:rPr b="1" lang="es-HN" sz="2500" spc="-1" strike="noStrike">
                <a:solidFill>
                  <a:srgbClr val="3333cc"/>
                </a:solidFill>
                <a:latin typeface="Bradley Hand ITC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88840" y="3144600"/>
            <a:ext cx="72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Las aceitunas asisten a la buena salu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funcionamiento de los ovari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-182736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-1827360" y="2965320"/>
            <a:ext cx="95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5622120"/>
            <a:ext cx="919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naranjas, toronjas, y otras frutas cítricas se asemejan a las glándulas mamarias en las mujeres, y ayudan a la salud y al flujo del movimiento linfático en los senos.</a:t>
            </a:r>
            <a:r>
              <a:rPr b="1" lang="es-HN" sz="2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La cebolla se parece mucho a las células del cuerpo. Los estudios revelan que la cebolla ayuda a limpiar los desechos/desperdicios materiales de todas las células del cuerpo. Incluso nos producen lagrimas que lavan las capas epiteliales de los ojos. Otro aliado es el ajo,  que también ayuda a eliminar los desechos materiales  y los peligrosos radicales libres del cuer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472428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ff5050"/>
                </a:solidFill>
                <a:latin typeface="Bradley Hand ITC"/>
              </a:rPr>
              <a:t>Por favor no rompas este correo, incluso si se lo envías solo a otra persona. Mira la fecha cuando empezó. Graci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mage013(2)"/>
          <p:cNvPicPr/>
          <p:nvPr/>
        </p:nvPicPr>
        <p:blipFill>
          <a:blip r:embed="rId1"/>
          <a:stretch/>
        </p:blipFill>
        <p:spPr>
          <a:xfrm>
            <a:off x="3348000" y="836640"/>
            <a:ext cx="244800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4149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5050"/>
                </a:solidFill>
                <a:latin typeface="Bradley Hand ITC"/>
              </a:rPr>
              <a:t>Esta vela se encendió el 15 de Septiembre, 1998.   </a:t>
            </a:r>
            <a:br>
              <a:rPr sz="2800"/>
            </a:br>
            <a:r>
              <a:rPr b="0" lang="es-HN" sz="2800" spc="-1" strike="noStrike">
                <a:solidFill>
                  <a:srgbClr val="ff5050"/>
                </a:solidFill>
                <a:latin typeface="Bradley Hand ITC"/>
              </a:rPr>
              <a:t>alguien que te quiere ha ayudado a mantenerla enviándotela a 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5050"/>
                </a:solidFill>
                <a:latin typeface="Bradley Hand ITC"/>
              </a:rPr>
              <a:t>Pásala a todos aquellos que tu quier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age014"/>
          <p:cNvPicPr/>
          <p:nvPr/>
        </p:nvPicPr>
        <p:blipFill>
          <a:blip r:embed="rId1"/>
          <a:stretch/>
        </p:blipFill>
        <p:spPr>
          <a:xfrm>
            <a:off x="3059280" y="260280"/>
            <a:ext cx="3528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1018800" y="679320"/>
            <a:ext cx="1119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Se nos dijo que Dios al inicio separo el agua sal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del agua fresca, hizo la Tierra firme, planto un jardí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Hizo los animales y los pece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Todo antes de hacer al hum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El hizo y proveyó de todo </a:t>
            </a:r>
            <a:r>
              <a:rPr b="1" lang="es-HN" sz="2800" spc="-1" strike="noStrike">
                <a:solidFill>
                  <a:srgbClr val="000000"/>
                </a:solidFill>
                <a:latin typeface="Bradley Hand ITC"/>
              </a:rPr>
              <a:t>el alimento</a:t>
            </a: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 que íbamo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necesitar antes que naciéra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Estos son mejores y mas poderosos cuando los comemos cru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Realmente que aprendemos lento... </a:t>
            </a:r>
            <a:br>
              <a:rPr sz="2800"/>
            </a:b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Dios nos dejo una gran pista sobre que alimentos ayu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a que parte de nuestro cuerpo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La farmacia de Dios si que es asombrosa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50920" y="-18720"/>
            <a:ext cx="8713800" cy="6919560"/>
          </a:xfrm>
          <a:prstGeom prst="rect">
            <a:avLst/>
          </a:prstGeom>
          <a:solidFill>
            <a:srgbClr val="cc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Una zanahoria en rodaja parece un ojo hum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La pupila, iris y las líneas alrededor se 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Igual que el ojo human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Y si, la ciencia ahora nos muestra que las zanahorias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Gran manera optimizan el flujo de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Hacia ellos ayudando a su funcionami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001"/>
          <p:cNvPicPr/>
          <p:nvPr/>
        </p:nvPicPr>
        <p:blipFill>
          <a:blip r:embed="rId2"/>
          <a:stretch/>
        </p:blipFill>
        <p:spPr>
          <a:xfrm>
            <a:off x="4211640" y="1197000"/>
            <a:ext cx="9525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50920" y="256320"/>
            <a:ext cx="8642160" cy="6492960"/>
          </a:xfrm>
          <a:prstGeom prst="rect">
            <a:avLst/>
          </a:prstGeom>
          <a:solidFill>
            <a:srgbClr val="ff99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Un tomate tiene 4 cámaras y son roj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El corazón tiene 4 cámaras y son roj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Todas las investigaciones demuest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Que los tomates están carg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con lycopina, Y son de hecho, p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alimento para el corazón y la sang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image002(2)"/>
          <p:cNvPicPr/>
          <p:nvPr/>
        </p:nvPicPr>
        <p:blipFill>
          <a:blip r:embed="rId2"/>
          <a:stretch/>
        </p:blipFill>
        <p:spPr>
          <a:xfrm>
            <a:off x="539640" y="69228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-339480" y="-40320"/>
            <a:ext cx="9737640" cy="6919560"/>
          </a:xfrm>
          <a:prstGeom prst="rect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Las uvas colgando en un racimo tienen la for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de un cora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Cada uva se parece mucho a una célula 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Y todas las investigaciones de hoy en día demuest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Que las Uvas son un profundo alimento vitaliz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Para el corazón y la sang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-909360" y="2160"/>
            <a:ext cx="11238840" cy="6492960"/>
          </a:xfrm>
          <a:prstGeom prst="rect">
            <a:avLst/>
          </a:prstGeom>
          <a:solidFill>
            <a:srgbClr val="00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Una nuez se ve igual a un pequeño cerebro, un hemisfe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derecho y uno izquierdo, cerebro superior y cerebelo inferior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Incluso las arrugas o pliegues en la nuez son iguales 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Neo-corteza. Ahora sabemos que las nueces ayu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A desarrollar mas de tres</a:t>
            </a: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 (3) docenas de </a:t>
            </a: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neurotransmi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Para la función cerebral.</a:t>
            </a: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004"/>
          <p:cNvPicPr/>
          <p:nvPr/>
        </p:nvPicPr>
        <p:blipFill>
          <a:blip r:embed="rId2"/>
          <a:stretch/>
        </p:blipFill>
        <p:spPr>
          <a:xfrm>
            <a:off x="539640" y="404640"/>
            <a:ext cx="230364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-547200" y="5077800"/>
            <a:ext cx="1036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Los frijoles, cuyo nombre en ingles es Kidney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 </a:t>
            </a: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(Kidney=Riñón, Beans=frijoles) de verdad sanan y ayu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a mantener las funciones renales, y si, se ven exactamente igu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A los riñones huma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-354600" y="-111600"/>
            <a:ext cx="9469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Apio, Col china, Ruibarbo y muchos mas que tienen fo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parecida a los hu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Estos alimentos específicamente aportan a la fortaleza ó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Los huesos son 23% sodio, y estos alimentos son 23% so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Si no tienes suficiente sodio en tu dieta, el cuerpo lo ext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De los huesos, haciéndolos débiles. Estos alimentos relle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Y suplen las necesidades esqueléticas del cuer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1141560" y="2431080"/>
            <a:ext cx="1163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guacates, berenjenas y peras ayudan a la salud y el funcio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del vientre y cervix de la mujer – estos se ven igua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 estos órganos. Las investigaciones de hoy en día nos muestra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Cuando la mujer come un aguacate al dí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Sus hormonas se balancean, elimina peso postparto indese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Y previene el cáncer cervical.  Y que tan profundo es esto?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Toma exactamente nueve (9) meses crecer un agua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Desde su florecimiento hasta la maduración de la fruta, hay m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 </a:t>
            </a: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14,000 componentes  químicos de nutrición en cada uno de es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limentos (la ciencia moderna solo ha estudiado y nomb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lrededor de 141 de est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avocado"/>
          <p:cNvPicPr/>
          <p:nvPr/>
        </p:nvPicPr>
        <p:blipFill>
          <a:blip r:embed="rId1"/>
          <a:stretch/>
        </p:blipFill>
        <p:spPr>
          <a:xfrm>
            <a:off x="0" y="0"/>
            <a:ext cx="3095640" cy="24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eggplant"/>
          <p:cNvPicPr/>
          <p:nvPr/>
        </p:nvPicPr>
        <p:blipFill>
          <a:blip r:embed="rId2"/>
          <a:stretch/>
        </p:blipFill>
        <p:spPr>
          <a:xfrm>
            <a:off x="3203640" y="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ear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8:49Z</dcterms:created>
  <dc:creator>謝財福</dc:creator>
  <dc:description/>
  <dc:language>en-US</dc:language>
  <cp:lastModifiedBy>Karen DelCid</cp:lastModifiedBy>
  <dcterms:modified xsi:type="dcterms:W3CDTF">2009-11-23T20:14:44Z</dcterms:modified>
  <cp:revision>32</cp:revision>
  <dc:subject/>
  <dc:title>PowerPoint 簡報</dc:title>
</cp:coreProperties>
</file>