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1.jpeg" ContentType="image/jpeg"/>
  <Override PartName="/ppt/media/Nocturne%20Improvision.wav" ContentType="audio/x-wav"/>
  <Override PartName="/ppt/media/image19.gif" ContentType="image/gif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H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56C9-AFC6-4675-8518-07E045580F05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202B-E476-4F0A-B136-F568AFA9E43F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EFB3-980E-4B7B-9093-F38D82907B40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BB3F-97E2-460F-99C5-940F9557AE3A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5C4A-1634-405A-B6B9-DB7D5565E85C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6A0F-F2EC-4356-A983-7A9110F05B2D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B18E-5081-42A7-A082-8A13BB80942E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F14F-A430-420A-9B5C-07287052962F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FE6D-B53C-40CA-83E5-73BA0D308759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D470-6899-432C-8CC3-1B9F726342E3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29D0-45A4-4B45-8D99-09679592F716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5583-5703-47DA-AE0B-DA1AB892461C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B71B-B1CB-457A-B99E-DDF92C073685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0DAD-C780-4B25-B726-961FBC4DE569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4392-312B-4EC4-9145-3B95887D4366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071F-852E-439E-B4C0-D1673AC68BDC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A72E-F214-4840-B232-D11B8C5B372A}" type="slidenum">
              <a:rPr b="0" lang="es-H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H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F8E4-34E4-47B5-B5D7-C72A5F60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DA6F-8606-42FC-B6ED-0CF1A1A3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403-F765-4CFF-91F1-4419AE3A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A6C-C82C-4031-8C06-4DE1F744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DE6-2916-46A8-9796-3795ACC9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4E3C-AE61-4922-BCB9-3F68D477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89B3-F305-4E4B-A808-843919BC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3FA-912B-43AF-B71D-83F04E96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ACB-3881-4A0F-B8B5-DD95F880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711-FC76-40D7-88D4-38814421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03E6-3D13-4F14-94AF-3DD2D919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93B7-60EB-4417-81CE-B80C9FF3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01FA-369D-46CB-A827-77B456D06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Nocturne%20Improvisio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7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0" spc="-1" strike="noStrike">
                <a:solidFill>
                  <a:srgbClr val="ffffff"/>
                </a:solidFill>
                <a:latin typeface="Bradley Hand ITC"/>
              </a:rPr>
              <a:t>La </a:t>
            </a:r>
            <a:r>
              <a:rPr b="1" lang="es-HN" sz="8000" spc="-1" strike="noStrike">
                <a:solidFill>
                  <a:srgbClr val="ffffff"/>
                </a:solidFill>
                <a:latin typeface="Bradley Hand ITC"/>
              </a:rPr>
              <a:t>Farmacia</a:t>
            </a:r>
            <a:r>
              <a:rPr b="1" lang="en-CA" sz="8000" spc="-1" strike="noStrike">
                <a:solidFill>
                  <a:srgbClr val="ffffff"/>
                </a:solidFill>
                <a:latin typeface="Bradley Hand ITC"/>
              </a:rPr>
              <a:t> de Dios</a:t>
            </a:r>
            <a:r>
              <a:rPr b="0" lang="en-CA" sz="60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Nocturne%20Improvisio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-17064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-1706400" y="2989440"/>
            <a:ext cx="952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-572040"/>
            <a:ext cx="905832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808080"/>
                </a:solidFill>
                <a:latin typeface="Bradley Hand ITC"/>
                <a:ea typeface="Times New Roman"/>
              </a:rPr>
              <a:t>Los higos están llenos de semillas y cuelgan en pares cuand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808080"/>
                </a:solidFill>
                <a:latin typeface="Bradley Hand ITC"/>
                <a:ea typeface="Times New Roman"/>
              </a:rPr>
              <a:t>crecen. Los higos incrementan la movilidad del esperma masculin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808080"/>
                </a:solidFill>
                <a:latin typeface="Bradley Hand ITC"/>
                <a:ea typeface="Times New Roman"/>
              </a:rPr>
              <a:t>E Incrementan el conteo de esperma previniendo la infertilida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808080"/>
                </a:solidFill>
                <a:latin typeface="Bradley Hand ITC"/>
                <a:ea typeface="Times New Roman"/>
              </a:rPr>
              <a:t>masculin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0" y="2832120"/>
            <a:ext cx="9525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-879120" y="5588280"/>
            <a:ext cx="11053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900" spc="-1" strike="noStrike">
                <a:solidFill>
                  <a:srgbClr val="3333ff"/>
                </a:solidFill>
                <a:latin typeface="Bradley Hand ITC"/>
                <a:ea typeface="Times New Roman"/>
              </a:rPr>
              <a:t>El camote se parece mucho al páncreas, y de hecho, regula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900" spc="-1" strike="noStrike">
                <a:solidFill>
                  <a:srgbClr val="3333ff"/>
                </a:solidFill>
                <a:latin typeface="Bradley Hand ITC"/>
                <a:ea typeface="Times New Roman"/>
              </a:rPr>
              <a:t>El índice gluc</a:t>
            </a:r>
            <a:r>
              <a:rPr b="1" lang="es-HN" sz="2800" spc="-1" strike="noStrike">
                <a:solidFill>
                  <a:srgbClr val="3333ff"/>
                </a:solidFill>
                <a:latin typeface="Bradley Hand ITC"/>
              </a:rPr>
              <a:t>é</a:t>
            </a:r>
            <a:r>
              <a:rPr b="1" lang="es-HN" sz="2900" spc="-1" strike="noStrike">
                <a:solidFill>
                  <a:srgbClr val="3333ff"/>
                </a:solidFill>
                <a:latin typeface="Bradley Hand ITC"/>
                <a:ea typeface="Times New Roman"/>
              </a:rPr>
              <a:t>mico en los diabéticos.</a:t>
            </a:r>
            <a:r>
              <a:rPr b="1" lang="es-HN" sz="2500" spc="-1" strike="noStrike">
                <a:solidFill>
                  <a:srgbClr val="3333cc"/>
                </a:solidFill>
                <a:latin typeface="Bradley Hand ITC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888840" y="3144600"/>
            <a:ext cx="723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Las aceitunas asisten a la buena salud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funcionamiento de los ovarios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-1827360" y="29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-1827360" y="2965320"/>
            <a:ext cx="952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5622120"/>
            <a:ext cx="9198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500" spc="-1" strike="noStrike">
                <a:solidFill>
                  <a:srgbClr val="000000"/>
                </a:solidFill>
                <a:latin typeface="Bradley Hand ITC"/>
                <a:ea typeface="Times New Roman"/>
              </a:rPr>
              <a:t>naranjas, toronjas, y otras frutas cítricas se asemejan a las glándulas mamarias en las mujeres, y ayudan a la salud y al flujo del movimiento linfático en los senos.</a:t>
            </a:r>
            <a:r>
              <a:rPr b="1" lang="es-HN" sz="2400" spc="-1" strike="noStrike">
                <a:solidFill>
                  <a:srgbClr val="000000"/>
                </a:solidFill>
                <a:latin typeface="Bradley Hand ITC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3333cc"/>
                </a:solidFill>
                <a:latin typeface="Bradley Hand ITC"/>
              </a:rPr>
              <a:t>La cebolla se parece mucho a las células del cuerpo. Los estudios revelan que la cebolla ayuda a limpiar los desechos/desperdicios materiales de todas las células del cuerpo. Incluso nos producen lagrimas que lavan las capas epiteliales de los ojos. Otro aliado es el ajo,  que también ayuda a eliminar los desechos materiales  y los peligrosos radicales libres del cuerp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5280" y="4724280"/>
            <a:ext cx="822960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200" spc="-1" strike="noStrike">
                <a:solidFill>
                  <a:srgbClr val="ff5050"/>
                </a:solidFill>
                <a:latin typeface="Bradley Hand ITC"/>
              </a:rPr>
              <a:t>Por favor no rompas este correo, incluso si se lo envías solo a otra persona. Mira la fecha cuando empezó. Gracia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image013(2)"/>
          <p:cNvPicPr/>
          <p:nvPr/>
        </p:nvPicPr>
        <p:blipFill>
          <a:blip r:embed="rId1"/>
          <a:stretch/>
        </p:blipFill>
        <p:spPr>
          <a:xfrm>
            <a:off x="3348000" y="836640"/>
            <a:ext cx="2448000" cy="3305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11280" y="414936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5050"/>
                </a:solidFill>
                <a:latin typeface="Bradley Hand ITC"/>
              </a:rPr>
              <a:t>Esta vela se encendió el 15 de Septiembre, 1998.   </a:t>
            </a:r>
            <a:br>
              <a:rPr sz="2800"/>
            </a:br>
            <a:r>
              <a:rPr b="0" lang="es-HN" sz="2800" spc="-1" strike="noStrike">
                <a:solidFill>
                  <a:srgbClr val="ff5050"/>
                </a:solidFill>
                <a:latin typeface="Bradley Hand ITC"/>
              </a:rPr>
              <a:t>alguien que te quiere ha ayudado a mantenerla enviándotela a 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5050"/>
                </a:solidFill>
                <a:latin typeface="Bradley Hand ITC"/>
              </a:rPr>
              <a:t>Pásala a todos aquellos que tu quiere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image014"/>
          <p:cNvPicPr/>
          <p:nvPr/>
        </p:nvPicPr>
        <p:blipFill>
          <a:blip r:embed="rId1"/>
          <a:stretch/>
        </p:blipFill>
        <p:spPr>
          <a:xfrm>
            <a:off x="3059280" y="260280"/>
            <a:ext cx="352872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-1018800" y="679320"/>
            <a:ext cx="11193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Bradley Hand ITC"/>
              </a:rPr>
              <a:t>Se nos dijo que Dios al inicio separo el agua sal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Bradley Hand ITC"/>
              </a:rPr>
              <a:t>del agua fresca, hizo la Tierra firme, planto un jardí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Bradley Hand ITC"/>
              </a:rPr>
              <a:t>Hizo los animales y los peces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Bradley Hand ITC"/>
              </a:rPr>
              <a:t>Todo antes de hacer al huma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Bradley Hand ITC"/>
              </a:rPr>
              <a:t>El hizo y proveyó de todo </a:t>
            </a:r>
            <a:r>
              <a:rPr b="1" lang="es-HN" sz="2800" spc="-1" strike="noStrike">
                <a:solidFill>
                  <a:srgbClr val="000000"/>
                </a:solidFill>
                <a:latin typeface="Bradley Hand ITC"/>
              </a:rPr>
              <a:t>el alimento</a:t>
            </a:r>
            <a:r>
              <a:rPr b="0" lang="es-HN" sz="2800" spc="-1" strike="noStrike">
                <a:solidFill>
                  <a:srgbClr val="000000"/>
                </a:solidFill>
                <a:latin typeface="Bradley Hand ITC"/>
              </a:rPr>
              <a:t> que íbamo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Bradley Hand ITC"/>
              </a:rPr>
              <a:t>necesitar antes que naciéram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Bradley Hand ITC"/>
              </a:rPr>
              <a:t>Estos son mejores y mas poderosos cuando los comemos cru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Bradley Hand ITC"/>
              </a:rPr>
              <a:t>Realmente que aprendemos lento... </a:t>
            </a:r>
            <a:br>
              <a:rPr sz="2800"/>
            </a:br>
            <a:r>
              <a:rPr b="0" lang="es-HN" sz="2800" spc="-1" strike="noStrike">
                <a:solidFill>
                  <a:srgbClr val="000000"/>
                </a:solidFill>
                <a:latin typeface="Bradley Hand ITC"/>
              </a:rPr>
              <a:t>Dios nos dejo una gran pista sobre que alimentos ayud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Bradley Hand ITC"/>
              </a:rPr>
              <a:t>a que parte de nuestro cuerpo!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HN" sz="2800" spc="-1" strike="noStrike">
                <a:solidFill>
                  <a:srgbClr val="000000"/>
                </a:solidFill>
                <a:latin typeface="Bradley Hand ITC"/>
              </a:rPr>
              <a:t>La farmacia de Dios si que es asombrosa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50920" y="-18720"/>
            <a:ext cx="8713800" cy="6919560"/>
          </a:xfrm>
          <a:prstGeom prst="rect">
            <a:avLst/>
          </a:prstGeom>
          <a:solidFill>
            <a:srgbClr val="ccfff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00"/>
                </a:solidFill>
                <a:latin typeface="Bradley Hand ITC"/>
              </a:rPr>
              <a:t>Una zanahoria en rodaja parece un ojo huma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00"/>
                </a:solidFill>
                <a:latin typeface="Bradley Hand ITC"/>
              </a:rPr>
              <a:t>La pupila, iris y las líneas alrededor se v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00"/>
                </a:solidFill>
                <a:latin typeface="Bradley Hand ITC"/>
              </a:rPr>
              <a:t>Igual que el ojo humano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00"/>
                </a:solidFill>
                <a:latin typeface="Bradley Hand ITC"/>
              </a:rPr>
              <a:t>Y si, la ciencia ahora nos muestra que las zanahorias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00"/>
                </a:solidFill>
                <a:latin typeface="Bradley Hand ITC"/>
              </a:rPr>
              <a:t>Gran manera optimizan el flujo de sang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00"/>
                </a:solidFill>
                <a:latin typeface="Bradley Hand ITC"/>
              </a:rPr>
              <a:t>Hacia ellos ayudando a su funcionamien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image001"/>
          <p:cNvPicPr/>
          <p:nvPr/>
        </p:nvPicPr>
        <p:blipFill>
          <a:blip r:embed="rId2"/>
          <a:stretch/>
        </p:blipFill>
        <p:spPr>
          <a:xfrm>
            <a:off x="4211640" y="1197000"/>
            <a:ext cx="95256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50920" y="256320"/>
            <a:ext cx="8642160" cy="6492960"/>
          </a:xfrm>
          <a:prstGeom prst="rect">
            <a:avLst/>
          </a:prstGeom>
          <a:solidFill>
            <a:srgbClr val="ff99cc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Un tomate tiene 4 cámaras y son roj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El corazón tiene 4 cámaras y son roj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Todas las investigaciones demuestr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Que los tomates están carg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con lycopina, Y son de hecho, pu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alimento para el corazón y la sang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image002(2)"/>
          <p:cNvPicPr/>
          <p:nvPr/>
        </p:nvPicPr>
        <p:blipFill>
          <a:blip r:embed="rId2"/>
          <a:stretch/>
        </p:blipFill>
        <p:spPr>
          <a:xfrm>
            <a:off x="539640" y="69228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-339480" y="-40320"/>
            <a:ext cx="9737640" cy="6919560"/>
          </a:xfrm>
          <a:prstGeom prst="rect">
            <a:avLst/>
          </a:prstGeom>
          <a:solidFill>
            <a:srgbClr val="ffff00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Las uvas colgando en un racimo tienen la for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de un coraz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Cada uva se parece mucho a una célula sanguí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Y todas las investigaciones de hoy en día demuestr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Que las Uvas son un profundo alimento vitaliza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Para el corazón y la sang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-909360" y="2160"/>
            <a:ext cx="11238840" cy="6492960"/>
          </a:xfrm>
          <a:prstGeom prst="rect">
            <a:avLst/>
          </a:prstGeom>
          <a:solidFill>
            <a:srgbClr val="00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Una nuez se ve igual a un pequeño cerebro, un hemisfe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derecho y uno izquierdo, cerebro superior y cerebelo inferior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Incluso las arrugas o pliegues en la nuez son iguales a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Neo-corteza. Ahora sabemos que las nueces ayud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3333cc"/>
                </a:solidFill>
                <a:latin typeface="Bradley Hand ITC"/>
              </a:rPr>
              <a:t>A desarrollar mas de tres</a:t>
            </a: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 (3) docenas de </a:t>
            </a:r>
            <a:r>
              <a:rPr b="1" lang="es-HN" sz="2800" spc="-1" strike="noStrike">
                <a:solidFill>
                  <a:srgbClr val="3333cc"/>
                </a:solidFill>
                <a:latin typeface="Bradley Hand ITC"/>
              </a:rPr>
              <a:t>neurotransmi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3333cc"/>
                </a:solidFill>
                <a:latin typeface="Bradley Hand ITC"/>
              </a:rPr>
              <a:t>Para la función cerebral.</a:t>
            </a:r>
            <a:r>
              <a:rPr b="1" lang="es-HN" sz="28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image004"/>
          <p:cNvPicPr/>
          <p:nvPr/>
        </p:nvPicPr>
        <p:blipFill>
          <a:blip r:embed="rId2"/>
          <a:stretch/>
        </p:blipFill>
        <p:spPr>
          <a:xfrm>
            <a:off x="539640" y="404640"/>
            <a:ext cx="2303640" cy="1336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-547200" y="5077800"/>
            <a:ext cx="1036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3333cc"/>
                </a:solidFill>
                <a:latin typeface="Bradley Hand ITC"/>
              </a:rPr>
              <a:t>Los frijoles, cuyo nombre en ingles es Kidney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3333cc"/>
                </a:solidFill>
                <a:latin typeface="Bradley Hand ITC"/>
              </a:rPr>
              <a:t> </a:t>
            </a:r>
            <a:r>
              <a:rPr b="1" lang="es-HN" sz="2400" spc="-1" strike="noStrike">
                <a:solidFill>
                  <a:srgbClr val="3333cc"/>
                </a:solidFill>
                <a:latin typeface="Bradley Hand ITC"/>
              </a:rPr>
              <a:t>(Kidney=Riñón, Beans=frijoles) de verdad sanan y ayu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3333cc"/>
                </a:solidFill>
                <a:latin typeface="Bradley Hand ITC"/>
              </a:rPr>
              <a:t>a mantener las funciones renales, y si, se ven exactamente igu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3333cc"/>
                </a:solidFill>
                <a:latin typeface="Bradley Hand ITC"/>
              </a:rPr>
              <a:t>A los riñones huma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-354600" y="-111600"/>
            <a:ext cx="94694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3333cc"/>
                </a:solidFill>
                <a:latin typeface="Bradley Hand ITC"/>
              </a:rPr>
              <a:t>Apio, Col china, Ruibarbo y muchos mas que tienen for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3333cc"/>
                </a:solidFill>
                <a:latin typeface="Bradley Hand ITC"/>
              </a:rPr>
              <a:t>parecida a los hues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3333cc"/>
                </a:solidFill>
                <a:latin typeface="Bradley Hand ITC"/>
              </a:rPr>
              <a:t>Estos alimentos específicamente aportan a la fortaleza ós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3333cc"/>
                </a:solidFill>
                <a:latin typeface="Bradley Hand ITC"/>
              </a:rPr>
              <a:t>Los huesos son 23% sodio, y estos alimentos son 23% sod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3333cc"/>
                </a:solidFill>
                <a:latin typeface="Bradley Hand ITC"/>
              </a:rPr>
              <a:t>Si no tienes suficiente sodio en tu dieta, el cuerpo lo ext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3333cc"/>
                </a:solidFill>
                <a:latin typeface="Bradley Hand ITC"/>
              </a:rPr>
              <a:t>De los huesos, haciéndolos débiles. Estos alimentos relle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3333cc"/>
                </a:solidFill>
                <a:latin typeface="Bradley Hand ITC"/>
              </a:rPr>
              <a:t>Y suplen las necesidades esqueléticas del cuerp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-1141560" y="2431080"/>
            <a:ext cx="11630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0066"/>
                </a:solidFill>
                <a:latin typeface="Bradley Hand ITC"/>
                <a:ea typeface="Tahoma"/>
              </a:rPr>
              <a:t>Aguacates, berenjenas y peras ayudan a la salud y el funciona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0066"/>
                </a:solidFill>
                <a:latin typeface="Bradley Hand ITC"/>
                <a:ea typeface="Tahoma"/>
              </a:rPr>
              <a:t>del vientre y cervix de la mujer – estos se ven igual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0066"/>
                </a:solidFill>
                <a:latin typeface="Bradley Hand ITC"/>
                <a:ea typeface="Tahoma"/>
              </a:rPr>
              <a:t>A estos órganos. Las investigaciones de hoy en día nos muestran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0066"/>
                </a:solidFill>
                <a:latin typeface="Bradley Hand ITC"/>
                <a:ea typeface="Tahoma"/>
              </a:rPr>
              <a:t>Cuando la mujer come un aguacate al dí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0066"/>
                </a:solidFill>
                <a:latin typeface="Bradley Hand ITC"/>
                <a:ea typeface="Tahoma"/>
              </a:rPr>
              <a:t>Sus hormonas se balancean, elimina peso postparto indesea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0066"/>
                </a:solidFill>
                <a:latin typeface="Bradley Hand ITC"/>
                <a:ea typeface="Tahoma"/>
              </a:rPr>
              <a:t>Y previene el cáncer cervical.  Y que tan profundo es esto?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0066"/>
                </a:solidFill>
                <a:latin typeface="Bradley Hand ITC"/>
                <a:ea typeface="Tahoma"/>
              </a:rPr>
              <a:t>Toma exactamente nueve (9) meses crecer un aguac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0066"/>
                </a:solidFill>
                <a:latin typeface="Bradley Hand ITC"/>
                <a:ea typeface="Tahoma"/>
              </a:rPr>
              <a:t>Desde su florecimiento hasta la maduración de la fruta, hay ma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0066"/>
                </a:solidFill>
                <a:latin typeface="Bradley Hand ITC"/>
                <a:ea typeface="Tahoma"/>
              </a:rPr>
              <a:t> </a:t>
            </a:r>
            <a:r>
              <a:rPr b="1" lang="es-HN" sz="2400" spc="-1" strike="noStrike">
                <a:solidFill>
                  <a:srgbClr val="ff0066"/>
                </a:solidFill>
                <a:latin typeface="Bradley Hand ITC"/>
                <a:ea typeface="Tahoma"/>
              </a:rPr>
              <a:t>14,000 componentes  químicos de nutrición en cada uno de es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0066"/>
                </a:solidFill>
                <a:latin typeface="Bradley Hand ITC"/>
                <a:ea typeface="Tahoma"/>
              </a:rPr>
              <a:t>alimentos (la ciencia moderna solo ha estudiado y nombr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0066"/>
                </a:solidFill>
                <a:latin typeface="Bradley Hand ITC"/>
                <a:ea typeface="Tahoma"/>
              </a:rPr>
              <a:t>alrededor de 141 de esto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avocado"/>
          <p:cNvPicPr/>
          <p:nvPr/>
        </p:nvPicPr>
        <p:blipFill>
          <a:blip r:embed="rId1"/>
          <a:stretch/>
        </p:blipFill>
        <p:spPr>
          <a:xfrm>
            <a:off x="0" y="0"/>
            <a:ext cx="3095640" cy="2492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eggplant"/>
          <p:cNvPicPr/>
          <p:nvPr/>
        </p:nvPicPr>
        <p:blipFill>
          <a:blip r:embed="rId2"/>
          <a:stretch/>
        </p:blipFill>
        <p:spPr>
          <a:xfrm>
            <a:off x="3203640" y="0"/>
            <a:ext cx="2881080" cy="2492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ear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1:18:49Z</dcterms:created>
  <dc:creator>謝財福</dc:creator>
  <dc:description/>
  <dc:language>en-US</dc:language>
  <cp:lastModifiedBy>Karen DelCid</cp:lastModifiedBy>
  <dcterms:modified xsi:type="dcterms:W3CDTF">2009-11-23T20:14:44Z</dcterms:modified>
  <cp:revision>32</cp:revision>
  <dc:subject/>
  <dc:title>PowerPoint 簡報</dc:title>
</cp:coreProperties>
</file>