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CC6BB9-8039-4919-A795-4736A69AD18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15A7850-1DC0-4608-B016-7016DC069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CE7DC73-3476-4BF5-95A5-035551253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37CD8D3-7ED4-43B4-B310-40F9E637A3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17615D-60E0-46DC-A620-9D5C5F588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AFF084-038A-430D-8589-1D65406EA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032ADC6-57EA-4BA6-A654-B2B0143B1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BFD04E1-6FF9-4B6D-BF4D-EFB9E68E7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C922EF6-4740-4AA7-A80E-F3CAAF28C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F1211D-DCDC-4BAD-BE34-4BF5BC956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3811385-9520-4690-991D-E976DA17A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05AF56D-FB46-4822-92C2-EAFA3F84AC2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0AAF-7278-4BC6-BE13-83676226BB8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amurillo</cp:lastModifiedBy>
  <dcterms:modified xsi:type="dcterms:W3CDTF">2009-06-10T19:32:04Z</dcterms:modified>
  <cp:revision>24</cp:revision>
  <dc:subject/>
  <dc:title>Carta Escrita en el año 2070</dc:title>
</cp:coreProperties>
</file>