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regina%20caeli08w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7E9-A0E0-434E-8212-3032932A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015-682B-4C96-8C00-36ABD032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F9D-24F4-42C1-B65C-098BB5B1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4F7-3CBF-41D6-9FE9-C4096EDC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1D8-E4B0-4510-963C-826E5F7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D74-2B5F-4E82-9D36-63FDAC8F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5BD-01FB-4CA3-ABA9-EC4E87FA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981-46F0-4C91-8ECF-FC50C5B1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851-D0E5-4F96-B0F6-5C418317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AD2-B2D4-4BCB-BAE3-709BD85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7F7-4173-42BC-AAAC-92452B7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938-F68D-44EA-8725-10B13CC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301-A3AB-4CB9-9825-284BC498E275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egina%20caeli08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057400"/>
            <a:ext cx="883944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2c258"/>
                </a:solidFill>
                <a:latin typeface="Comic Sans MS"/>
              </a:rPr>
              <a:t>La Epifanía del Señor</a:t>
            </a:r>
            <a:br>
              <a:rPr sz="4800"/>
            </a:br>
            <a:r>
              <a:rPr b="1" i="1" lang="ca-ES" sz="4800" spc="-1" strike="noStrike">
                <a:solidFill>
                  <a:srgbClr val="f2c258"/>
                </a:solidFill>
                <a:latin typeface="Comic Sans MS"/>
              </a:rPr>
              <a:t>20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3320" y="525780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úsica: “Regina caeli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regina%20caeli08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navid%201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431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371600"/>
            <a:ext cx="8839080" cy="4900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 Entonces Herodes llamó aparte a los magos y por sus datos precisó el tiempo de la aparición de la estrell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8 Después, enviándolos a Belén, les dijo: « Id e indagad cuidadosamente sobre ese niño; y cuando le encontréis, comunicádmelo, para ir también yo a adorarle. »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9 Ellos, después de oír al rey, se pusieron en camino, y he aquí que la estrella que habían visto en el Oriente iba  delante de ellos, hasta que llegó y se detuvo encima del lugar donde estaba el niño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0 Al ver la estrella se llenaron de inmensa alegrí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1 Entraron en la casa; vieron al niño con María su madre y, postrándose, le adoraron; abrieron luego sus cofres y  le ofrecieron dones de oro, incienso y mirr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2 Y, avisados en sueños que no volvieran donde Herodes, se retiraron a su país por otro camino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c2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erusol14wep" descr=""/>
          <p:cNvPicPr/>
          <p:nvPr/>
        </p:nvPicPr>
        <p:blipFill>
          <a:blip r:embed="rId1"/>
          <a:stretch/>
        </p:blipFill>
        <p:spPr>
          <a:xfrm>
            <a:off x="1693800" y="0"/>
            <a:ext cx="5756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080" y="6323040"/>
            <a:ext cx="1602720" cy="459720"/>
          </a:xfrm>
          <a:prstGeom prst="rect">
            <a:avLst/>
          </a:prstGeom>
          <a:solidFill>
            <a:srgbClr val="ffe47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erusal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04920"/>
            <a:ext cx="9144000" cy="5946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imera Lectura Isaías 60, 1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¡Arriba, resplandece, que ha llegado tu luz, y la gloria de Yahveh sobre ti ha amanecid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Pues mira cómo la oscuridad cubre la tierra, y espesa nube a los pueblos, mas sobre ti amanece Yahveh y su gloria sobre ti apare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Caminarán las naciones a tu luz, y los reyes al resplandor de tu albo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Alza los ojos en torno y mira: todos se reúnen y vienen a ti. Tus hijos vienen de lejos, y tus hijas son llevadas en braz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Tú entonces al verlo te pondrás radiante, se estremecerá y se ensanchará tu corazón, porque vendrán a ti los tesoros del mar, las riquezas de las naciones vendrán a 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Un sin fin de camellos te cubrirá, jóvenes dromedarios de Madián y Efá. Todos ellos de Sabá vienen portadores de oro e incienso y pregonando alabanzas a Yahveh. 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" y="0"/>
            <a:ext cx="4074480" cy="1099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Salmo 71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4600" y="4923000"/>
            <a:ext cx="6058800" cy="1191240"/>
          </a:xfrm>
          <a:prstGeom prst="rect">
            <a:avLst/>
          </a:prstGeom>
          <a:solidFill>
            <a:srgbClr val="0000d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710ba"/>
                </a:solidFill>
                <a:latin typeface="Comic Sans MS"/>
              </a:rPr>
              <a:t> </a:t>
            </a: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Se postrarán anti ti, Señor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todos los reyes de la tier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4080" y="1676520"/>
            <a:ext cx="8329680" cy="2043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d1"/>
                </a:solidFill>
                <a:latin typeface="Arial"/>
                <a:ea typeface="Times New Roman"/>
              </a:rPr>
              <a:t>Oh Dios, da tu juicio al rey,</a:t>
            </a:r>
            <a:br>
              <a:rPr sz="3200"/>
            </a:br>
            <a:r>
              <a:rPr b="1" i="1" lang="ca-ES" sz="3200" spc="-1" strike="noStrike">
                <a:solidFill>
                  <a:srgbClr val="0000d1"/>
                </a:solidFill>
                <a:latin typeface="Arial"/>
                <a:ea typeface="Times New Roman"/>
              </a:rPr>
              <a:t>tu justicia al heredero del trono,</a:t>
            </a:r>
            <a:br>
              <a:rPr sz="3200"/>
            </a:br>
            <a:r>
              <a:rPr b="1" i="1" lang="ca-ES" sz="3200" spc="-1" strike="noStrike">
                <a:solidFill>
                  <a:srgbClr val="0000d1"/>
                </a:solidFill>
                <a:latin typeface="Arial"/>
                <a:ea typeface="Times New Roman"/>
              </a:rPr>
              <a:t>para que gobierne a tu pueblo con justicia</a:t>
            </a:r>
            <a:br>
              <a:rPr sz="3200"/>
            </a:br>
            <a:r>
              <a:rPr b="1" i="1" lang="ca-ES" sz="3200" spc="-1" strike="noStrike">
                <a:solidFill>
                  <a:srgbClr val="0000d1"/>
                </a:solidFill>
                <a:latin typeface="Arial"/>
                <a:ea typeface="Times New Roman"/>
              </a:rPr>
              <a:t>y a tus humildes con equ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2514600"/>
            <a:ext cx="81676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Que florezcan en sus días la justic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y haya prosperidad mientras alumbre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Que domine de mar a mar desde el Eufrates hasta los confines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31280" y="4995720"/>
            <a:ext cx="605880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Se postrarán anti ti, Señor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todos los reyes de la tier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1400" y="1752480"/>
            <a:ext cx="85017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Que los reyes de Tarsis y de los pueblos lejanos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le traigan presentes; que los monarcas de Arabia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y de Sabá le hagan regalos;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que se postren ante él todos los rey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y que lo sirvan todas las n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59880" y="4836960"/>
            <a:ext cx="60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Se postrarán anti ti, Señor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todos los reyes de la tier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1560" y="914400"/>
            <a:ext cx="66211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Porque él librará al pobre que suplica,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al humilde que no tiene defens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tendrá piedad del pobre desvalido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y salvará la vida de los po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006880"/>
            <a:ext cx="6553080" cy="119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Se postrarán anti ti, Señor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todos los reyes de la tier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ontt2" descr=""/>
          <p:cNvPicPr/>
          <p:nvPr/>
        </p:nvPicPr>
        <p:blipFill>
          <a:blip r:embed="rId1"/>
          <a:stretch/>
        </p:blipFill>
        <p:spPr>
          <a:xfrm>
            <a:off x="1165320" y="0"/>
            <a:ext cx="6813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57200"/>
            <a:ext cx="8763120" cy="4483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gunda Lectura </a:t>
            </a:r>
            <a:r>
              <a:rPr b="1" i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 3,2-3a.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2 Hermanos: Habéis oído hablar de la distribución de la gracia que Dios me concedió a favor vuestr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3 cómo me fue comunicado por una revelación el conocimiento del Misterio, tal como brevemente acabo de expone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Misterio que en generaciones pasadas no fue dado a conocer a los hombres, como ha sido ahora revelado a sus santos apóstoles y profetas por el Espírit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que los gentiles sois coherederos, miembros del mismo Cuerpo y partícipes de la misma Promesa en Cristo Jesús por  medio del Evangelio,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33920" y="1676520"/>
            <a:ext cx="5410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Aleluy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Arial"/>
              </a:rPr>
              <a:t>Hemos visto salir su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Arial"/>
              </a:rPr>
              <a:t>y venimos a adorarlo.</a:t>
            </a:r>
            <a:r>
              <a:rPr b="1" i="1" lang="es-ES" sz="2500" spc="-1" strike="noStrike">
                <a:solidFill>
                  <a:srgbClr val="0000d1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28600"/>
            <a:ext cx="2133720" cy="190512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is1" descr=""/>
          <p:cNvPicPr/>
          <p:nvPr/>
        </p:nvPicPr>
        <p:blipFill>
          <a:blip r:embed="rId1"/>
          <a:stretch/>
        </p:blipFill>
        <p:spPr>
          <a:xfrm>
            <a:off x="2023920" y="0"/>
            <a:ext cx="5096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457200"/>
            <a:ext cx="7848720" cy="5277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Mt 2,1-12</a:t>
            </a: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000"/>
            </a:b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ci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sús en Belén de Judea, en tiempo del rey Herodes, unos magos que venían del Oriente se presentaron en Jerusalé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diciendo: « ¿Dónde está el Rey de los judíos que ha nacido? Pues vimos su estrella en el Oriente y hemos venido  a adorarle. 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En oyéndolo, el rey Herodes se sobresaltó y con él toda Jerusalé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Convocó a todos los sumos sacerdotes y escribas del pueblo, y por ellos se estuvo informando del lugar donde había de nacer el Cris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 Ellos le dijeron: « En Belén de Judea, porque así está escrito por medio del profe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 Y tú, Belén, tierra de Judá, no eres, no, la menor entre los principales clanes de Judá; porque de ti saldrá un caudillo que apacentará a mi pueblo Israel. 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9:09:47Z</dcterms:created>
  <dc:creator>JOAN RAMIREZ</dc:creator>
  <dc:description/>
  <dc:language>en-US</dc:language>
  <cp:lastModifiedBy>Usuario</cp:lastModifiedBy>
  <dcterms:modified xsi:type="dcterms:W3CDTF">2010-01-01T21:22:06Z</dcterms:modified>
  <cp:revision>25</cp:revision>
  <dc:subject/>
  <dc:title>Presentación de PowerPoint</dc:title>
</cp:coreProperties>
</file>