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Chamras%20Saewataporn%20-%20Stream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FFB-EB8F-41A3-A03C-819AF347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1F4-809D-446C-B9B8-D4A64EB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584-0D1F-45EF-95C4-ED4273D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990-BB7F-4E2E-93AF-E99F35B4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68B-A29C-4C77-A039-C27ACBB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2E8-DB99-4346-AB37-8D11F9D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062-449D-4B8D-BE12-22FF317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E28-D073-4EA3-96AA-E67C41F4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EED-E630-4B05-8713-C467DED3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920-AF23-40F4-9017-53DB70E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C08-4CB1-4B8B-80B4-7FCA6626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D9D-22C4-4B34-BBA8-9214C267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083-9B0A-419A-8286-465D4A3026F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amras%20Saewataporn%20-%20St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70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ülönleges pillan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ógaléria 2005 legjobb képei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029120" cy="381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9040" y="630864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xto agregado por José Luis Chávez Ramí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Chamras%20Saewataporn%20-%20St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9960" y="42372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omos responsables por lo que hacemos, no importa cómo nos sinta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1440" y="423720"/>
            <a:ext cx="53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 no controlas tu actitud, ella te controlará a 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765000"/>
            <a:ext cx="848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n importar que tan excitante es una relación al principio, la pasión desvanece y más vale que haya otra cosa que tome su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83664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os héroes son las personas que hacen lo que se tiene que hacer, cuando se necesita hacerlo y sin importar las consecu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3933720"/>
            <a:ext cx="65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dinero es una pésima forma de mantener el marcado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360" y="5157720"/>
            <a:ext cx="82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i mejor amigo y yo podemos hacer cualquier cosa, o no hacer nada, y pasar el mejor tiemp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333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 las personas que esperas que te pateen cuando estás derrotado, son las que te ayudarán a levant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83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 veces, cuando estoy enojado, y aunque tenga derecho para estarlo, eso no me da el derecho de ser cr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920" y="1073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or el hecho de que una persona no te quiera como tú quisieras que lo hiciera, no significa que no te quiera con todo lo que tien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49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 madurez tiene más que ver con las experiencias que has tenido y lo que has aprendido de ellas, que con el número de cumpleaños que has celebr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3280" y="1268280"/>
            <a:ext cx="370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¿Qué has aprendido en la vida?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720" y="18900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no siempre es suficiente ser perdonado por los demás. A veces tienes que aprender a perdonarte a ti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5000" y="5661000"/>
            <a:ext cx="86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to está roto tu corazón, el mundo no se detiene por tu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364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uestro pasado y nuestras circunstancias pueden haber influenciado en quiénes somos, pero somos responsables por quién llegamos a s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360" y="33336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l hecho de que dos personas discutan no significa que no se quieran el uno al otro. Y el hecho de que no discutan, no significa que sí se quieran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3280" y="189000"/>
            <a:ext cx="88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debes insistir tanto en encontrar un secreto. Podría cambiar tu vida para siempr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136440"/>
            <a:ext cx="84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dos personas pueden ver exactamente la misma cosa, y ver algo totalmente difer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240" y="260280"/>
            <a:ext cx="88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tu vida puede ser cambiada en cuestión de horas por personas que ni siquiera te cono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515772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aún cuando piensas que no tienes más que dar, cuando un amigo te llora, encontrarás la fuerza para ayud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87560" y="26028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credenciales en la pared no te hacen una persona de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24720" y="5589720"/>
            <a:ext cx="74304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400" y="1052640"/>
            <a:ext cx="615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as personas por las que más te preocupas en la vida se van demasiado pr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64320" y="4941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éntale esto a todas las personas en las que crees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 lo acabo de ha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8080" y="54936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tenemos que cambiar a los amigos, si entendemos que los amigos camb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46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no importa qué tan bueno es un amigo, te van a lastimar en algún momento y los debes perdonar por 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2960" y="476280"/>
            <a:ext cx="785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 Que la amistad verdadera continua creciendo, aún más allá de la distancia. Lo mismo pasa con el amo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7200" y="559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hacer algo en un instante que te causará dolor de por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2120" y="5157720"/>
            <a:ext cx="79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 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me está tomando mucho tiempo llegar a ser la persona que quiero ser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549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iempre debes dejar con palabras de amor a las personas que quieres. Puede ser la última vez que las v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6640" y="26028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e aprendido..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puedes seguir adelante mucho después de que no pue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9:04:50Z</dcterms:created>
  <dc:creator>Csondy</dc:creator>
  <dc:description/>
  <dc:language>en-US</dc:language>
  <cp:lastModifiedBy>Grupo Financiero Banamex</cp:lastModifiedBy>
  <dcterms:modified xsi:type="dcterms:W3CDTF">2007-12-18T23:19:20Z</dcterms:modified>
  <cp:revision>4</cp:revision>
  <dc:subject/>
  <dc:title>a National Geographic</dc:title>
</cp:coreProperties>
</file>