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Chamras%20Saewataporn%20-%20Stream.wav" ContentType="audio/x-wav"/>
  <Override PartName="/ppt/media/image11.jpeg" ContentType="image/jpeg"/>
  <Override PartName="/ppt/media/image1.gif" ContentType="image/gif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AE5-DDF0-4A09-A618-D15382C4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EA19-DB57-4C9C-99D2-F8F4CB8A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57C-CED7-4E7B-9565-BE2EFF36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61D9-57C7-432F-A70E-E6E4E6F9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6F1-489A-42C3-A760-F83D95BF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1C90-345D-47DA-842F-E6485CCE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53A-91B4-4068-8EA7-19F63733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3A0B-7CDC-4961-BEDA-1197C739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61BA-2A5D-42B7-8EA1-C2293914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DF7-8F26-4D7E-8116-9913A0E4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8DAD-4B56-4EBC-B562-7202BDCF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31B-2E85-4E89-99D8-063B4359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FCEF-1C94-48B0-AB05-C6E67DCBC403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amras%20Saewataporn%20-%20Stream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70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6000" spc="-1" strike="noStrike">
                <a:solidFill>
                  <a:srgbClr val="000000"/>
                </a:solidFill>
                <a:latin typeface="Arial"/>
              </a:rPr>
              <a:t>National Geographi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ülönleges pillana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tógaléria 2005 legjobb képeib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029120" cy="381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9040" y="6308640"/>
            <a:ext cx="49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exto agregado por José Luis Chávez Ramí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Chamras%20Saewataporn%20-%20Stream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9960" y="423720"/>
            <a:ext cx="813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omos responsables por lo que hacemos, no importa cómo nos sinta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1440" y="423720"/>
            <a:ext cx="53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i no controlas tu actitud, ella te controlará a 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9640" y="765000"/>
            <a:ext cx="848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in importar que tan excitante es una relación al principio, la pasión desvanece y más vale que haya otra cosa que tome su lu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2280" y="83664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os héroes son las personas que hacen lo que se tiene que hacer, cuando se necesita hacerlo y sin importar las consecu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760" y="3933720"/>
            <a:ext cx="65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el dinero es una pésima forma de mantener el marcador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41360" y="5157720"/>
            <a:ext cx="826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mi mejor amigo y yo podemos hacer cualquier cosa, o no hacer nada, y pasar el mejor tiempo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333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a veces las personas que esperas que te pateen cuando estás derrotado, son las que te ayudarán a levantar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4000" y="8366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a veces, cuando estoy enojado, y aunque tenga derecho para estarlo, eso no me da el derecho de ser cru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8920" y="10731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por el hecho de que una persona no te quiera como tú quisieras que lo hiciera, no significa que no te quiera con todo lo que tiene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496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a madurez tiene más que ver con las experiencias que has tenido y lo que has aprendido de ellas, que con el número de cumpleaños que has celebr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3280" y="1268280"/>
            <a:ext cx="370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 APRENDID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¿Qué has aprendido en la vida?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20720" y="189000"/>
            <a:ext cx="81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no siempre es suficiente ser perdonado por los demás. A veces tienes que aprender a perdonarte a ti m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5000" y="5661000"/>
            <a:ext cx="86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o importa qué tanto está roto tu corazón, el mundo no se detiene por tu pe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9280" y="13644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uestro pasado y nuestras circunstancias pueden haber influenciado en quiénes somos, pero somos responsables por quién llegamos a ser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4360" y="333360"/>
            <a:ext cx="88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el hecho de que dos personas discutan no significa que no se quieran el uno al otro. Y el hecho de que no discutan, no significa que sí se quieran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33280" y="189000"/>
            <a:ext cx="880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o debes insistir tanto en encontrar un secreto. Podría cambiar tu vida para siempre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4000" y="136440"/>
            <a:ext cx="84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dos personas pueden ver exactamente la misma cosa, y ver algo totalmente difer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1240" y="260280"/>
            <a:ext cx="885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tu vida puede ser cambiada en cuestión de horas por personas que ni siquiera te cono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0" y="5157720"/>
            <a:ext cx="905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aún cuando piensas que no tienes más que dar, cuando un amigo te llora, encontrarás la fuerza para ayuda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987560" y="260280"/>
            <a:ext cx="70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as credenciales en la pared no te hacen una persona dec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24720" y="5589720"/>
            <a:ext cx="743040" cy="571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9400" y="1052640"/>
            <a:ext cx="615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as personas por las que más te preocupas en la vida se van demasiado pro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64320" y="4941720"/>
            <a:ext cx="56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éntale esto a todas las personas en las que crees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o lo acabo de ha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8080" y="549360"/>
            <a:ext cx="87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o tenemos que cambiar a los amigos, si entendemos que los amigos camb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4046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 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o importa qué tan bueno es un amigo, te van a lastimar en algún momento y los debes perdonar por 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42960" y="476280"/>
            <a:ext cx="785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 Que la amistad verdadera continua creciendo, aún más allá de la distancia. Lo mismo pasa con el amor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17200" y="5595840"/>
            <a:ext cx="75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puedes hacer algo en un instante que te causará dolor de por v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2120" y="5157720"/>
            <a:ext cx="79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 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me está tomando mucho tiempo llegar a ser la persona que quiero ser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5280" y="54936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iempre debes dejar con palabras de amor a las personas que quieres. Puede ser la última vez que las v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6640" y="260280"/>
            <a:ext cx="66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puedes seguir adelante mucho después de que no pue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09:04:50Z</dcterms:created>
  <dc:creator>Csondy</dc:creator>
  <dc:description/>
  <dc:language>en-US</dc:language>
  <cp:lastModifiedBy>Grupo Financiero Banamex</cp:lastModifiedBy>
  <dcterms:modified xsi:type="dcterms:W3CDTF">2007-12-18T23:19:20Z</dcterms:modified>
  <cp:revision>4</cp:revision>
  <dc:subject/>
  <dc:title>a National Geographic</dc:title>
</cp:coreProperties>
</file>