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185-42A8-4156-BA1A-FE2DFDB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496-0A00-49C5-9DDD-8022198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9D3-2710-49F6-A926-E30A867E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266-1F33-4FA4-8E29-4F7F2110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691-75EE-4555-8779-A7AA059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E09C-CDFF-4569-8484-A58451AA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D3D8-CA9B-4512-B4BC-01B75C0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EC2C-C245-4F9F-843F-6F5F820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E0D-F151-43E8-94F7-DE525E0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9D7-27DD-4929-A805-6BB2E0BE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3964-420D-40F7-970E-0FD5D07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BE6-B3C9-4EC7-B549-C4D124A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C1DD-AF4B-4378-8CF1-9B6461D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C943-105F-42A9-8DE9-EEAEA1A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DA0-F7AF-4431-B099-E7FAD76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E224-CACB-46DF-A993-74E6C1A1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2CB-5633-459E-B0A6-DA1379DE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3FF-7F6D-44E9-A010-7E79BA6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674-5983-448C-9D87-1F93E396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453-2827-4BDB-9208-4C0895C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3FE-35E5-4C45-A3D4-3653F71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513-72DD-431B-93A5-B54A056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5F0-821D-4606-8960-F82C7F1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19F-C047-4FF9-A96B-0E0B705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41C-C24C-433F-A5E5-EFE01FDC0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EA1-23D7-4051-B93D-56ED5AA57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92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ahoma"/>
              </a:rPr>
              <a:t>Las escenas que vas a ver a continuación son duras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sto es la aplicación de la sharia, es decir: la ley islámica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Los delitos son juzgados por tribunales religiosos.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Es que ya has visto las fotos del niño y te suena al cuento de nuca acabar. </a:t>
            </a:r>
            <a:br>
              <a:rPr sz="5400"/>
            </a:b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No te preocupes que hay muchas más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te parecen las lapidaciones a mujeres adulteras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4388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n pleno siglo XXI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683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Las piedras tienen su medida exac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54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No vaya a ser </a:t>
            </a:r>
            <a:br>
              <a:rPr sz="4800"/>
            </a:b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se muera enseguida.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2984760" cy="255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3095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683320" cy="426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Esto lo dice Amnistía Internacional no me lo he inventado y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h, por cierto, a un niño que se atreva a hacer el siguiente dibujo, habrá que cortarle la mano con la que cometió el sacrilegi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59040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Si crees que esto es vid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50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Un niño de ocho años es capturado en un mercado en Irán  tras haber robado pan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No existe la justicia civil, como la entendemos en Occidente. </a:t>
            </a: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l Corán es la única ley.  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97180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14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6048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048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Y todavía hay muchas má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79600" cy="505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79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345600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07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21300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213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7920" y="90792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782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odavía crees que todas las creencias son respetab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ú también te has tragado lo de la «alianza de civilizaciones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N ESPAÑA,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CON EL DINERO DE TUS IMPUESTOS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, SE ESTÁN CONSTRUYENDO ESCUELAS CORÁNICAS Y MEZQUIT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3447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SI NO ESTÁS DE ACUERDO CON TODO ELLO, ENTONCES ERES RACISTA, FACH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POCO SOLIDARIO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50403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a a ser castigado en ese mismo lugar, en nombre del islam. Su brazo deberá ser aplastado por un vehículo. Así no volverá a roba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fectivamente, no volverá a robar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e5ffff"/>
                </a:solidFill>
                <a:latin typeface="Tahoma"/>
              </a:rPr>
              <a:t>Ya están aquí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920" y="249228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171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e5ffff"/>
                </a:solidFill>
                <a:latin typeface="Tahoma"/>
              </a:rPr>
              <a:t>Por que nuestras hijas y nuestras mujeres nunca se tengan que ver así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8768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3645000"/>
            <a:ext cx="2814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YA ESTÁ BIEN DE TANTA HIPOCRESÍA Y DE DEFENDER LO POLÍTICAMENTE CORRECT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ahoma"/>
              </a:rPr>
              <a:t>PROTESTA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8800" spc="-1" strike="noStrike">
                <a:solidFill>
                  <a:srgbClr val="ffcc00"/>
                </a:solidFill>
                <a:latin typeface="Tahoma"/>
              </a:rPr>
              <a:t>P Á S A L O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74680" cy="309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155680" cy="3068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843280" y="304812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376200"/>
            <a:ext cx="7632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318960"/>
            <a:ext cx="7488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76200"/>
            <a:ext cx="74883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318960"/>
            <a:ext cx="7559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376200"/>
            <a:ext cx="73454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7:08:10Z</dcterms:created>
  <dc:creator>Franck</dc:creator>
  <dc:description/>
  <dc:language>en-US</dc:language>
  <cp:lastModifiedBy>JUAN LUCAS NAVALON ANGEL</cp:lastModifiedBy>
  <dcterms:modified xsi:type="dcterms:W3CDTF">2009-03-02T02:37:08Z</dcterms:modified>
  <cp:revision>9</cp:revision>
  <dc:subject/>
  <dc:title>Un enfant de 8 ans, attrapé sur un marché en Iran pour avoir volé du     pain      </dc:title>
</cp:coreProperties>
</file>