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C88-BB0E-44D5-908F-72F82173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BF9-61D3-41DE-9DBF-5FF7E04F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CA8-587A-44B3-8E35-DD2C0141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B45-17BA-4C8F-B040-F10336B0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02F-1FEA-41DE-9D5F-32BBFEEC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142-9709-4109-8840-031E6B8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41B9-5D68-41CC-B6B0-2BD8FBDB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5E6-3583-4F1D-968B-26456229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8FE-58F6-4ED7-B7A9-DC0B4BB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CA0E-68E2-48F8-A988-2CB3FC3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1AC6-5CFA-4168-A5AD-349A550A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249-9260-4055-A892-0D9BAFAA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8C32-4DBF-43BC-8AD8-3AC5534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3646-78DB-4F81-A3AD-384548D8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8F8B-2481-46C4-94D2-B1E6B6A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9B87-E6DD-4814-9F92-D6E12255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6F80-F3EF-475C-B4C7-A1B3B23D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F1E-8596-4518-BD86-E4AD799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9D2-E63B-427A-A900-16874397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2DC-0FC1-426F-B5B1-19E1183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C21-80F6-4CC3-B4E3-A2BFB18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440-923B-4C77-A376-C7E61F2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5E6-1908-48A2-A8F3-98D94DF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AD8-1148-40C7-8E5A-3D530049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FA86-59AA-4E7E-8E41-B18047241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3F90-3EB7-4EA1-B032-3A95A022E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92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ahoma"/>
              </a:rPr>
              <a:t>Las escenas que vas a ver a continuación son duras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sto es la aplicación de la sharia, es decir: la ley islámica. 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Los delitos son juzgados por tribunales religiosos.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Es que ya has visto las fotos del niño y te suena al cuento de nuca acabar. </a:t>
            </a:r>
            <a:br>
              <a:rPr sz="5400"/>
            </a:br>
            <a:r>
              <a:rPr b="0" lang="es-ES" sz="5400" spc="-1" strike="noStrike">
                <a:solidFill>
                  <a:srgbClr val="e5ffff"/>
                </a:solidFill>
                <a:latin typeface="Tahoma"/>
              </a:rPr>
              <a:t>No te preocupes que hay muchas más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te parecen las lapidaciones a mujeres adulteras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4388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n pleno siglo XXI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683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Las piedras tienen su medida exacta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549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No vaya a ser </a:t>
            </a:r>
            <a:br>
              <a:rPr sz="4800"/>
            </a:b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que se muera enseguida.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2984760" cy="255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08720" y="2924280"/>
            <a:ext cx="30956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683320" cy="426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5ffff"/>
                </a:solidFill>
                <a:latin typeface="Tahoma"/>
              </a:rPr>
              <a:t>Esto lo dice Amnistía Internacional no me lo he inventado y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Ah, por cierto, a un niño que se atreva a hacer el siguiente dibujo, habrá que cortarle la mano con la que cometió el sacrilegio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8000" y="907920"/>
            <a:ext cx="59040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Si crees que esto es vida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50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Un niño de ocho años es capturado en un mercado en Irán  tras haber robado pan.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No existe la justicia civil, como la entendemos en Occidente. </a:t>
            </a:r>
            <a:br>
              <a:rPr sz="4000"/>
            </a:br>
            <a:r>
              <a:rPr b="0" lang="fr-FR" sz="4000" spc="-1" strike="noStrike">
                <a:solidFill>
                  <a:srgbClr val="e5ffff"/>
                </a:solidFill>
                <a:latin typeface="Tahoma"/>
              </a:rPr>
              <a:t>El Corán es la única ley.    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2971800" cy="391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8148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60483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048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Y todavía hay muchas más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379600" cy="505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156360" y="1628640"/>
            <a:ext cx="279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345600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11640" y="333360"/>
            <a:ext cx="4707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321300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3213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7920" y="90792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782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odavía crees que todas las creencias son respetab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¿Tú también te has tragado lo de la «alianza de civilizaciones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EN ESPAÑA, </a:t>
            </a:r>
            <a:r>
              <a:rPr b="0" lang="es-ES" sz="4000" spc="-1" strike="noStrike" u="sng">
                <a:solidFill>
                  <a:srgbClr val="ffffff"/>
                </a:solidFill>
                <a:uFillTx/>
                <a:latin typeface="Tahoma"/>
              </a:rPr>
              <a:t>CON EL DINERO DE TUS IMPUESTOS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, SE ESTÁN CONSTRUYENDO ESCUELAS CORÁNICAS Y MEZQUIT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3447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SI NO ESTÁS DE ACUERDO CON TODO ELLO, ENTONCES ERES RACISTA, FACH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Y POCO SOLIDARIO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50403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Va a ser castigado en ese mismo lugar, en nombre del islam. Su brazo deberá ser aplastado por un vehículo. Así no volverá a roba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ahoma"/>
              </a:rPr>
              <a:t>Efectivamente, no volverá a robar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e5ffff"/>
                </a:solidFill>
                <a:latin typeface="Tahoma"/>
              </a:rPr>
              <a:t>Ya están aquí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920" y="2492280"/>
            <a:ext cx="886608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19640" y="5229360"/>
            <a:ext cx="2171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e5ffff"/>
                </a:solidFill>
                <a:latin typeface="Tahoma"/>
              </a:rPr>
              <a:t>Por que nuestras hijas y nuestras mujeres nunca se tengan que ver así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87684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3645000"/>
            <a:ext cx="2814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YA ESTÁ BIEN DE TANTA HIPOCRESÍA Y DE DEFENDER LO POLÍTICAMENTE CORRECT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ahoma"/>
              </a:rPr>
              <a:t>PROTESTA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8800" spc="-1" strike="noStrike">
                <a:solidFill>
                  <a:srgbClr val="ffcc00"/>
                </a:solidFill>
                <a:latin typeface="Tahoma"/>
              </a:rPr>
              <a:t>P Á S A L O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74680" cy="309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155680" cy="3068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843280" y="3048120"/>
            <a:ext cx="328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376200"/>
            <a:ext cx="76327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318960"/>
            <a:ext cx="7488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376200"/>
            <a:ext cx="748836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318960"/>
            <a:ext cx="7559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376200"/>
            <a:ext cx="73454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7:08:10Z</dcterms:created>
  <dc:creator>Franck</dc:creator>
  <dc:description/>
  <dc:language>en-US</dc:language>
  <cp:lastModifiedBy>JUAN LUCAS NAVALON ANGEL</cp:lastModifiedBy>
  <dcterms:modified xsi:type="dcterms:W3CDTF">2009-03-02T02:37:08Z</dcterms:modified>
  <cp:revision>9</cp:revision>
  <dc:subject/>
  <dc:title>Un enfant de 8 ans, attrapé sur un marché en Iran pour avoir volé du     pain      </dc:title>
</cp:coreProperties>
</file>