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5CF8-8B4B-46ED-9191-69219568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0C8E-7C85-48FB-B241-0636D9D3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969-31CB-4986-8C6E-A0E65C27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1270-937E-4E58-961B-79E812E9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CBA-0200-47FF-A575-86F7F747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87D-0B73-4655-9CA8-B5FB5CED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10E7-A520-4287-9022-59D0BF92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10A-C053-4E83-B7F6-C070C59F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20E-38D0-457F-9B57-E3F42CE6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007-8DE3-4F69-BD9B-B6DF50B1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8A06-B0FA-4ACF-AD02-E6199224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FF8-5235-4CCB-BF2E-052301F8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AC5C-3D7B-4F47-B141-EB1564C8E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836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                                   </a:t>
            </a: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TRABAJAREMOS 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Fidel está dando uno de sus discursos en la Plaza y dice: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-¡Y a partir de ahora hay que sacrificarse más...!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Se oye una voz 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la multitud: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-Trabajaremos el doble... 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Sigue Fidel:-Y hay que comprender que habrá menos alimento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 </a:t>
            </a: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Y se oye otra vez la misma voz......-Trabajaremos el triple...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Algo molesto, 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Fidel continúa: -Y las dificultades crecerán.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Se vuelve a oír la misma voz en la multitud: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-Trabajaremos el cuádruple!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Fidel se vira para el jefe de la seguridad y pregunta. -Oye, ¿quién es ese idiota que va a trabajar tanto?. </a:t>
            </a:r>
            <a:br>
              <a:rPr sz="1800"/>
            </a:br>
            <a:r>
              <a:rPr b="0" lang="es-ES" sz="1800" spc="-1" strike="noStrike">
                <a:solidFill>
                  <a:srgbClr val="800000"/>
                </a:solidFill>
                <a:latin typeface="Arial Rounded MT Bold"/>
              </a:rPr>
              <a:t>El jefe de seguridad le responde: -No se preocupe, Comandante, ese es el sepulturero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BSTETRICIA CUB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o de los adelantos de la medicina cubana es no tener que darle una nalgada al niño cuando nace.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l médico se acerca al niño y le dice bajito al oído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-Oye, naciste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uba...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cto seguido el bebé empieza a chillar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MÁXIMA ASPIRACIÓ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Le pregunta el papá a su hijo cubano de seis años:</a:t>
            </a:r>
            <a:br>
              <a:rPr sz="3200"/>
            </a:b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-¿Qué quieres ser cuando seas grande?.</a:t>
            </a:r>
            <a:br>
              <a:rPr sz="3200"/>
            </a:b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El niño le responde:</a:t>
            </a:r>
            <a:br>
              <a:rPr sz="3200"/>
            </a:b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-¿Yo...? ¡Extranjero...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cc00cc"/>
                </a:solidFill>
                <a:latin typeface="Arial"/>
              </a:rPr>
              <a:t>COMPETENCIA CUBA-USA</a:t>
            </a:r>
            <a:br>
              <a:rPr sz="3200"/>
            </a:br>
            <a:r>
              <a:rPr b="0" lang="es-ES" sz="3200" spc="-1" strike="noStrike">
                <a:solidFill>
                  <a:srgbClr val="cc00cc"/>
                </a:solidFill>
                <a:latin typeface="Arial"/>
              </a:rPr>
              <a:t>Un cubano y un americano echan una carrera y gana el americano. </a:t>
            </a:r>
            <a:br>
              <a:rPr sz="3200"/>
            </a:br>
            <a:r>
              <a:rPr b="0" lang="es-ES" sz="3200" spc="-1" strike="noStrike">
                <a:solidFill>
                  <a:srgbClr val="cc00cc"/>
                </a:solidFill>
                <a:latin typeface="Arial"/>
              </a:rPr>
              <a:t>Al otro día sale en el Gramma el siguiente titular :</a:t>
            </a:r>
            <a:br>
              <a:rPr sz="3200"/>
            </a:br>
            <a:r>
              <a:rPr b="0" lang="es-ES" sz="3200" spc="-1" strike="noStrike">
                <a:solidFill>
                  <a:srgbClr val="cc00cc"/>
                </a:solidFill>
                <a:latin typeface="Arial"/>
              </a:rPr>
              <a:t>"Cuba, en segundo lugar. USA, en el penúltimo."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333300"/>
                </a:solidFill>
                <a:latin typeface="Arial"/>
              </a:rPr>
              <a:t>FIDEL EN EL CÍRCULO INFANTIL.</a:t>
            </a:r>
            <a:br>
              <a:rPr sz="2800"/>
            </a:br>
            <a:r>
              <a:rPr b="0" lang="es-ES" sz="2800" spc="-1" strike="noStrike">
                <a:solidFill>
                  <a:srgbClr val="333300"/>
                </a:solidFill>
                <a:latin typeface="Arial"/>
              </a:rPr>
              <a:t>Fidel va a un círculo infantil y le dice a los </a:t>
            </a:r>
            <a:br>
              <a:rPr sz="2800"/>
            </a:br>
            <a:r>
              <a:rPr b="0" lang="es-ES" sz="2800" spc="-1" strike="noStrike">
                <a:solidFill>
                  <a:srgbClr val="333300"/>
                </a:solidFill>
                <a:latin typeface="Arial"/>
              </a:rPr>
              <a:t>niños:</a:t>
            </a:r>
            <a:br>
              <a:rPr sz="2800"/>
            </a:br>
            <a:r>
              <a:rPr b="0" lang="es-ES" sz="2800" spc="-1" strike="noStrike">
                <a:solidFill>
                  <a:srgbClr val="333300"/>
                </a:solidFill>
                <a:latin typeface="Arial"/>
              </a:rPr>
              <a:t>-Ahora les voy a cantar una cancioncita. Y acto seguido se pone a cantar:</a:t>
            </a:r>
            <a:br>
              <a:rPr sz="2800"/>
            </a:br>
            <a:r>
              <a:rPr b="0" lang="es-ES" sz="2800" spc="-1" strike="noStrike">
                <a:solidFill>
                  <a:srgbClr val="333300"/>
                </a:solidFill>
                <a:latin typeface="Arial"/>
              </a:rPr>
              <a:t>-"Los pollitos dicen pío, pío, cuando tienen hambree cuando tienen frío."</a:t>
            </a:r>
            <a:br>
              <a:rPr sz="2800"/>
            </a:br>
            <a:r>
              <a:rPr b="0" lang="es-ES" sz="2800" spc="-1" strike="noStrike">
                <a:solidFill>
                  <a:srgbClr val="333300"/>
                </a:solidFill>
                <a:latin typeface="Arial"/>
              </a:rPr>
              <a:t>Ahora canten ustedes una cancioncita para mí, compañeritos. </a:t>
            </a:r>
            <a:br>
              <a:rPr sz="2800"/>
            </a:br>
            <a:r>
              <a:rPr b="0" lang="es-ES" sz="2800" spc="-1" strike="noStrike">
                <a:solidFill>
                  <a:srgbClr val="333300"/>
                </a:solidFill>
                <a:latin typeface="Arial"/>
              </a:rPr>
              <a:t>Los niños al unísono le responden:</a:t>
            </a:r>
            <a:br>
              <a:rPr sz="2800"/>
            </a:br>
            <a:r>
              <a:rPr b="0" lang="es-ES" sz="2800" spc="-1" strike="noStrike">
                <a:solidFill>
                  <a:srgbClr val="333300"/>
                </a:solidFill>
                <a:latin typeface="Arial"/>
              </a:rPr>
              <a:t>Si, Fidel... Y </a:t>
            </a:r>
            <a:br>
              <a:rPr sz="2800"/>
            </a:br>
            <a:r>
              <a:rPr b="0" lang="es-ES" sz="2800" spc="-1" strike="noStrike">
                <a:solidFill>
                  <a:srgbClr val="333300"/>
                </a:solidFill>
                <a:latin typeface="Arial"/>
              </a:rPr>
              <a:t>empiezan: PIO,PIO,PIO,PIO (todo el tiemp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ÑAS DE ARROZ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del dice en un discurso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añeros, gracias a Dios este año tendremos montañas de arroz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úl asombrado lo llama aparte y le amonesta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Fidel, pero si Dios no exis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 que Fidel le contesta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No te preocupes, tampoco el arroz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EN EL AEROPUERTO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Fidel y Raúl están esperando al "pana" Chávez y comienza a llover.</a:t>
            </a:r>
            <a:br>
              <a:rPr sz="2800"/>
            </a:b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Raúl se remanga los pantalones para no salpicarse. </a:t>
            </a:r>
            <a:br>
              <a:rPr sz="2800"/>
            </a:b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Llega Chávez, y Fidel le dice a Raúl:</a:t>
            </a:r>
            <a:br>
              <a:rPr sz="2800"/>
            </a:b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-Raúl, bájate los pantalones .....</a:t>
            </a:r>
            <a:br>
              <a:rPr sz="2800"/>
            </a:b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Y Raúl bajito le pregunta:</a:t>
            </a:r>
            <a:br>
              <a:rPr sz="2800"/>
            </a:b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-¿Tanto le debemos al maricón ese?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990000"/>
                </a:solidFill>
                <a:latin typeface="Arial Rounded MT Bold"/>
              </a:rPr>
              <a:t>LA SEMILLA.</a:t>
            </a:r>
            <a:br>
              <a:rPr sz="3200"/>
            </a:br>
            <a:r>
              <a:rPr b="0" i="1" lang="en-US" sz="3200" spc="-1" strike="noStrike">
                <a:solidFill>
                  <a:srgbClr val="990000"/>
                </a:solidFill>
                <a:latin typeface="Arial Rounded MT Bold"/>
              </a:rPr>
              <a:t>Se muere Fidel. </a:t>
            </a:r>
            <a:br>
              <a:rPr sz="3200"/>
            </a:br>
            <a:r>
              <a:rPr b="0" i="1" lang="en-US" sz="3200" spc="-1" strike="noStrike">
                <a:solidFill>
                  <a:srgbClr val="990000"/>
                </a:solidFill>
                <a:latin typeface="Arial Rounded MT Bold"/>
              </a:rPr>
              <a:t>Dice Raúl en la despedida de duelo del Comandante en Jefe:</a:t>
            </a:r>
            <a:br>
              <a:rPr sz="3200"/>
            </a:br>
            <a:r>
              <a:rPr b="0" i="1" lang="en-US" sz="3200" spc="-1" strike="noStrike">
                <a:solidFill>
                  <a:srgbClr val="990000"/>
                </a:solidFill>
                <a:latin typeface="Arial Rounded MT Bold"/>
              </a:rPr>
              <a:t>-Lo que enterramos hoy aquí es una semilla...</a:t>
            </a:r>
            <a:br>
              <a:rPr sz="3200"/>
            </a:br>
            <a:r>
              <a:rPr b="0" i="1" lang="en-US" sz="3200" spc="-1" strike="noStrike">
                <a:solidFill>
                  <a:srgbClr val="990000"/>
                </a:solidFill>
                <a:latin typeface="Arial Rounded MT Bold"/>
              </a:rPr>
              <a:t>Se oye una voz que advierte alarmada entre la multitud:</a:t>
            </a:r>
            <a:br>
              <a:rPr sz="3200"/>
            </a:br>
            <a:r>
              <a:rPr b="0" i="1" lang="en-US" sz="3200" spc="-1" strike="noStrike">
                <a:solidFill>
                  <a:srgbClr val="990000"/>
                </a:solidFill>
                <a:latin typeface="Arial Rounded MT Bold"/>
              </a:rPr>
              <a:t>-¡El coño de su madre el que la riegue...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01:09:27Z</dcterms:created>
  <dc:creator>user</dc:creator>
  <dc:description/>
  <dc:language>en-US</dc:language>
  <cp:lastModifiedBy>user</cp:lastModifiedBy>
  <dcterms:modified xsi:type="dcterms:W3CDTF">2006-08-10T01:10:21Z</dcterms:modified>
  <cp:revision>1</cp:revision>
  <dc:subject/>
  <dc:title>Diapositiva 1</dc:title>
</cp:coreProperties>
</file>