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2EC-6E94-4291-9DD7-F3D32E42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210-5ACD-4FFB-A448-173CF0A3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727-AE6C-4CE6-B508-7996EC16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4A0-A575-43D8-B071-548514FC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639-76F2-4BFA-B948-BE7AEF69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CBC-92C2-437B-9951-DF65D85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48C-0FB0-4186-A3DD-AFDBAB33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A5F-CB2B-4C91-984C-10460D6F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2E1-C225-42E4-99C6-832564A0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0BA-BA5C-4B2F-B42F-C127FAB0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5CA-F62F-40DF-B510-3AA2B2AD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E39-0D2F-45C8-8C09-EA308FFA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CA85-D526-4C33-96AC-0654D6F2B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836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                                   </a:t>
            </a: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TRABAJAREMOS 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Fidel está dando uno de sus discursos en la Plaza y dice: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-¡Y a partir de ahora hay que sacrificarse más...!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Se oye una voz 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la multitud: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-Trabajaremos el doble... 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Sigue Fidel:-Y hay que comprender que habrá menos alimento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 </a:t>
            </a: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Y se oye otra vez la misma voz......-Trabajaremos el triple...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Algo molesto, 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Fidel continúa: -Y las dificultades crecerán.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Se vuelve a oír la misma voz en la multitud: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-Trabajaremos el cuádruple!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Fidel se vira para el jefe de la seguridad y pregunta. -Oye, ¿quién es ese idiota que va a trabajar tanto?. 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El jefe de seguridad le responde: -No se preocupe, Comandante, ese es el sepulturero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TETRICIA CUB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o de los adelantos de la medicina cubana es no tener que darle una nalgada al niño cuando nace.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 médico se acerca al niño y le dice bajito al oído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Oye, naciste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uba..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o seguido el bebé empieza a chilla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MÁXIMA ASPIRACIÓ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Le pregunta el papá a su hijo cubano de seis años: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-¿Qué quieres ser cuando seas grande?.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El niño le responde: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-¿Yo...? ¡Extranjero...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cc00cc"/>
                </a:solidFill>
                <a:latin typeface="Arial"/>
              </a:rPr>
              <a:t>COMPETENCIA CUBA-USA</a:t>
            </a:r>
            <a:br>
              <a:rPr sz="3200"/>
            </a:br>
            <a:r>
              <a:rPr b="0" lang="es-ES" sz="3200" spc="-1" strike="noStrike">
                <a:solidFill>
                  <a:srgbClr val="cc00cc"/>
                </a:solidFill>
                <a:latin typeface="Arial"/>
              </a:rPr>
              <a:t>Un cubano y un americano echan una carrera y gana el americano. </a:t>
            </a:r>
            <a:br>
              <a:rPr sz="3200"/>
            </a:br>
            <a:r>
              <a:rPr b="0" lang="es-ES" sz="3200" spc="-1" strike="noStrike">
                <a:solidFill>
                  <a:srgbClr val="cc00cc"/>
                </a:solidFill>
                <a:latin typeface="Arial"/>
              </a:rPr>
              <a:t>Al otro día sale en el Gramma el siguiente titular :</a:t>
            </a:r>
            <a:br>
              <a:rPr sz="3200"/>
            </a:br>
            <a:r>
              <a:rPr b="0" lang="es-ES" sz="3200" spc="-1" strike="noStrike">
                <a:solidFill>
                  <a:srgbClr val="cc00cc"/>
                </a:solidFill>
                <a:latin typeface="Arial"/>
              </a:rPr>
              <a:t>"Cuba, en segundo lugar. USA, en el penúltimo."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FIDEL EN EL CÍRCULO INFANTIL.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Fidel va a un círculo infantil y le dice a los 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niños: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-Ahora les voy a cantar una cancioncita. Y acto seguido se pone a cantar: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-"Los pollitos dicen pío, pío, cuando tienen hambree cuando tienen frío."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Ahora canten ustedes una cancioncita para mí, compañeritos. 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Los niños al unísono le responden: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Si, Fidel... Y 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empiezan: PIO,PIO,PIO,PIO (todo el tiemp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ÑAS DE ARROZ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 dice en un discurs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añeros, gracias a Dios este año tendremos montañas de arroz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úl asombrado lo llama aparte y le amonesta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idel, pero si Dios no exis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 que Fidel le contest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o te preocupes, tampoco el arroz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N EL AEROPUERTO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Fidel y Raúl están esperando al "pana" Chávez y comienza a llover.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Raúl se remanga los pantalones para no salpicarse. 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Llega Chávez, y Fidel le dice a Raúl: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-Raúl, bájate los pantalones .....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Y Raúl bajito le pregunta: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-¿Tanto le debemos al maricón ese?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LA SEMILLA.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Se muere Fidel. 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Dice Raúl en la despedida de duelo del Comandante en Jefe: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-Lo que enterramos hoy aquí es una semilla...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Se oye una voz que advierte alarmada entre la multitud: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-¡El coño de su madre el que la riegue...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1:09:27Z</dcterms:created>
  <dc:creator>user</dc:creator>
  <dc:description/>
  <dc:language>en-US</dc:language>
  <cp:lastModifiedBy>user</cp:lastModifiedBy>
  <dcterms:modified xsi:type="dcterms:W3CDTF">2006-08-10T01:10:21Z</dcterms:modified>
  <cp:revision>1</cp:revision>
  <dc:subject/>
  <dc:title>Diapositiva 1</dc:title>
</cp:coreProperties>
</file>