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powerpoints.org/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197840" y="6261120"/>
            <a:ext cx="1838160" cy="5526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371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ffffff"/>
                </a:solidFill>
                <a:latin typeface="Arial Narrow"/>
              </a:rPr>
              <a:t>AVISOS ECONOMICOS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urier New"/>
              </a:rPr>
              <a:t>Si su suegra es una joyita, nosotros tenemos el mejor estuch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Comic Sans MS"/>
              </a:rPr>
              <a:t>Funeraria Perez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</a:rPr>
              <a:t>Chico tímido busca... bueno... esteee.. no.. bueno...nad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</a:rPr>
              <a:t>No import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ffffff"/>
                </a:solidFill>
                <a:latin typeface="Arial Narrow"/>
              </a:rPr>
              <a:t>AVISOS ECONOMICOS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urier New"/>
              </a:rPr>
              <a:t>Vendo Gato Angora, manana será muy tard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ffffff"/>
                </a:solidFill>
                <a:latin typeface="Arial Narrow"/>
              </a:rPr>
              <a:t>AVISOS ECONOMICOS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urier New"/>
              </a:rPr>
              <a:t>Viuda negra busca tipo millonario para casarse, Hasta que la muerte nos separ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ffffff"/>
                </a:solidFill>
                <a:latin typeface="Arial Narrow"/>
              </a:rPr>
              <a:t>AVISOS ECONOMICOS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</a:rPr>
              <a:t>Se vende país con vista al mar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</a:rPr>
              <a:t>Tratar en </a:t>
            </a:r>
            <a:r>
              <a:rPr b="1" i="1" lang="en-US" sz="4800" spc="-1" strike="noStrike">
                <a:solidFill>
                  <a:srgbClr val="3333cc"/>
                </a:solidFill>
                <a:latin typeface="Arial Narrow"/>
              </a:rPr>
              <a:t>Inmobiliaria Fujimori &amp; Cí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ffffff"/>
                </a:solidFill>
                <a:latin typeface="Arial Narrow"/>
              </a:rPr>
              <a:t>AVISOS ECONOMICOS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urier New"/>
              </a:rPr>
              <a:t>Mono recién escapado del Zoo busca trabajo para ganarse el maní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ffffff"/>
                </a:solidFill>
                <a:latin typeface="Arial Narrow"/>
              </a:rPr>
              <a:t>AVISOS ECONOMICOS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</a:rPr>
              <a:t>Psicópata asesino busca chica para relación cort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ffffff"/>
                </a:solidFill>
                <a:latin typeface="Arial Narrow"/>
              </a:rPr>
              <a:t>AVISOS ECONOMICOS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</a:rPr>
              <a:t>Cambio caja de juguetes por revistas pornográfica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ffffff"/>
                </a:solidFill>
                <a:latin typeface="Arial Narrow"/>
              </a:rPr>
              <a:t>AVISOS ECONOMICOS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</a:rPr>
              <a:t>Busco perro y suegra perdidos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</a:rPr>
              <a:t>Recompensa por el perr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ffffff"/>
                </a:solidFill>
                <a:latin typeface="Arial Narrow"/>
              </a:rPr>
              <a:t>AVISOS ECONOMICOS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000000"/>
                </a:solidFill>
                <a:latin typeface="Courier New"/>
              </a:rPr>
              <a:t>Se ofrece piloto de pruebas para fabrica de supositorios.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ffffff"/>
                </a:solidFill>
                <a:latin typeface="Arial Narrow"/>
              </a:rPr>
              <a:t>AVISOS ECONOMICOS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000000"/>
                </a:solidFill>
                <a:latin typeface="Courier New"/>
              </a:rPr>
              <a:t>Se necesita cama con muchacha adentro.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ffffff"/>
                </a:solidFill>
                <a:latin typeface="Arial Narrow"/>
              </a:rPr>
              <a:t>AVISOS ECONOMICOS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371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ffffff"/>
                </a:solidFill>
                <a:latin typeface="Arial Narrow"/>
              </a:rPr>
              <a:t>AVISOS ECONOMICOS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</a:rPr>
              <a:t>Hombre de buenas costumbres busca mujer que se las quite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lnSpc>
                <a:spcPct val="100000"/>
              </a:lnSpc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ctr">
              <a:lnSpc>
                <a:spcPct val="100000"/>
              </a:lnSpc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000000"/>
                </a:solidFill>
                <a:latin typeface="Courier New"/>
              </a:rPr>
              <a:t>Hombre invisible busca mujer transparente para hacer cosas nunca vistas.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ffffff"/>
                </a:solidFill>
                <a:latin typeface="Arial Narrow"/>
              </a:rPr>
              <a:t>AVISOS ECONOMICOS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</a:rPr>
              <a:t>Por diabetes vendo mi flauta dulc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ffffff"/>
                </a:solidFill>
                <a:latin typeface="Arial Narrow"/>
              </a:rPr>
              <a:t>AVISOS ECONOMICOS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</a:rPr>
              <a:t>Cambio chicle en buen estado por caramelo con poco us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ffffff"/>
                </a:solidFill>
                <a:latin typeface="Arial Narrow"/>
              </a:rPr>
              <a:t>AVISOS ECONOMICOS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700" spc="-1" strike="noStrike">
                <a:solidFill>
                  <a:srgbClr val="000000"/>
                </a:solidFill>
                <a:latin typeface="Courier New"/>
              </a:rPr>
              <a:t>Vndo maquina d scribir qu l falta una tcla.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ffffff"/>
                </a:solidFill>
                <a:latin typeface="Arial Narrow"/>
              </a:rPr>
              <a:t>AVISOS ECONOMICOS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000000"/>
                </a:solidFill>
                <a:latin typeface="Courier New"/>
              </a:rPr>
              <a:t>Cambio moto hecha mierda, por silla de ruedas.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ffffff"/>
                </a:solidFill>
                <a:latin typeface="Arial Narrow"/>
              </a:rPr>
              <a:t>AVISOS ECONOMICOS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</a:rPr>
              <a:t>Cambio condón roto por ropa de beb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ffffff"/>
                </a:solidFill>
                <a:latin typeface="Arial Narrow"/>
              </a:rPr>
              <a:t>AVISOS ECONOMICOS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</a:rPr>
              <a:t>Empresario con dos penes, busca secretaria bilingü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ffffff"/>
                </a:solidFill>
                <a:latin typeface="Arial Narrow"/>
              </a:rPr>
              <a:t>AVISOS ECONOMICOS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000000"/>
                </a:solidFill>
                <a:latin typeface="Courier New"/>
              </a:rPr>
              <a:t>Solicito novia con automóvil. Interesadas mandar foto del automóvil.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ffffff"/>
                </a:solidFill>
                <a:latin typeface="Arial Narrow"/>
              </a:rPr>
              <a:t>AVISOS ECONOMICOS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</a:rPr>
              <a:t>Cambio suegra por víbora. Pago la diferenci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ffffff"/>
                </a:solidFill>
                <a:latin typeface="Arial Narrow"/>
              </a:rPr>
              <a:t>AVISOS ECONOMICOS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Arial Narrow"/>
              </a:rPr>
              <a:t>Joven necesitado, vende madre usada en perfectas condiciones, excelente cocinera, buen trato y servicio de despertador. No hacer caso de las lagrimas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ffffff"/>
                </a:solidFill>
                <a:latin typeface="Arial Narrow"/>
              </a:rPr>
              <a:t>AVISOS ECONOMICOS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371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ffffff"/>
                </a:solidFill>
                <a:latin typeface="Arial Narrow"/>
              </a:rPr>
              <a:t>AVISOS ECONOMICOS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urier New"/>
              </a:rPr>
              <a:t>Viejo verde busca chica ecologista.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Arial Narrow"/>
              </a:rPr>
              <a:t>Cambio pastor alemán por uno que hable español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ffffff"/>
                </a:solidFill>
                <a:latin typeface="Arial Narrow"/>
              </a:rPr>
              <a:t>AVISOS ECONOMICOS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000000"/>
                </a:solidFill>
                <a:latin typeface="Courier New"/>
              </a:rPr>
              <a:t>Joven soltero y sin compromiso arrienda 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000000"/>
                </a:solidFill>
                <a:latin typeface="Courier New"/>
              </a:rPr>
              <a:t>media cama.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ffffff"/>
                </a:solidFill>
                <a:latin typeface="Arial Narrow"/>
              </a:rPr>
              <a:t>AVISOS ECONOMICOS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500" spc="-1" strike="noStrike">
                <a:solidFill>
                  <a:srgbClr val="000000"/>
                </a:solidFill>
                <a:latin typeface="Arial Narrow"/>
              </a:rPr>
              <a:t>Ce dan Klacez de Hortografya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ffffff"/>
                </a:solidFill>
                <a:latin typeface="Arial Narrow"/>
              </a:rPr>
              <a:t>AVISOS ECONOMICOS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Arial Narrow"/>
              </a:rPr>
              <a:t>Paloma solitaria busca nido confortable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ffffff"/>
                </a:solidFill>
                <a:latin typeface="Arial Narrow"/>
              </a:rPr>
              <a:t>AVISOS ECONOMICOS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000000"/>
                </a:solidFill>
                <a:latin typeface="Courier New"/>
              </a:rPr>
              <a:t>Cambio lindo perro Dobberman por mano ortopédica.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ffffff"/>
                </a:solidFill>
                <a:latin typeface="Arial Narrow"/>
              </a:rPr>
              <a:t>AVISOS ECONOMICOS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 Black"/>
              </a:rPr>
              <a:t>Si te ha gustado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 Black"/>
              </a:rPr>
              <a:t>Envia este powerpoint a un ami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371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ffffff"/>
                </a:solidFill>
                <a:latin typeface="Arial Narrow"/>
              </a:rPr>
              <a:t>AVISOS ECONOMICOS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88000"/>
          </a:bodyPr>
          <a:p>
            <a:pPr marL="3016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urier New"/>
              </a:rPr>
              <a:t>Divorcios en 24 horas. Satisfacción garantizada o le devolvemos a su cónyug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371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ffffff"/>
                </a:solidFill>
                <a:latin typeface="Arial Narrow"/>
              </a:rPr>
              <a:t>AVISOS ECONOMICOS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urier New"/>
              </a:rPr>
              <a:t>Desempleado con muchos años de experiencia se ofrece para estadística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371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ffffff"/>
                </a:solidFill>
                <a:latin typeface="Arial Narrow"/>
              </a:rPr>
              <a:t>AVISOS ECONOMICOS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</a:rPr>
              <a:t>Viejito con mal de Parkinson se ofrece para tocar maracas en conjunto musical cuban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371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ffffff"/>
                </a:solidFill>
                <a:latin typeface="Arial Narrow"/>
              </a:rPr>
              <a:t>AVISOS ECONOMICOS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</a:rPr>
              <a:t>Busco urgentemente cursos para ser millonario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</a:rPr>
              <a:t>Pago lo que se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000000"/>
                </a:solidFill>
                <a:latin typeface="Courier New"/>
              </a:rPr>
              <a:t>Violo a domicili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s-ES_tradnl" sz="4800" spc="-1" strike="noStrike">
                <a:solidFill>
                  <a:srgbClr val="000000"/>
                </a:solidFill>
                <a:latin typeface="Courier New"/>
              </a:rPr>
              <a:t>Solicite muestra grati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ffffff"/>
                </a:solidFill>
                <a:latin typeface="Arial Narrow"/>
              </a:rPr>
              <a:t>AVISOS ECONOMICOS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</a:rPr>
              <a:t>Vendo auto 4 puertas con excelente vista a la call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ffffff"/>
                </a:solidFill>
                <a:latin typeface="Arial Narrow"/>
              </a:rPr>
              <a:t>AVISOS ECONOMICOS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4T02:12:20Z</dcterms:created>
  <dc:creator/>
  <dc:description/>
  <dc:language>en-US</dc:language>
  <cp:lastModifiedBy>Empresas Ipac</cp:lastModifiedBy>
  <dcterms:modified xsi:type="dcterms:W3CDTF">2003-07-21T11:28:55Z</dcterms:modified>
  <cp:revision>4</cp:revision>
  <dc:subject/>
  <dc:title>AVISOS ECONOMICOS</dc:title>
</cp:coreProperties>
</file>