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cigana%20-%20celtic.wav" ContentType="audio/x-wav"/>
  <Override PartName="/ppt/media/image2.png" ContentType="image/png"/>
  <Override PartName="/ppt/media/image3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gif" ContentType="image/gi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E38-6DB6-46D4-A618-8E49293D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240-1CFA-4BC2-ADBD-1720754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745-6BF1-42B8-BA5A-51656497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FE4-D273-45EA-9C9B-A9BACA60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4F5-7A68-48D5-AA4D-624D7E2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EF-02F5-4383-A75A-F577338C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6C2-8587-47A2-8B4A-C09F889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0A4-69D0-4E43-8524-A67FCC0C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787-4276-4224-8BA1-9E10EFD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0B6-F103-4861-9AC2-E52AA12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7A54-C9C5-449B-813F-BCF8275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078-44EB-47D0-B312-6C5E222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E2E0-19D2-48BF-9C71-86503BCE31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igana%20-%20celt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http://www.genteinternacional.com/mejoresano/pilar_nores.jpg&amp;imgrefurl=http://www.genteinternacional.com/mejoresdelano.htm&amp;usg=__lQO2kREdL6ns8RV869cCxi4cA8U=&amp;h=240&amp;w=200&amp;sz=11&amp;hl=es&amp;start=2&amp;tbnid=3p9_wBPA5ihVtM:&amp;tbnh=110&amp;tbnw=92&amp;prev=/images%3Fq%3Dpilar%2BNores%26gbv%3D2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5580000" cy="458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6360" y="1557360"/>
            <a:ext cx="388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lan García sobrevuela el Perú en helicóptero con su famil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333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  PROPI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476280"/>
            <a:ext cx="53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 cierto punto, decide tirar un billete de 5 euros diciendo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"Así haré felices a 5 personas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3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290520"/>
            <a:ext cx="7416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 mujer, interviene diciend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"Tira mejor uno de 10 euros, que así harás feliz a 10 persona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844640"/>
            <a:ext cx="302436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2720" y="60480"/>
            <a:ext cx="755964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 lo que las hijas le dicen entusiasmada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"¡Papá, papá!, mejor uno de 50 euros, así harás feliz a 50 personas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16120" y="2060640"/>
          <a:ext cx="95076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060640"/>
                    <a:ext cx="9507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rcRect l="13813" t="0" r="56471" b="58414"/>
          <a:stretch/>
        </p:blipFill>
        <p:spPr>
          <a:xfrm>
            <a:off x="3267000" y="1916280"/>
            <a:ext cx="1008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0" t="22682" r="0" b="0"/>
          <a:stretch/>
        </p:blipFill>
        <p:spPr>
          <a:xfrm>
            <a:off x="2978280" y="2205000"/>
            <a:ext cx="174924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851360" y="1989000"/>
          <a:ext cx="847800" cy="114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1360" y="1989000"/>
                    <a:ext cx="8478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7"/>
          <a:srcRect l="0" t="22682" r="0" b="0"/>
          <a:stretch/>
        </p:blipFill>
        <p:spPr>
          <a:xfrm>
            <a:off x="4562640" y="2060640"/>
            <a:ext cx="1749240" cy="2616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rcRect l="0" t="22682" r="0" b="0"/>
          <a:stretch/>
        </p:blipFill>
        <p:spPr>
          <a:xfrm>
            <a:off x="1320840" y="2060640"/>
            <a:ext cx="1749240" cy="261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rcRect l="0" t="20871" r="0" b="0"/>
          <a:stretch/>
        </p:blipFill>
        <p:spPr>
          <a:xfrm>
            <a:off x="6145200" y="1844640"/>
            <a:ext cx="19558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7280" y="44280"/>
            <a:ext cx="48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 ese momento, se vuelve el piloto del helicóptero y dice encarado a                  Alan Garcí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476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Y porque diablos no se tira usted, y así hace feliz a todo  el Perú ?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65840" y="3357720"/>
            <a:ext cx="1913040" cy="320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3573360"/>
            <a:ext cx="3673440" cy="249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852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8:40:53Z</dcterms:created>
  <dc:creator> </dc:creator>
  <dc:description/>
  <dc:language>en-US</dc:language>
  <cp:lastModifiedBy>WinuE</cp:lastModifiedBy>
  <dcterms:modified xsi:type="dcterms:W3CDTF">2009-07-09T14:03:31Z</dcterms:modified>
  <cp:revision>19</cp:revision>
  <dc:subject/>
  <dc:title>Diapositiva 1</dc:title>
</cp:coreProperties>
</file>