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antbressolReger13MFiguerasw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97A-109B-4890-B7B7-18006574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C0D-46C8-48F7-8A4D-E6EBAD71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52B-204C-40DA-8F2A-9814CA62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453-8DC4-4A73-897E-506129A3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85C-1037-4694-918F-15249C94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831-974C-4BDF-B026-C0C209B1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DCE-B2AF-4746-AC94-E937E6D8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DB4-4C8D-40F6-A49D-CAB5B99D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2728-EE89-4163-A0BB-892C90B3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C6FF-9A12-4E25-8E81-6FE4C362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303-51C0-476D-9E3E-89A3759B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E65-806F-4111-99DB-E5C0633D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4052-6213-4F06-A659-03F917A3D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antbressolReger13MFigueras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981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ebff"/>
                </a:solidFill>
                <a:latin typeface="Arial Black"/>
              </a:rPr>
              <a:t>ADVI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beb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83240" y="270828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42900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d82b5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d82b5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0133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"/>
              </a:rPr>
              <a:t>HIJO, TODO LO MÍO ES TUY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58920" y="5877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b3f67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b3f67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87280" y="1197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dc0d9"/>
                </a:solidFill>
                <a:latin typeface="Arial Black"/>
              </a:rPr>
              <a:t>ADVI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dc0d9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94400" y="27273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6000" y="3500280"/>
            <a:ext cx="82436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23880" y="579132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139520" y="130320"/>
            <a:ext cx="1688040" cy="627480"/>
          </a:xfrm>
          <a:prstGeom prst="rect">
            <a:avLst/>
          </a:prstGeom>
          <a:solidFill>
            <a:srgbClr val="ebebff"/>
          </a:solidFill>
          <a:ln w="9360">
            <a:solidFill>
              <a:srgbClr val="d9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C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360" y="50133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3333cc"/>
                </a:solidFill>
                <a:latin typeface="Arial"/>
              </a:rPr>
              <a:t>HIJO, TODO LO MÍO ES TUY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0"/>
            <a:ext cx="51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La “Canción de cuna” de Reger nos pone cerca de la Mad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3" name="CantbressolReger13MFigueras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6" dur="1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8" dur="8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0" dur="1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05400" y="836640"/>
            <a:ext cx="4459320" cy="5943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1773360"/>
            <a:ext cx="288108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Agua de Vida brota de tu corazó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46240"/>
            <a:ext cx="705780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ios es FUENTE inagotable de bend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5516640"/>
            <a:ext cx="475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Antigua fuente de Ain Karem (“Viña fecunda”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457200"/>
            <a:ext cx="7561440" cy="542628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¿Quién soy yo para que me visite la madre de mi Señor? En cuanto tu saludo llegó a mis oídos, la criatura saltó de alegría en mi vientre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41280" y="1652760"/>
            <a:ext cx="8802720" cy="5205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44720" y="260280"/>
            <a:ext cx="59036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uando me encuentras a Mi nace algo en 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844640"/>
            <a:ext cx="2592360" cy="29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hora no eres, sino que te h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(E. Kan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28600"/>
            <a:ext cx="8016840" cy="54255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chosa tú, que has creído, porque lo que te ha dicho el Señor se cumplirá."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762120"/>
            <a:ext cx="7848720" cy="555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0920" y="260280"/>
            <a:ext cx="583380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Fe abre las puertas a ESPACIOS inmen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93000"/>
            <a:ext cx="9109080" cy="62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Para darnos debemos poseernos”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Cassià</a:t>
            </a: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 J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47640" y="1179360"/>
            <a:ext cx="6048720" cy="4514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, haznos tan POBRES como María o Isabel, para que en esta Navidad Tu vuelvas a nacer </a:t>
            </a:r>
            <a:br>
              <a:rPr sz="3500"/>
            </a:b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de nosotr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62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620640"/>
            <a:ext cx="7129440" cy="11610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e pps se ha reducido de peso con  PPTminimiz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3480" y="6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2200" y="476280"/>
            <a:ext cx="864252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"/>
              </a:rPr>
              <a:t>EVANGELIO DE LUC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"/>
              </a:rPr>
              <a:t>nos acompañará todo el añ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820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2576520"/>
            <a:ext cx="8424720" cy="344448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El Reino está entre vosotros  Lc 17,2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Velad y orad en toda ocas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No tengas miedo pequeño rebaño Lc 12,32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Dios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se revela a los pequeñ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Todo lo mío es tuyo  Lc 15,3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l Padre ama a TODOS los hijo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1700280"/>
            <a:ext cx="74170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ensamientos clav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53160" y="0"/>
            <a:ext cx="4993560" cy="764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a4ad2"/>
                </a:solidFill>
                <a:latin typeface="Arial Black"/>
              </a:rPr>
              <a:t>ADVIENTO  Ciclo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771640" y="981000"/>
            <a:ext cx="5639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8664e6"/>
                </a:solidFill>
                <a:latin typeface="Arial Black"/>
              </a:rPr>
              <a:t>UN CAMINO</a:t>
            </a:r>
            <a:endParaRPr b="1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8664e6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208080" y="5638680"/>
            <a:ext cx="7172280" cy="947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ccff"/>
                </a:solidFill>
                <a:latin typeface="Arial"/>
              </a:rPr>
              <a:t>DOMINGO 4: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“...YA ESTÁ CERCA”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 María salgamos para encontra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10909440" y="4680"/>
            <a:ext cx="31683600" cy="6880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267080" y="5589720"/>
            <a:ext cx="4483080" cy="10076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Atravesando sierras para ser solidari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260280"/>
            <a:ext cx="2665440" cy="10076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Montañas </a:t>
            </a:r>
            <a:br>
              <a:rPr sz="3000"/>
            </a:b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de Ain Kar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0729 -0.00231 L 1.45677 0.00809 E">
                                      <p:cBhvr>
                                        <p:cTn id="60" dur="1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28600"/>
            <a:ext cx="8432640" cy="596052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1, 39-45 En aquellos días, María se puso en camino y fue aprisa a la montaña, a un pueblo de Judá; entró en casa de Zacarías y saludó a Isabel.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08360" y="6308640"/>
            <a:ext cx="4967280" cy="55080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mágenes de Ain Kar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ada NAVIDAD os pone en CAM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1341360"/>
            <a:ext cx="3130560" cy="55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d hacia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el otr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Él es Dios c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NOSOTROS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...no Dios sólo conmi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692280"/>
            <a:ext cx="8207280" cy="54255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 cuanto Isabel oyó el saludo de María, saltó la criatura en su vientre.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36208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692280"/>
            <a:ext cx="48243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s dos mujeres se saben grávi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2333520"/>
            <a:ext cx="33134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ién llevas dentro de t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228600"/>
            <a:ext cx="7848720" cy="64947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 llenó Isabel del Espíritu Santo y dijo a voz en grito: "¡Bendita tú entre las mujeres, y bendito el fruto de tu vientre!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Usuario</cp:lastModifiedBy>
  <dcterms:modified xsi:type="dcterms:W3CDTF">2009-12-16T17:51:16Z</dcterms:modified>
  <cp:revision>323</cp:revision>
  <dc:subject>stbenet@benedictinescat.com</dc:subject>
  <dc:title>evangeli</dc:title>
</cp:coreProperties>
</file>