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ntbressolReger13MFigueras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E0E-3105-4356-8BB4-DC5E9EB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CDC-EED5-4F63-B269-E72213E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3EA-3680-4F75-8346-B5136206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5E5-E881-4078-8793-2A5FEFDA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390-2583-423E-95D9-5004AF3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4D8-EFC4-44DC-8892-59CB3899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351-C3F4-4F87-8F65-DE02B780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868-B62A-4ED7-8FAD-9D35E79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E07-6FC7-414C-8322-28E084C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68F-0C98-4666-9BF8-62AF0DF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149-CD15-44BE-BA9F-EBDAF0E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1B3-E812-4CE4-B9F6-3B77C57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DDD-4B2D-473C-9571-F79D45013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ntbressolReger13MFigueras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6000" y="3500280"/>
            <a:ext cx="82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79132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51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La “Canción de cuna” de Reger nos pone cerca de la Mad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CantbressolReger13MFiguera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5400" y="836640"/>
            <a:ext cx="44593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1773360"/>
            <a:ext cx="28810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Agua de Vida brota de tu coraz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46240"/>
            <a:ext cx="7057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FUENTE inagotable de ben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51664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ntigua fuente de Ain Karem (“Viña fecunda”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457200"/>
            <a:ext cx="7561440" cy="54262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Quién soy yo para que me visite la madre de mi Señor? En cuanto tu saludo llegó a mis oídos, la criatura saltó de alegría en mi vientr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1280" y="1652760"/>
            <a:ext cx="8802720" cy="5205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4720" y="260280"/>
            <a:ext cx="5903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uando me encuentras a Mi nace algo en 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844640"/>
            <a:ext cx="2592360" cy="29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hora no eres, sino que te h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(E. Kan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28600"/>
            <a:ext cx="801684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a tú, que has creído, porque lo que te ha dicho el Señor se cumplirá."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762120"/>
            <a:ext cx="7848720" cy="555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5833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Fe abre las puertas a ESPACIOS inmen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3000"/>
            <a:ext cx="910908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Para darnos debemos poseernos”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Cassià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 J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1179360"/>
            <a:ext cx="604872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tan POBRES como María o Isabel, para que en esta Navidad Tu vuelvas a nacer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de nosotr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576520"/>
            <a:ext cx="842472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3160" y="0"/>
            <a:ext cx="499356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a4ad2"/>
                </a:solidFill>
                <a:latin typeface="Arial Black"/>
              </a:rPr>
              <a:t>ADVIENTO  Ciclo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71640" y="98100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UN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08080" y="5638680"/>
            <a:ext cx="717228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ff"/>
                </a:solidFill>
                <a:latin typeface="Arial"/>
              </a:rPr>
              <a:t>DOMINGO 4: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...YA ESTÁ CERCA”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 María salgam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10909440" y="4680"/>
            <a:ext cx="316836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67080" y="5589720"/>
            <a:ext cx="448308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travesando sierras para ser solida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260280"/>
            <a:ext cx="26654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ontañas </a:t>
            </a:r>
            <a:br>
              <a:rPr sz="3000"/>
            </a:b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de Ain Kar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0729 -0.00231 L 1.45677 0.00809 E">
                                      <p:cBhvr>
                                        <p:cTn id="60" dur="1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3264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, 39-45 En aquellos días, María se puso en camino y fue aprisa a la montaña, a un pueblo de Judá; entró en casa de Zacarías y saludó a Isabel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6308640"/>
            <a:ext cx="496728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 Ain Kar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da NAVIDAD os pone en CA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341360"/>
            <a:ext cx="313056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d haci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el ot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Dio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SOTR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...no Dios sólo conm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692280"/>
            <a:ext cx="820728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uanto Isabel oyó el saludo de María, saltó la criatura en su vientre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6208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92280"/>
            <a:ext cx="4824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s dos mujeres se saben gráv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333520"/>
            <a:ext cx="3313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én llevas dentro de 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228600"/>
            <a:ext cx="7848720" cy="6494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lenó Isabel del Espíritu Santo y dijo a voz en grito: "¡Bendita tú entre las mujeres, y bendito el fruto de tu vientre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16T17:51:16Z</dcterms:modified>
  <cp:revision>323</cp:revision>
  <dc:subject>stbenet@benedictinescat.com</dc:subject>
  <dc:title>evangeli</dc:title>
</cp:coreProperties>
</file>