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33.png" ContentType="image/png"/>
  <Override PartName="/ppt/media/image17.jpeg" ContentType="image/jpeg"/>
  <Override PartName="/ppt/media/image40.png" ContentType="image/png"/>
  <Override PartName="/ppt/media/image36.jpeg" ContentType="image/jpeg"/>
  <Override PartName="/ppt/media/image2.jpeg" ContentType="image/jpeg"/>
  <Override PartName="/ppt/media/image57.png" ContentType="image/png"/>
  <Override PartName="/ppt/media/image49.png" ContentType="image/png"/>
  <Override PartName="/ppt/media/image23.jpeg" ContentType="image/jpeg"/>
  <Override PartName="/ppt/media/image47.png" ContentType="image/png"/>
  <Override PartName="/ppt/media/image35.jpeg" ContentType="image/jpeg"/>
  <Override PartName="/ppt/media/image1.jpeg" ContentType="image/jpeg"/>
  <Override PartName="/ppt/media/image39.png" ContentType="image/png"/>
  <Override PartName="/ppt/media/image22.jpeg" ContentType="image/jpeg"/>
  <Override PartName="/ppt/media/image59.jpeg" ContentType="image/jpeg"/>
  <Override PartName="/ppt/media/image54.png" ContentType="image/png"/>
  <Override PartName="/ppt/media/image1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44.png" ContentType="image/png"/>
  <Override PartName="/ppt/media/image13.jpeg" ContentType="image/jpeg"/>
  <Override PartName="/ppt/media/image18.jpeg" ContentType="image/jpeg"/>
  <Override PartName="/ppt/media/image15.jpeg" ContentType="image/jpeg"/>
  <Override PartName="/ppt/media/012%20South%20Africa's%20Finest%20%5BFreedom%20Mix%5D.wav" ContentType="audio/x-wav"/>
  <Override PartName="/ppt/media/image5.jpeg" ContentType="image/jpeg"/>
  <Override PartName="/ppt/media/image50.png" ContentType="image/png"/>
  <Override PartName="/ppt/media/image52.png" ContentType="image/png"/>
  <Override PartName="/ppt/media/image6.jpeg" ContentType="image/jpeg"/>
  <Override PartName="/ppt/media/image7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48.png" ContentType="image/png"/>
  <Override PartName="/ppt/media/image12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7.jpeg" ContentType="image/jpe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.jpeg" ContentType="image/jpeg"/>
  <Override PartName="/ppt/media/image51.png" ContentType="image/png"/>
  <Override PartName="/ppt/media/image53.png" ContentType="image/png"/>
  <Override PartName="/ppt/media/image58.jpeg" ContentType="image/jpeg"/>
  <Override PartName="/ppt/media/image20.jpeg" ContentType="image/jpeg"/>
  <Override PartName="/ppt/media/image5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283A-2EC7-4CF3-9C2B-F40A3B0E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908-1E9B-48D6-A526-67248E8F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FD1-20FE-4385-9419-FA26D2FD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C638-493E-4910-96FB-72AAE0DF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7FC-A890-458D-90BE-85AF4A17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789-FA6A-4E45-95AA-C5E5EEE9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BF8-22CE-448E-9CB1-DC339291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8DF-C1A1-4316-A739-2B0AFFA0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531-D9F8-4445-A04E-D84CA776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EEE-9DF5-44C4-90F4-FA4F555F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00A-C5EE-4373-8969-277CB3F9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A65A-A1CC-4EF1-BB66-5822FB2C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51D7-9E8B-486F-AC57-A9BB0B5D4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12%20South%20Africa&apos;s%20Finest%20%5BFreedom%20Mix%5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image" Target="../media/image55.png"/><Relationship Id="rId1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292720" y="5656320"/>
            <a:ext cx="385128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ederación de Comités de Solidaridad con África Ne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ttp://www.umoy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60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ukavu (R. D. Co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2467080" cy="1857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se extrae el coltá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métodos de trabajo son parecidos a los antiguos buscadores de oro del Oeste Americ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Extracción de coltan"/>
          <p:cNvPicPr/>
          <p:nvPr/>
        </p:nvPicPr>
        <p:blipFill>
          <a:blip r:embed="rId2"/>
          <a:stretch/>
        </p:blipFill>
        <p:spPr>
          <a:xfrm>
            <a:off x="4932360" y="1628640"/>
            <a:ext cx="3173400" cy="2213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932360" y="3933720"/>
            <a:ext cx="327024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2714400" cy="2162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5400720" cy="3486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2390760" cy="3789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76720" y="549360"/>
            <a:ext cx="5182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trabajador del colt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 rot="10800000">
            <a:off x="457200" y="378576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48000" y="1599840"/>
            <a:ext cx="39956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buen trabajador puede producir un kilo de coltán al d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edia de un trabajador congoleño son 10$ al mes, mientras que un trabajador del coltán puede conseguir de 10$ a 50$ a la se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969080" cy="3146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4000" y="5229360"/>
            <a:ext cx="835164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oom de la tecnología reciente ha hecho que el precio del coltán se dispare llegando a 500$ el ki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ñías como Bayer, Nokia o Sony se pelean por é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es trabajan en las min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esinos y ganaderos jóvenes que dejan sus camp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lazados de gu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sioneros de gu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es de niños, cuyos cuerpos pueden fácilmente adentrarse en las minas a ras de ti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empre vigilados por milit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cuencias de esta sit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bosques y los campos de cultivo se transforman en lodaz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chicos y chicas no van a la escu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as enfermedades por falta de agua limpia, de alimentos, jornadas agotadoras... y SIDA que lleva a la mue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erentes grupos armados controlan las m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kilo de coltán que se extrae  cuesta la vida a dos niñ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os de estos niños y jóvenes mueren víctimas de horribles desprendimientos de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376800" cy="2498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poor-kid"/>
          <p:cNvPicPr/>
          <p:nvPr/>
        </p:nvPicPr>
        <p:blipFill>
          <a:blip r:embed="rId2"/>
          <a:stretch/>
        </p:blipFill>
        <p:spPr>
          <a:xfrm>
            <a:off x="5651640" y="4292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ás consecuencias de esta sit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3816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splazamientos forzo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les de civiles han huido de sus hog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llones  de person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fug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olación de ancianas, mujeres y niñ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3673800" cy="2641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3745080" cy="25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3809880" cy="2571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cuencias medio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511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extraer el coltán se han invadido los parques nacionales del Con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trabajadores extraen coltán de sol a s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ermen y se alimentan en la selva montañosa de la z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jan de cultivar sus tier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oblación de elefantes ha disminuido un 8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oblación de gorilas ha descendido un 90 %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08720" y="1125360"/>
            <a:ext cx="2457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6896160" cy="3448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ién financia el confli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00720" y="1267920"/>
            <a:ext cx="4186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informe de las Naciones Unidas sacó a la luz la explotación de los recursos naturales en el Con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y informes que demuestran q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anda, Uganda y Burund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án involucradas en el contrabando de Coltán en el Congo, usando las ganancias generadas por su alto precio para continuar la guer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estima que el ejército ruandés consiguió al menos 250 millon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18 meses por la venta de coltán, a pesar de que no hay coltán en Ruan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013360"/>
            <a:ext cx="396216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s los países involucrados en el conflicto niegan haber explotado los recursos naturales del Con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9912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Por qué no paramos la guerr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3672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irmas con nombre propio de multinacionales com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Alcate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Nik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rics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Bay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 citan en el Informe de la ONU como saqueador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inancian la guerr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y apoyan a gobiernos corrupto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84720" y="3716280"/>
            <a:ext cx="2138400" cy="2590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659640" y="1557360"/>
            <a:ext cx="1928880" cy="2089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656240" y="3946680"/>
            <a:ext cx="403056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agen 49" descr=""/>
          <p:cNvPicPr/>
          <p:nvPr/>
        </p:nvPicPr>
        <p:blipFill>
          <a:blip r:embed="rId3"/>
          <a:stretch/>
        </p:blipFill>
        <p:spPr>
          <a:xfrm>
            <a:off x="4067280" y="3645000"/>
            <a:ext cx="1622160" cy="2305080"/>
          </a:xfrm>
          <a:prstGeom prst="rect">
            <a:avLst/>
          </a:prstGeom>
          <a:ln w="0">
            <a:noFill/>
          </a:ln>
        </p:spPr>
      </p:pic>
      <p:pic>
        <p:nvPicPr>
          <p:cNvPr id="112" name="Imagen 58" descr=""/>
          <p:cNvPicPr/>
          <p:nvPr/>
        </p:nvPicPr>
        <p:blipFill>
          <a:blip r:embed="rId4"/>
          <a:stretch/>
        </p:blipFill>
        <p:spPr>
          <a:xfrm>
            <a:off x="4067280" y="1844640"/>
            <a:ext cx="2087280" cy="15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soldier-group"/>
          <p:cNvPicPr/>
          <p:nvPr/>
        </p:nvPicPr>
        <p:blipFill>
          <a:blip r:embed="rId1"/>
          <a:stretch/>
        </p:blipFill>
        <p:spPr>
          <a:xfrm>
            <a:off x="6858000" y="53341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soldier-speed"/>
          <p:cNvPicPr/>
          <p:nvPr/>
        </p:nvPicPr>
        <p:blipFill>
          <a:blip r:embed="rId2"/>
          <a:stretch/>
        </p:blipFill>
        <p:spPr>
          <a:xfrm>
            <a:off x="0" y="53341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Por qué no paramos la guerr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que las grandes empresas fabricantes de ordenadores, móviles, videojuegos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quieren que se pa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los gobiernos lo consient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medios de comunicación no hablan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se paraliza la guerra no se hace negocio con el coltá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A quién le importa los más de 5 millones de muertes que ha causad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children-soldier2"/>
          <p:cNvPicPr/>
          <p:nvPr/>
        </p:nvPicPr>
        <p:blipFill>
          <a:blip r:embed="rId3"/>
          <a:stretch/>
        </p:blipFill>
        <p:spPr>
          <a:xfrm>
            <a:off x="2556000" y="4952880"/>
            <a:ext cx="1333440" cy="190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woman-childs"/>
          <p:cNvPicPr/>
          <p:nvPr/>
        </p:nvPicPr>
        <p:blipFill>
          <a:blip r:embed="rId4"/>
          <a:stretch/>
        </p:blipFill>
        <p:spPr>
          <a:xfrm>
            <a:off x="4908600" y="4941720"/>
            <a:ext cx="151776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1052640"/>
            <a:ext cx="324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África,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go,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Guerra,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LTÁN…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U MÓ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¿Qué podemos hac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176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FORMARNOS MEJ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NUNCI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ta re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FUNDI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 que ya sabe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Necesitamos un móvil nuevo cada añ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Necesitamos consumir ta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Sólo vale el usar y tira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arte el móvil que no 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éjalo en el punto de recicl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32440" y="1778040"/>
            <a:ext cx="1488960" cy="1928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372360" y="2276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659640" y="2276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948360" y="227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6372360" y="256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659640" y="256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694836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7236000" y="256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637236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665964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694836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2"/>
          <a:stretch/>
        </p:blipFill>
        <p:spPr>
          <a:xfrm>
            <a:off x="723600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3"/>
          <a:stretch/>
        </p:blipFill>
        <p:spPr>
          <a:xfrm>
            <a:off x="752472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637236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5"/>
          <a:stretch/>
        </p:blipFill>
        <p:spPr>
          <a:xfrm>
            <a:off x="665964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6"/>
          <a:stretch/>
        </p:blipFill>
        <p:spPr>
          <a:xfrm>
            <a:off x="6948360" y="314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7"/>
          <a:stretch/>
        </p:blipFill>
        <p:spPr>
          <a:xfrm>
            <a:off x="723600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Imagen 40" descr=""/>
          <p:cNvPicPr/>
          <p:nvPr/>
        </p:nvPicPr>
        <p:blipFill>
          <a:blip r:embed="rId18"/>
          <a:stretch/>
        </p:blipFill>
        <p:spPr>
          <a:xfrm>
            <a:off x="4932360" y="3830760"/>
            <a:ext cx="31701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fórmate y difunde por la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2781360"/>
            <a:ext cx="35798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outu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ce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wenti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4030920" cy="3427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63640" y="4046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¿Y Tú? ¿Y yo?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400" y="594828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futuro sin pobreza ni exclusión también depende de 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3840" y="5183280"/>
            <a:ext cx="78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éntalo a tus amigos, familiares, conocido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a conclui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48836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Congo, país inmensamente rico, vive empobrec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Congo se desangra por la codicia de las multinacionales en complicidad con los gobier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uestro desarrollo y bienestar es a costa de su pobreza.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53360" cy="50925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QUIERO QUE MI MÓVIL SIRVA PARA PAGAR UNA GU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435640" y="115920"/>
            <a:ext cx="300996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476280"/>
            <a:ext cx="871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Dónde está La República Democrática del Con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qué tiene que ver con mi teléfono móv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16360" y="2781360"/>
            <a:ext cx="3457800" cy="3457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3538440" cy="431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2340000" y="4724280"/>
            <a:ext cx="2879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33720" y="620640"/>
            <a:ext cx="495936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628640"/>
            <a:ext cx="399564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blación:  Más de 70 millones de habi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eranza de vida: 47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erficie 2,34 millones de K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5,5 veces Españ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ital: Kinsh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sidente: Joseph Kab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ndes Reservas Ecológicas y de mine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% reservas mundiales de colt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33336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ública Democrática del Con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es el Coltan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oro g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oltán es la abreviatura de dos minerales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mbio y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li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muy escaso en la natural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urso estratég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imprescindible para el desarrollo de las nuevas tecnolog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33840" y="41083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11640" y="3500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 + tan = coltá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Para qué si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la fabricació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léfonos móvi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GPS, satélites artificiales, armas teledirigidas, televisores de plasma, videoconsolas, ordenadores portátiles, PDAs, MP3, MP4, cohetes espaciales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siles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juguetes electrónicos, cámaras de foto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372360" y="1484280"/>
            <a:ext cx="2543040" cy="216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248616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59280" y="5013360"/>
            <a:ext cx="2521080" cy="12920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Dónde se encuentra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rebuchet MS"/>
              </a:rPr>
              <a:t>Brasil 5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rebuchet MS"/>
              </a:rPr>
              <a:t>Tailandia 5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rebuchet MS"/>
              </a:rPr>
              <a:t>África 80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rebuchet MS"/>
              </a:rPr>
              <a:t>Australia10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24360" y="1628640"/>
            <a:ext cx="4830840" cy="3135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2987640" y="3933720"/>
            <a:ext cx="5040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27280" y="3284640"/>
            <a:ext cx="3960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2349360"/>
            <a:ext cx="331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16360" y="2852280"/>
            <a:ext cx="4751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848360" cy="54849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es se benefician del coltá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Artisanal coltan mining in Mozambique. Almost all of the mining is carried out manually "/>
          <p:cNvPicPr/>
          <p:nvPr/>
        </p:nvPicPr>
        <p:blipFill>
          <a:blip r:embed="rId1"/>
          <a:stretch/>
        </p:blipFill>
        <p:spPr>
          <a:xfrm>
            <a:off x="1116000" y="12682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YAMOS A UNA MIN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0:55:40Z</dcterms:created>
  <dc:creator>xabier</dc:creator>
  <dc:description/>
  <dc:language>en-US</dc:language>
  <cp:lastModifiedBy>Usuario</cp:lastModifiedBy>
  <dcterms:modified xsi:type="dcterms:W3CDTF">2011-04-18T11:43:43Z</dcterms:modified>
  <cp:revision>18</cp:revision>
  <dc:subject/>
  <dc:title>Grandes lagos, grandes crímenes, grandes injusticias</dc:title>
</cp:coreProperties>
</file>