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26.jpeg" ContentType="image/jpeg"/>
  <Override PartName="/ppt/media/image42.png" ContentType="image/png"/>
  <Override PartName="/ppt/media/image25.jpeg" ContentType="image/jpeg"/>
  <Override PartName="/ppt/media/image32.png" ContentType="image/png"/>
  <Override PartName="/ppt/media/image3.png" ContentType="image/png"/>
  <Override PartName="/ppt/media/image33.png" ContentType="image/png"/>
  <Override PartName="/ppt/media/image17.jpeg" ContentType="image/jpeg"/>
  <Override PartName="/ppt/media/image40.png" ContentType="image/png"/>
  <Override PartName="/ppt/media/image36.jpeg" ContentType="image/jpeg"/>
  <Override PartName="/ppt/media/image2.jpeg" ContentType="image/jpeg"/>
  <Override PartName="/ppt/media/image57.png" ContentType="image/png"/>
  <Override PartName="/ppt/media/image49.png" ContentType="image/png"/>
  <Override PartName="/ppt/media/image23.jpeg" ContentType="image/jpeg"/>
  <Override PartName="/ppt/media/image47.png" ContentType="image/png"/>
  <Override PartName="/ppt/media/image35.jpeg" ContentType="image/jpeg"/>
  <Override PartName="/ppt/media/image1.jpeg" ContentType="image/jpeg"/>
  <Override PartName="/ppt/media/image39.png" ContentType="image/png"/>
  <Override PartName="/ppt/media/image22.jpeg" ContentType="image/jpeg"/>
  <Override PartName="/ppt/media/image59.jpeg" ContentType="image/jpeg"/>
  <Override PartName="/ppt/media/image54.png" ContentType="image/png"/>
  <Override PartName="/ppt/media/image14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44.png" ContentType="image/png"/>
  <Override PartName="/ppt/media/image13.jpeg" ContentType="image/jpeg"/>
  <Override PartName="/ppt/media/image18.jpeg" ContentType="image/jpeg"/>
  <Override PartName="/ppt/media/image15.jpeg" ContentType="image/jpeg"/>
  <Override PartName="/ppt/media/012%20South%20Africa's%20Finest%20%5BFreedom%20Mix%5D.wav" ContentType="audio/x-wav"/>
  <Override PartName="/ppt/media/image5.jpeg" ContentType="image/jpeg"/>
  <Override PartName="/ppt/media/image50.png" ContentType="image/png"/>
  <Override PartName="/ppt/media/image52.png" ContentType="image/png"/>
  <Override PartName="/ppt/media/image6.jpeg" ContentType="image/jpeg"/>
  <Override PartName="/ppt/media/image7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8.png" ContentType="image/png"/>
  <Override PartName="/ppt/media/image28.jpeg" ContentType="image/jpeg"/>
  <Override PartName="/ppt/media/image11.jpeg" ContentType="image/jpeg"/>
  <Override PartName="/ppt/media/image9.jpeg" ContentType="image/jpeg"/>
  <Override PartName="/ppt/media/image48.png" ContentType="image/png"/>
  <Override PartName="/ppt/media/image12.jpeg" ContentType="image/jpeg"/>
  <Override PartName="/ppt/media/image29.jpeg" ContentType="image/jpeg"/>
  <Override PartName="/ppt/media/image30.jpeg" ContentType="image/jpeg"/>
  <Override PartName="/ppt/media/image31.jpeg" ContentType="image/jpeg"/>
  <Override PartName="/ppt/media/image34.jpeg" ContentType="image/jpeg"/>
  <Override PartName="/ppt/media/image37.jpeg" ContentType="image/jpeg"/>
  <Override PartName="/ppt/media/image41.png" ContentType="image/png"/>
  <Override PartName="/ppt/media/image43.png" ContentType="image/png"/>
  <Override PartName="/ppt/media/image45.png" ContentType="image/png"/>
  <Override PartName="/ppt/media/image46.png" ContentType="image/png"/>
  <Override PartName="/ppt/media/image4.jpeg" ContentType="image/jpeg"/>
  <Override PartName="/ppt/media/image51.png" ContentType="image/png"/>
  <Override PartName="/ppt/media/image53.png" ContentType="image/png"/>
  <Override PartName="/ppt/media/image58.jpeg" ContentType="image/jpeg"/>
  <Override PartName="/ppt/media/image20.jpeg" ContentType="image/jpeg"/>
  <Override PartName="/ppt/media/image5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64FB-C425-46F3-8EFC-A1F7C8CB6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FEE9-E3F8-45A7-9474-53044EC0D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CE8C-03EB-412A-ABFB-E1C8F7203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0AEE-2C1D-473D-9515-8B253E735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C55A-B70B-4F34-B47F-4AC26783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FAF1-B87D-4E58-9C6C-D50BE87A3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8E0F-D905-4FD0-8228-17E229CB5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990B-0616-4373-ACDC-B61D8BF9F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5F03-109B-4304-BA3D-3B840000F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D4EC-5250-4B6C-A6A9-46230070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45D8-7AE5-4C82-8A28-14DE0724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5160-38E9-475E-A893-EB2AD6D6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12FF2-FEE4-4737-8097-DF2BDB86E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012%20South%20Africa&apos;s%20Finest%20%5BFreedom%20Mix%5D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45.png"/><Relationship Id="rId9" Type="http://schemas.openxmlformats.org/officeDocument/2006/relationships/image" Target="../media/image46.png"/><Relationship Id="rId10" Type="http://schemas.openxmlformats.org/officeDocument/2006/relationships/image" Target="../media/image47.png"/><Relationship Id="rId11" Type="http://schemas.openxmlformats.org/officeDocument/2006/relationships/image" Target="../media/image48.png"/><Relationship Id="rId12" Type="http://schemas.openxmlformats.org/officeDocument/2006/relationships/image" Target="../media/image49.png"/><Relationship Id="rId13" Type="http://schemas.openxmlformats.org/officeDocument/2006/relationships/image" Target="../media/image50.png"/><Relationship Id="rId14" Type="http://schemas.openxmlformats.org/officeDocument/2006/relationships/image" Target="../media/image51.png"/><Relationship Id="rId15" Type="http://schemas.openxmlformats.org/officeDocument/2006/relationships/image" Target="../media/image52.png"/><Relationship Id="rId16" Type="http://schemas.openxmlformats.org/officeDocument/2006/relationships/image" Target="../media/image53.png"/><Relationship Id="rId17" Type="http://schemas.openxmlformats.org/officeDocument/2006/relationships/image" Target="../media/image54.png"/><Relationship Id="rId18" Type="http://schemas.openxmlformats.org/officeDocument/2006/relationships/image" Target="../media/image55.png"/><Relationship Id="rId1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292720" y="5656320"/>
            <a:ext cx="385128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Federación de Comités de Solidaridad con África Neg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http://www.umoy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26028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Bukavu (R. D. Cong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258920" y="4149720"/>
            <a:ext cx="2467080" cy="185724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Cómo se extrae el coltá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métodos de trabajo son parecidos a los antiguos buscadores de oro del Oeste America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Extracción de coltan"/>
          <p:cNvPicPr/>
          <p:nvPr/>
        </p:nvPicPr>
        <p:blipFill>
          <a:blip r:embed="rId2"/>
          <a:stretch/>
        </p:blipFill>
        <p:spPr>
          <a:xfrm>
            <a:off x="4932360" y="1628640"/>
            <a:ext cx="3173400" cy="2213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4932360" y="3933720"/>
            <a:ext cx="3270240" cy="218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2714400" cy="21621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3132000" y="3141720"/>
            <a:ext cx="5400720" cy="34862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468360" y="2924280"/>
            <a:ext cx="2390760" cy="3789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3276720" y="549360"/>
            <a:ext cx="518292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trabajador del coltá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 rot="10800000">
            <a:off x="457200" y="378576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48000" y="1599840"/>
            <a:ext cx="399564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buen trabajador puede producir un kilo de coltán al dí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media de un trabajador congoleño son 10$ al mes, mientras que un trabajador del coltán puede conseguir de 10$ a 50$ a la sem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4969080" cy="31464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24000" y="5229360"/>
            <a:ext cx="8351640" cy="16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boom de la tecnología reciente ha hecho que el precio del coltán se dispare llegando a 500$ el ki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ñías como Bayer, Nokia o Sony se pelean por él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Quiénes trabajan en las min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pesinos y ganaderos jóvenes que dejan sus camp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plazados de guer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sioneros de guer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es de niños, cuyos cuerpos pueden fácilmente adentrarse en las minas a ras de tier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empre vigilados por milita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ecuencias de esta situ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4020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bosques y los campos de cultivo se transforman en lodaz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chicos y chicas no van a la escue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chas enfermedades por falta de agua limpia, de alimentos, jornadas agotadoras... y SIDA que lleva a la muer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erentes grupos armados controlan las min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da kilo de coltán que se extrae  cuesta la vida a dos niñ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chos de estos niños y jóvenes mueren víctimas de horribles desprendimientos de tier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076720" y="1268280"/>
            <a:ext cx="3376800" cy="2498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poor-kid"/>
          <p:cNvPicPr/>
          <p:nvPr/>
        </p:nvPicPr>
        <p:blipFill>
          <a:blip r:embed="rId2"/>
          <a:stretch/>
        </p:blipFill>
        <p:spPr>
          <a:xfrm>
            <a:off x="5651640" y="429264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ás consecuencias de esta situ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38163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ile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splazamientos forzos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iles de civiles han huido de sus hogar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illones  de personas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refugi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iolación de ancianas, mujeres y niñ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43280" y="1197000"/>
            <a:ext cx="3673800" cy="2641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643280" y="4005360"/>
            <a:ext cx="3745080" cy="250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859280" y="4076640"/>
            <a:ext cx="3809880" cy="25718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ecuencias medioambient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511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ra extraer el coltán se han invadido los parques nacionales del Cong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trabajadores extraen coltán de sol a s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uermen y se alimentan en la selva montañosa de la zo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jan de cultivar sus tier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población de elefantes ha disminuido un 8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población de gorilas ha descendido un 90 %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508720" y="1125360"/>
            <a:ext cx="245736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6896160" cy="34480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ién financia el conflict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00720" y="1267920"/>
            <a:ext cx="4186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informe de las Naciones Unidas sacó a la luz la explotación de los recursos naturales en el Cong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y informes que demuestran qu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anda, Uganda y Burund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tán involucradas en el contrabando de Coltán en el Congo, usando las ganancias generadas por su alto precio para continuar la guerr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estima que el ejército ruandés consiguió al menos 250 millon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$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 18 meses por la venta de coltán, a pesar de que no hay coltán en Ruand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5013360"/>
            <a:ext cx="3962160" cy="15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os los países involucrados en el conflicto niegan haber explotado los recursos naturales del Con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79912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Por qué no paramos la guerra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36720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Firmas con nombre propio de multinacionales como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19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Noki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19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Alcatel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19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App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19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Nik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19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Ericson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19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Bay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19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Se citan en el Informe de la ONU como saqueadora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Financian la guerr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y apoyan a gobiernos corruptos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084720" y="3716280"/>
            <a:ext cx="2138400" cy="2590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659640" y="1557360"/>
            <a:ext cx="1928880" cy="2089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4656240" y="3946680"/>
            <a:ext cx="4030560" cy="21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Imagen 49" descr=""/>
          <p:cNvPicPr/>
          <p:nvPr/>
        </p:nvPicPr>
        <p:blipFill>
          <a:blip r:embed="rId3"/>
          <a:stretch/>
        </p:blipFill>
        <p:spPr>
          <a:xfrm>
            <a:off x="4067280" y="3645000"/>
            <a:ext cx="1622160" cy="2305080"/>
          </a:xfrm>
          <a:prstGeom prst="rect">
            <a:avLst/>
          </a:prstGeom>
          <a:ln w="0">
            <a:noFill/>
          </a:ln>
        </p:spPr>
      </p:pic>
      <p:pic>
        <p:nvPicPr>
          <p:cNvPr id="112" name="Imagen 58" descr=""/>
          <p:cNvPicPr/>
          <p:nvPr/>
        </p:nvPicPr>
        <p:blipFill>
          <a:blip r:embed="rId4"/>
          <a:stretch/>
        </p:blipFill>
        <p:spPr>
          <a:xfrm>
            <a:off x="4067280" y="1844640"/>
            <a:ext cx="2087280" cy="156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soldier-group"/>
          <p:cNvPicPr/>
          <p:nvPr/>
        </p:nvPicPr>
        <p:blipFill>
          <a:blip r:embed="rId1"/>
          <a:stretch/>
        </p:blipFill>
        <p:spPr>
          <a:xfrm>
            <a:off x="6858000" y="5334120"/>
            <a:ext cx="2286000" cy="1523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soldier-speed"/>
          <p:cNvPicPr/>
          <p:nvPr/>
        </p:nvPicPr>
        <p:blipFill>
          <a:blip r:embed="rId2"/>
          <a:stretch/>
        </p:blipFill>
        <p:spPr>
          <a:xfrm>
            <a:off x="0" y="5334120"/>
            <a:ext cx="2286000" cy="15238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Por qué no paramos la guerra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que las grandes empresas fabricantes de ordenadores, móviles, videojuegos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quieren que se par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los gobiernos lo consient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medios de comunicación no hablan de el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se paraliza la guerra no se hace negocio con el coltá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A quién le importa los más de 5 millones de muertes que ha causado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children-soldier2"/>
          <p:cNvPicPr/>
          <p:nvPr/>
        </p:nvPicPr>
        <p:blipFill>
          <a:blip r:embed="rId3"/>
          <a:stretch/>
        </p:blipFill>
        <p:spPr>
          <a:xfrm>
            <a:off x="2556000" y="4952880"/>
            <a:ext cx="1333440" cy="190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woman-childs"/>
          <p:cNvPicPr/>
          <p:nvPr/>
        </p:nvPicPr>
        <p:blipFill>
          <a:blip r:embed="rId4"/>
          <a:stretch/>
        </p:blipFill>
        <p:spPr>
          <a:xfrm>
            <a:off x="4908600" y="4941720"/>
            <a:ext cx="1517760" cy="19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9640" y="1052640"/>
            <a:ext cx="3240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África,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ongo, 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Guerra,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OLTÁN…</a:t>
            </a:r>
            <a:br>
              <a:rPr sz="4400"/>
            </a:b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TU MÓV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924360" y="981000"/>
            <a:ext cx="49687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¿Qué podemos hac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4176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NFORMARNOS MEJ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NUNCIAR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sta rea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IFUNDIR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lo que ya sabe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Necesitamos un móvil nuevo cada añ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Necesitamos consumir tant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Sólo vale el usar y tira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parte el móvil que no us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éjalo en el punto de recicla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032440" y="1778040"/>
            <a:ext cx="1488960" cy="19288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372360" y="22766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6659640" y="22766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6948360" y="2276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6372360" y="2565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6659640" y="2565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7"/>
          <a:stretch/>
        </p:blipFill>
        <p:spPr>
          <a:xfrm>
            <a:off x="6948360" y="2565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8"/>
          <a:stretch/>
        </p:blipFill>
        <p:spPr>
          <a:xfrm>
            <a:off x="7236000" y="2565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9"/>
          <a:stretch/>
        </p:blipFill>
        <p:spPr>
          <a:xfrm>
            <a:off x="6372360" y="2852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0"/>
          <a:stretch/>
        </p:blipFill>
        <p:spPr>
          <a:xfrm>
            <a:off x="6659640" y="2852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1"/>
          <a:stretch/>
        </p:blipFill>
        <p:spPr>
          <a:xfrm>
            <a:off x="6948360" y="2852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2"/>
          <a:stretch/>
        </p:blipFill>
        <p:spPr>
          <a:xfrm>
            <a:off x="7236000" y="2852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3"/>
          <a:stretch/>
        </p:blipFill>
        <p:spPr>
          <a:xfrm>
            <a:off x="7524720" y="2852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4"/>
          <a:stretch/>
        </p:blipFill>
        <p:spPr>
          <a:xfrm>
            <a:off x="6372360" y="3141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5"/>
          <a:stretch/>
        </p:blipFill>
        <p:spPr>
          <a:xfrm>
            <a:off x="6659640" y="3141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16"/>
          <a:stretch/>
        </p:blipFill>
        <p:spPr>
          <a:xfrm>
            <a:off x="6948360" y="314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7"/>
          <a:stretch/>
        </p:blipFill>
        <p:spPr>
          <a:xfrm>
            <a:off x="7236000" y="3141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8" name="Imagen 40" descr=""/>
          <p:cNvPicPr/>
          <p:nvPr/>
        </p:nvPicPr>
        <p:blipFill>
          <a:blip r:embed="rId18"/>
          <a:stretch/>
        </p:blipFill>
        <p:spPr>
          <a:xfrm>
            <a:off x="4932360" y="3830760"/>
            <a:ext cx="3170160" cy="22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1699920"/>
            <a:ext cx="424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Infórmate y difunde por la 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4360" y="2781360"/>
            <a:ext cx="357984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Youtub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aceboo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wenti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716360" y="1484280"/>
            <a:ext cx="4030920" cy="34275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763640" y="404640"/>
            <a:ext cx="51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¿Y Tú? ¿Y yo?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4400" y="5948280"/>
            <a:ext cx="856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Un futuro sin pobreza ni exclusión también depende de 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3840" y="5183280"/>
            <a:ext cx="780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éntalo a tus amigos, familiares, conocido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ra conclui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7488360" cy="4114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l Congo, país inmensamente rico, vive empobrec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l Congo se desangra por la codicia de las multinacionales en complicidad con los gobiern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Nuestro desarrollo y bienestar es a costa de su pobreza.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8253360" cy="509256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 QUIERO QUE MI MÓVIL SIRVA PARA PAGAR UNA GUER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5435640" y="115920"/>
            <a:ext cx="3009960" cy="470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9280" y="476280"/>
            <a:ext cx="8713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¿Dónde está La República Democrática del Cong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¿qué tiene que ver con mi teléfono móvi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716360" y="2781360"/>
            <a:ext cx="3457800" cy="3457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24000" y="2349360"/>
            <a:ext cx="3538440" cy="4319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flipV="1">
            <a:off x="2340000" y="4724280"/>
            <a:ext cx="287964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933720" y="620640"/>
            <a:ext cx="4959360" cy="5184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628640"/>
            <a:ext cx="3995640" cy="45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blación:  Más de 70 millones de habita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peranza de vida: 47 añ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perficie 2,34 millones de Km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5,5 veces Españ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pital: Kinsh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esidente: Joseph Kab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randes Reservas Ecológicas y de miner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80% reservas mundiales de coltá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333360"/>
            <a:ext cx="36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ública Democrática del Con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¿Qué es el Coltan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oro gr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coltán es la abreviatura de dos minerales: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l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mbio y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an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ali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 muy escaso en la naturalez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 un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curso estratégic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imprescindible para el desarrollo de las nuevas tecnologí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435640" y="162864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433840" y="410832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211640" y="3500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 + tan = coltá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¿Para qué sir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ra la fabricación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eléfonos móvil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GPS, satélites artificiales, armas teledirigidas, televisores de plasma, videoconsolas, ordenadores portátiles, PDAs, MP3, MP4, cohetes espaciales,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isiles,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juguetes electrónicos, cámaras de fotos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356000" y="14842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372360" y="1484280"/>
            <a:ext cx="2543040" cy="2160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364000" y="4076640"/>
            <a:ext cx="2486160" cy="18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859280" y="5013360"/>
            <a:ext cx="2521080" cy="12920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¿Dónde se encuentra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Trebuchet MS"/>
              </a:rPr>
              <a:t>Brasil 5%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Trebuchet MS"/>
              </a:rPr>
              <a:t>Tailandia 5%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Trebuchet MS"/>
              </a:rPr>
              <a:t>África 80%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Trebuchet MS"/>
              </a:rPr>
              <a:t>Australia10%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924360" y="1628640"/>
            <a:ext cx="4830840" cy="31356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V="1">
            <a:off x="2987640" y="3933720"/>
            <a:ext cx="504036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627280" y="3284640"/>
            <a:ext cx="396072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340000" y="2349360"/>
            <a:ext cx="331164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916360" y="2852280"/>
            <a:ext cx="475128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7848360" cy="548496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Quiénes se benefician del coltá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Artisanal coltan mining in Mozambique. Almost all of the mining is carried out manually "/>
          <p:cNvPicPr/>
          <p:nvPr/>
        </p:nvPicPr>
        <p:blipFill>
          <a:blip r:embed="rId1"/>
          <a:stretch/>
        </p:blipFill>
        <p:spPr>
          <a:xfrm>
            <a:off x="1116000" y="126828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YAMOS A UNA MINA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0:55:40Z</dcterms:created>
  <dc:creator>xabier</dc:creator>
  <dc:description/>
  <dc:language>en-US</dc:language>
  <cp:lastModifiedBy>Usuario</cp:lastModifiedBy>
  <dcterms:modified xsi:type="dcterms:W3CDTF">2011-04-18T11:43:43Z</dcterms:modified>
  <cp:revision>18</cp:revision>
  <dc:subject/>
  <dc:title>Grandes lagos, grandes crímenes, grandes injusticias</dc:title>
</cp:coreProperties>
</file>