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A5A-73D8-42CC-A41D-466C1E53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EE2-B70C-4542-8130-3F056A3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BCA-BB48-4A92-91DD-2D9B309B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36D-2FFB-452E-8441-8BD7CF44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3BC-E43E-4B85-82FB-4C62B492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EE5-E40D-4A30-BBDE-32975D0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3E3-39FD-4940-A988-168D70C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DE2-7113-4FC8-83C4-F4B13CB1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846-4900-47D7-BC22-9ACB62AD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ED4-CD16-4028-A588-9F2B36B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DE4-2878-4821-9D41-55B724A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555-4C96-44D6-BFA2-A61819F7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77B3-A0BA-4088-B251-0CF2D4CDF9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imes New Roman"/>
              </a:rPr>
              <a:t>El milagro del make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76240" y="1079640"/>
            <a:ext cx="73915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7920" y="1282680"/>
            <a:ext cx="732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308240"/>
            <a:ext cx="8285040" cy="4241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8:29:33Z</dcterms:created>
  <dc:creator>Telespazio spa</dc:creator>
  <dc:description/>
  <dc:language>en-US</dc:language>
  <cp:lastModifiedBy>Leon Salas</cp:lastModifiedBy>
  <dcterms:modified xsi:type="dcterms:W3CDTF">2005-10-25T00:56:42Z</dcterms:modified>
  <cp:revision>3</cp:revision>
  <dc:subject/>
  <dc:title>I miracoli del make-up</dc:title>
</cp:coreProperties>
</file>