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9CE-2CF8-43EF-A055-A465E756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E6D-5B60-40AE-B638-4391CA4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389-B93D-468E-8C80-5AF9CC8F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BB1-CBF9-432F-BE79-75B0799B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02C-8FDD-4C93-AD40-DAC960D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537-90E8-46AA-A35F-C6F879F9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C12-9DE3-4427-B63D-735F84F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A0C-0ED3-474B-8C5F-B6B0483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3A8-28C5-41F8-8D04-235E6A8C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4A5-9B5F-46D5-B837-8CB7072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304-DAF1-4718-B64B-974CF282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A7C-A383-4D20-BBD8-CB9E87B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B229-A9CE-4DF6-A33C-FAFB0E4ABA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El milagro del make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6240" y="1079640"/>
            <a:ext cx="73915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7920" y="1282680"/>
            <a:ext cx="732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308240"/>
            <a:ext cx="8285040" cy="4241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8:29:33Z</dcterms:created>
  <dc:creator>Telespazio spa</dc:creator>
  <dc:description/>
  <dc:language>en-US</dc:language>
  <cp:lastModifiedBy>Leon Salas</cp:lastModifiedBy>
  <dcterms:modified xsi:type="dcterms:W3CDTF">2005-10-25T00:56:42Z</dcterms:modified>
  <cp:revision>3</cp:revision>
  <dc:subject/>
  <dc:title>I miracoli del make-up</dc:title>
</cp:coreProperties>
</file>