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584D-116B-4D93-A25E-391FF6E7122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5C5B-4B78-4971-86E3-94ED685C348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4BA-A692-4AF3-9A93-BCB1671E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E8A-F22F-4A79-BC60-41F487C2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CF8-BDD9-4669-AACD-FD791F0A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370-1EBB-4327-A2BB-17553E54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DE9-E275-4C7A-BBB5-FC85FB1A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15D-5BCF-4B24-9C9A-FD4FE010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64D-AD93-442A-9E8F-6BFBC0A3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4FA-7A6F-407D-BB75-C0B493C1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724-A59D-4596-A68E-50DE73FC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B1C-0C57-4A25-852C-19E6F86F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457-C8BD-43BC-B4AC-CED8FF67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4697-9DC3-4D39-91D5-68F30802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BB36-CC75-401B-9CA2-D326AF4A9AD5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2280" y="990720"/>
            <a:ext cx="83822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os Hombres siempre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9" name="WordArt 2"/>
          <p:cNvSpPr txBox="1"/>
          <p:nvPr/>
        </p:nvSpPr>
        <p:spPr>
          <a:xfrm>
            <a:off x="380880" y="2895480"/>
            <a:ext cx="7925040" cy="156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se preguntan !!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harlie O´Neale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7069680" y="606096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halie O´ne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oli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lsa Benitez"/>
          <p:cNvPicPr/>
          <p:nvPr/>
        </p:nvPicPr>
        <p:blipFill>
          <a:blip r:embed="rId1"/>
          <a:stretch/>
        </p:blipFill>
        <p:spPr>
          <a:xfrm>
            <a:off x="2205000" y="0"/>
            <a:ext cx="473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7069680" y="606096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Elsa Beni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Folie9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Joanna Krupa"/>
          <p:cNvPicPr/>
          <p:nvPr/>
        </p:nvPicPr>
        <p:blipFill>
          <a:blip r:embed="rId1"/>
          <a:stretch/>
        </p:blipFill>
        <p:spPr>
          <a:xfrm>
            <a:off x="2263680" y="0"/>
            <a:ext cx="46166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7071840" y="60609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Joanna Kru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olie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Lorraine Van Wyk"/>
          <p:cNvPicPr/>
          <p:nvPr/>
        </p:nvPicPr>
        <p:blipFill>
          <a:blip r:embed="rId1"/>
          <a:stretch/>
        </p:blipFill>
        <p:spPr>
          <a:xfrm>
            <a:off x="2187720" y="0"/>
            <a:ext cx="47685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7039080" y="587700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Lorraine Van W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olie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Lorraine Van Wyk-1"/>
          <p:cNvPicPr/>
          <p:nvPr/>
        </p:nvPicPr>
        <p:blipFill>
          <a:blip r:embed="rId1"/>
          <a:stretch/>
        </p:blipFill>
        <p:spPr>
          <a:xfrm>
            <a:off x="2076480" y="0"/>
            <a:ext cx="49910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7108920" y="609300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Lorrane Van W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Folie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5"/>
          <p:cNvSpPr txBox="1"/>
          <p:nvPr/>
        </p:nvSpPr>
        <p:spPr>
          <a:xfrm>
            <a:off x="457200" y="762120"/>
            <a:ext cx="8077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Escojo una Mujer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1" name="WordArt 5"/>
          <p:cNvSpPr txBox="1"/>
          <p:nvPr/>
        </p:nvSpPr>
        <p:spPr>
          <a:xfrm rot="21477600">
            <a:off x="609480" y="4343040"/>
            <a:ext cx="80773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o un Carro?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Marcela Quintero"/>
          <p:cNvPicPr/>
          <p:nvPr/>
        </p:nvPicPr>
        <p:blipFill>
          <a:blip r:embed="rId1"/>
          <a:stretch/>
        </p:blipFill>
        <p:spPr>
          <a:xfrm>
            <a:off x="2152800" y="14400"/>
            <a:ext cx="4838400" cy="6829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7163280" y="556272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arc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Quin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olie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91440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200" spc="-1" strike="noStrike">
                <a:solidFill>
                  <a:srgbClr val="660066"/>
                </a:solidFill>
                <a:latin typeface="Asimov"/>
              </a:rPr>
              <a:t>AHHH!</a:t>
            </a:r>
            <a:br>
              <a:rPr sz="7200"/>
            </a:br>
            <a:r>
              <a:rPr b="0" lang="sv-SE" sz="7200" spc="-1" strike="noStrike">
                <a:solidFill>
                  <a:srgbClr val="660066"/>
                </a:solidFill>
                <a:latin typeface="Asimov"/>
              </a:rPr>
              <a:t>No importa.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200" spc="-1" strike="noStrike">
                <a:solidFill>
                  <a:srgbClr val="660066"/>
                </a:solidFill>
                <a:latin typeface="Asimov"/>
              </a:rPr>
              <a:t>Los resultados siempre seran iguales..........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yuck"/>
          <p:cNvPicPr/>
          <p:nvPr/>
        </p:nvPicPr>
        <p:blipFill>
          <a:blip r:embed="rId1"/>
          <a:stretch/>
        </p:blipFill>
        <p:spPr>
          <a:xfrm>
            <a:off x="1905120" y="0"/>
            <a:ext cx="5386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Foli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Angela Saunders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629760" y="68580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gela Sau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oli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Ana Hickman"/>
          <p:cNvPicPr/>
          <p:nvPr/>
        </p:nvPicPr>
        <p:blipFill>
          <a:blip r:embed="rId1"/>
          <a:stretch/>
        </p:blipFill>
        <p:spPr>
          <a:xfrm>
            <a:off x="2116080" y="0"/>
            <a:ext cx="49118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7071120" y="606096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na Hick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oli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arol Grow"/>
          <p:cNvPicPr/>
          <p:nvPr/>
        </p:nvPicPr>
        <p:blipFill>
          <a:blip r:embed="rId1"/>
          <a:stretch/>
        </p:blipFill>
        <p:spPr>
          <a:xfrm>
            <a:off x="2560680" y="0"/>
            <a:ext cx="40226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7072200" y="60609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rol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oli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k Kaye</dc:creator>
  <dc:description/>
  <dc:language>en-US</dc:language>
  <cp:lastModifiedBy>propietario</cp:lastModifiedBy>
  <dcterms:modified xsi:type="dcterms:W3CDTF">2009-01-30T06:30:51Z</dcterms:modified>
  <cp:revision>17</cp:revision>
  <dc:subject/>
  <dc:title>Woman or C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