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5E47-5967-4B1A-8877-9A55386DAB4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5A12-94D7-443D-B7D0-2CB583079A7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047E-72D6-4C6D-B7C0-34DDC6A79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D07B-49B2-4576-A7C1-538C68BF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BB3A-B79F-40FD-A378-FAE7C17CA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AC03-5B06-45EF-8049-DAB3AFE0B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0BA2-9300-4988-8C4C-140DB1C4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0510-2430-4237-91EF-2778940D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E049-950B-4AD5-97E9-F102E9F4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CDE2-E7DC-471C-9666-F4EA64EA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4314-E205-45BF-BF87-6DB06B5A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DED3-F6DF-4F3A-90A9-4B3F1E63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BD71-1388-48D4-B75D-4F50B274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3371-19D1-4116-A03D-D865D5C2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BE5A-1F47-4F84-B403-3B77DBBF2A45}" type="slidenum">
              <a:rPr b="0" lang="de-A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52280" y="990720"/>
            <a:ext cx="838224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Los Hombres siempre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9" name="WordArt 2"/>
          <p:cNvSpPr txBox="1"/>
          <p:nvPr/>
        </p:nvSpPr>
        <p:spPr>
          <a:xfrm>
            <a:off x="380880" y="2895480"/>
            <a:ext cx="7925040" cy="156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se preguntan !!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harlie O´Neale"/>
          <p:cNvPicPr/>
          <p:nvPr/>
        </p:nvPicPr>
        <p:blipFill>
          <a:blip r:embed="rId1"/>
          <a:stretch/>
        </p:blipFill>
        <p:spPr>
          <a:xfrm>
            <a:off x="2290680" y="0"/>
            <a:ext cx="456264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7069680" y="606096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Chalie O´ne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Foli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Elsa Benitez"/>
          <p:cNvPicPr/>
          <p:nvPr/>
        </p:nvPicPr>
        <p:blipFill>
          <a:blip r:embed="rId1"/>
          <a:stretch/>
        </p:blipFill>
        <p:spPr>
          <a:xfrm>
            <a:off x="2205000" y="0"/>
            <a:ext cx="473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7069680" y="606096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Elsa Benit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Folie9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Joanna Krupa"/>
          <p:cNvPicPr/>
          <p:nvPr/>
        </p:nvPicPr>
        <p:blipFill>
          <a:blip r:embed="rId1"/>
          <a:stretch/>
        </p:blipFill>
        <p:spPr>
          <a:xfrm>
            <a:off x="2263680" y="0"/>
            <a:ext cx="46166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7071840" y="606096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Joanna Kru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olie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Lorraine Van Wyk"/>
          <p:cNvPicPr/>
          <p:nvPr/>
        </p:nvPicPr>
        <p:blipFill>
          <a:blip r:embed="rId1"/>
          <a:stretch/>
        </p:blipFill>
        <p:spPr>
          <a:xfrm>
            <a:off x="2187720" y="0"/>
            <a:ext cx="476856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7039080" y="5877000"/>
            <a:ext cx="210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Lorraine Van Wy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Folie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Lorraine Van Wyk-1"/>
          <p:cNvPicPr/>
          <p:nvPr/>
        </p:nvPicPr>
        <p:blipFill>
          <a:blip r:embed="rId1"/>
          <a:stretch/>
        </p:blipFill>
        <p:spPr>
          <a:xfrm>
            <a:off x="2076480" y="0"/>
            <a:ext cx="499104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7108920" y="6093000"/>
            <a:ext cx="20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Lorrane Van Wy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Folie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5"/>
          <p:cNvSpPr txBox="1"/>
          <p:nvPr/>
        </p:nvSpPr>
        <p:spPr>
          <a:xfrm>
            <a:off x="457200" y="762120"/>
            <a:ext cx="80773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4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Escojo una Mujer 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1" name="WordArt 5"/>
          <p:cNvSpPr txBox="1"/>
          <p:nvPr/>
        </p:nvSpPr>
        <p:spPr>
          <a:xfrm rot="21477600">
            <a:off x="609480" y="4343040"/>
            <a:ext cx="807732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4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 </a:t>
            </a: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o un Carro?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Marcela Quintero"/>
          <p:cNvPicPr/>
          <p:nvPr/>
        </p:nvPicPr>
        <p:blipFill>
          <a:blip r:embed="rId1"/>
          <a:stretch/>
        </p:blipFill>
        <p:spPr>
          <a:xfrm>
            <a:off x="2152800" y="14400"/>
            <a:ext cx="4838400" cy="6829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7163280" y="556272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arc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Quin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Folie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1904760"/>
            <a:ext cx="914400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7200" spc="-1" strike="noStrike">
                <a:solidFill>
                  <a:srgbClr val="660066"/>
                </a:solidFill>
                <a:latin typeface="Asimov"/>
              </a:rPr>
              <a:t>AHHH!</a:t>
            </a:r>
            <a:br>
              <a:rPr sz="7200"/>
            </a:br>
            <a:r>
              <a:rPr b="0" lang="sv-SE" sz="7200" spc="-1" strike="noStrike">
                <a:solidFill>
                  <a:srgbClr val="660066"/>
                </a:solidFill>
                <a:latin typeface="Asimov"/>
              </a:rPr>
              <a:t>No importa..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7200" spc="-1" strike="noStrike">
                <a:solidFill>
                  <a:srgbClr val="660066"/>
                </a:solidFill>
                <a:latin typeface="Asimov"/>
              </a:rPr>
              <a:t>Los resultados siempre seran iguales...........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yuck"/>
          <p:cNvPicPr/>
          <p:nvPr/>
        </p:nvPicPr>
        <p:blipFill>
          <a:blip r:embed="rId1"/>
          <a:stretch/>
        </p:blipFill>
        <p:spPr>
          <a:xfrm>
            <a:off x="1905120" y="0"/>
            <a:ext cx="5386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Foli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Angela Saunders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629760" y="685800"/>
            <a:ext cx="22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gela Sau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Foli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Ana Hickman"/>
          <p:cNvPicPr/>
          <p:nvPr/>
        </p:nvPicPr>
        <p:blipFill>
          <a:blip r:embed="rId1"/>
          <a:stretch/>
        </p:blipFill>
        <p:spPr>
          <a:xfrm>
            <a:off x="2116080" y="0"/>
            <a:ext cx="49118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7071120" y="606096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Ana Hick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oli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arol Grow"/>
          <p:cNvPicPr/>
          <p:nvPr/>
        </p:nvPicPr>
        <p:blipFill>
          <a:blip r:embed="rId1"/>
          <a:stretch/>
        </p:blipFill>
        <p:spPr>
          <a:xfrm>
            <a:off x="2560680" y="0"/>
            <a:ext cx="402264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7072200" y="606096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Carol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olie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k Kaye</dc:creator>
  <dc:description/>
  <dc:language>en-US</dc:language>
  <cp:lastModifiedBy>propietario</cp:lastModifiedBy>
  <dcterms:modified xsi:type="dcterms:W3CDTF">2009-01-30T06:30:51Z</dcterms:modified>
  <cp:revision>17</cp:revision>
  <dc:subject/>
  <dc:title>Woman or Ca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