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arber%20Samuel,%20Adagio%20para%20cuerda%20RI%20CD2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730-2341-435D-B856-0FC237D3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933-F1F6-4B7F-8924-18DABAF9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A1A-918C-418D-AA51-A7EF775B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204-095D-40D9-B8FC-6FB2F7E2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DB0-CBE3-4207-86EC-EFB6EB8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5ED-F70E-40E9-8F42-D4FF285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178-DA1D-4456-9850-19A93B1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10C-3CCF-4D08-AA49-CAEF5DB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ADA-E75C-49C1-8D00-483E5D8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6FB-510D-4DE7-A94A-040F8978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9E8-4D05-49CC-A6C1-9DA98786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449-F3C0-4132-A43A-C139AB5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CB9-EAF9-4B1E-A794-3E91C014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arber%20Samuel,%20Adagio%20para%20cuerda%20RI%20CD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La esperanza de Dios y el futuro de la historia humana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se condensan en el encuentro de dos muj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ría%20Isabel.Hardwicke%20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0396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19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Lucas 1, 39-56 // La Asunción de María, 15 agosto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Música: Samuel Barber. Adagio para cuer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arber%20Samuel,%20Adagio%20para%20cuerda%20RI%20CD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MINO%20MONTE%20ab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Por aquellos días, María se puso en camino y fue de prisa a la montaña, a una ciudad de Judá. Entró en casa de Zacarías y saludó a Isabel. Y cuando Isabel oyó el saludo de María, el niño empezó a dar saltos en su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ía está llena del Espíritu, tan llena que lo transmite con su presenci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 con sus palab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 corazón rebosa de alegría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 pone en camino -la palabra va acompañada de obras-, impulsada por esa alegría que el mismo Dios le ha ofrecido, hacia quien le puede comprend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con quien puede compartir su go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pronunciado su “que se haga”, asumiendo unas consecuencias que no con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ía%20Isabel%20embaraz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No hay mayor bienaventuranza que la fe: confiar en Dios, poner la vida en sus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ucas pone en boca de Isabel la verdadera felicidad de María –y la nuestra-: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scuchar la Palabra y hacer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915400" cy="14655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ntonces Isabel, llena del Espíritu Santo, exclamó a grandes voc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Bendita tú entre las mujeres y bendito el fruto de tu vientre. Pero ¿cómo es posible que la madre de mi Señor venga a visitarme? Porque en cuanto oí tu saludo, el niño empezó a dar saltos de alegría en mi seno. ¡Dichosa tú que has creído! Porque lo que te ha dicho el Señor se cumplir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ibro%20abierto%20marró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121932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El «Magnificat» es un salmo de acción de gracias compuesto de citas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y alusiones al Antiguo Testamento, especialmente al cántico de Ana,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a madre de Samuel (1 Sam 2, 1-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Su núcleo: Dios se apiada de los po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       </a:t>
            </a: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Tiene un contenido de denuncia. Una de las claves que identifican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a l@s profe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María denuncia: la prepotencia (Lc 1, 51), el poder (1,52) y el tener (1,5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No los denuncia directamente, sino que lo hace a través del triunfo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de las personas pobres sobre esos tres “pilares” de la soci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Dios y su obra es más grande que todo el pecado que pueda haber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Pocos pasajes de la Escritura recogen, de forma tan precisa y poética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o que es y lo que realiza la palabra profética, como el canto del Magnífic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¡Y lo canta una muj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tonces María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ATIVIDAD%20LA%20HISTORIA%20MARIA%20sonriente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228600"/>
            <a:ext cx="4648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i alma glorifica al Señor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y mi espíritu se regocija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n Dios mi Salvador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porque ha mirado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a humildad de su sie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esde ahora me llamarán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ichosa todas las generaciones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porque ha hecho en mí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sas grandes el Poderoso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u nombre es santo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y es misericordioso siempre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n aquellos que le hon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724280"/>
            <a:ext cx="8686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esperanza activa de María queda evocada en su propio camin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entrega y pequeñez pers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la es el modelo: dialoga con Dio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icia como mujer un camino de esperanz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ienza a realizar la acción liberad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ismo Señor que hizo maravillas en Marí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ace también maravillas en tod@s y cada un@ de nosotr@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%20430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541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splegó la fuerza de su braz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dispersó a los de corazón soberbi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rribó de sus tronos a los podero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OBREZA%20ajudar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02800" y="533520"/>
            <a:ext cx="39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y ensalzó a los humild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olmó de bienes a los hambrient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7320" y="1143000"/>
            <a:ext cx="3987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a los ricos despidió sin 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interpreta el gesto de Dios como inversión completa de las condiciones de la historia. Comienza un camino en el que todas las personas hambrientas y oprimidas pueden recibir la liberació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vidente que esas diferencias no se han superado todavía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oberbi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uen imponiendo su “ley” sobre la tierra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otentad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tinúan ejerciendo su poder, mientras siguen marginadas millones y millones de personas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c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enriquecen cada día más en muchas partes del mundo, también en las que se consideran católicas y cristinas, mientras que los pobres pasan hamb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estra tarea está en sintonizar con la pedagogía de Dios y trabajar por un mun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into donde esta proclamación se haga re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icente_ferrer%20-%20niñ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52280"/>
            <a:ext cx="50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omó de la mano a Israel, su siervo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cordándose de su misericordia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como lo había prometid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 nuestros antepasado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n favor de Abrahán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de sus descendientes para si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aría canta en nombre de l@s pequeñ@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lla es la voz de quienes que no tienen vo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aría es profeta de Dios y se aventura a adelantar lo que sucederá en el futuro, mediante la búsqueda incesante de los signos de Dios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la total disposición de su pers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us palabras suscitan un fuerte compromiso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ien las diga de verdad, como ella, ha de comprometerse a convertir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 principio de existencia personal y de actuación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asa%20árbol%20ro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762120"/>
            <a:ext cx="6096240" cy="825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ría estuvo con Isabel unos tres mese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después volvió a su c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392800"/>
            <a:ext cx="8302680" cy="146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egría de los acontecimientos inunda la casa de Isab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s dos mujeres comparten, viven su encuentro profétic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que se hacen partícipes de la llamada de Dios a cada una de ell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mbién a  nosotr@s nos visita, nos llena de su Espíritu y de su alegrí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nos invita a agradecer y cantar las maravillas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lro%20AMARILLA%20dch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6120" y="171360"/>
            <a:ext cx="3070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Tan sólo mejor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la mejor parte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escogió María,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difícil to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Acoger al Verb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ándose al silen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Vigilar Su Ausenci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gritando Su nom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escubrir su Rostr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n todos los ros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Hacer del silenci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a mayor escuch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Traducir en acto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as Sagradas Let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ombatir amando.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Morir por la vid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uchando en la pa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erribar los trono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on las viejas arma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brantadas de ira,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forradas de fl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Plantar la bander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-la justicia libre-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n los gritos pob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antar sobre el mund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Advenimient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el mundo reclam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izás sin sab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difícil tod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supo escoger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... la otra María. </a:t>
            </a:r>
            <a:r>
              <a:rPr b="0" i="1" lang="es-ES" sz="1400" spc="-1" strike="noStrike">
                <a:solidFill>
                  <a:srgbClr val="ffcc00"/>
                </a:solidFill>
                <a:latin typeface="Comic Sans MS"/>
              </a:rPr>
              <a:t>(Pedro Casaldál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380880"/>
            <a:ext cx="1648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ffcc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difícil to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ffcc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8:33:16Z</dcterms:created>
  <dc:creator>Asun Gutiérrez</dc:creator>
  <dc:description/>
  <dc:language>en-US</dc:language>
  <cp:lastModifiedBy> </cp:lastModifiedBy>
  <dcterms:modified xsi:type="dcterms:W3CDTF">2010-07-28T18:25:58Z</dcterms:modified>
  <cp:revision>18</cp:revision>
  <dc:subject>jeasam@gmail.com</dc:subject>
  <dc:title>Asunción de María</dc:title>
</cp:coreProperties>
</file>