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Barber%20Samuel,%20Adagio%20para%20cuerda%20RI%20CD2.wav" ContentType="audio/x-wav"/>
  <Override PartName="/ppt/media/image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DAA7-ED03-4037-B021-E37EE2253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3A71-9C36-4551-AFC0-41D866D9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419C-E14A-488B-89FD-F212A3D0C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15E0-728F-4A89-92B8-557EE1C4A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582B-83EE-4F9A-AB6C-DB8C5ACE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E72C-CC44-4DA2-83B2-8E1777C8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2033-74AF-4083-8214-A06F1100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95BD-46FF-40E5-9DC9-D6B9EB5F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E826-4469-4363-A0D1-AE1ECC47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D4A0-5E97-4D79-B4EB-3D8CBE82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E26F-B629-4ECE-A904-B5DE1886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5616-B95E-4D43-A87F-AEE78952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B8B2-8548-4521-9746-436FD07CA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arber%20Samuel,%20Adagio%20para%20cuerda%20RI%20CD2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2286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La esperanza de Dios y el futuro de la historia humana</a:t>
            </a:r>
            <a:br>
              <a:rPr sz="2400"/>
            </a:b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se condensan en el encuentro de dos muje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María%20Isabel.Hardwicke%202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03960" cy="4343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4920" y="601992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Lucas 1, 39-56 // La Asunción de María, 15 agosto 201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Música: Samuel Barber. Adagio para cuer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Barber%20Samuel,%20Adagio%20para%20cuerda%20RI%20CD2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AMINO%20MONTE%20ab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0"/>
            <a:ext cx="8915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Georgia"/>
              </a:rPr>
              <a:t>Por aquellos días, María se puso en camino y fue de prisa a la montaña, a una ciudad de Judá. Entró en casa de Zacarías y saludó a Isabel. Y cuando Isabel oyó el saludo de María, el niño empezó a dar saltos en su sen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843440"/>
            <a:ext cx="9144000" cy="2014200"/>
          </a:xfrm>
          <a:prstGeom prst="rect">
            <a:avLst/>
          </a:prstGeom>
          <a:solidFill>
            <a:srgbClr val="33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María está llena del Espíritu, tan llena que lo transmite con su presencia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y  con sus palabr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u corazón rebosa de alegría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 pone en camino -la palabra va acompañada de obras-, impulsada por esa alegría que el mismo Dios le ha ofrecido, hacia quien le puede comprender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y con quien puede compartir su goz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a pronunciado su “que se haga”, asumiendo unas consecuencias que no cono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María%20Isabel%20embaraz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5942160"/>
            <a:ext cx="9144000" cy="119124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Comic Sans MS"/>
              </a:rPr>
              <a:t>No hay mayor bienaventuranza que la fe: confiar en Dios, poner la vida en sus man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Comic Sans MS"/>
              </a:rPr>
              <a:t>Lucas pone en boca de Isabel la verdadera felicidad de María –y la nuestra-:</a:t>
            </a:r>
            <a:br>
              <a:rPr sz="1800"/>
            </a:br>
            <a:r>
              <a:rPr b="0" lang="en-US" sz="1800" spc="-1" strike="noStrike">
                <a:solidFill>
                  <a:srgbClr val="336600"/>
                </a:solidFill>
                <a:latin typeface="Comic Sans MS"/>
              </a:rPr>
              <a:t>escuchar la Palabra y hacerla v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0"/>
            <a:ext cx="8915400" cy="146556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Entonces Isabel, llena del Espíritu Santo, exclamó a grandes voce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-Bendita tú entre las mujeres y bendito el fruto de tu vientre. Pero ¿cómo es posible que la madre de mi Señor venga a visitarme? Porque en cuanto oí tu saludo, el niño empezó a dar saltos de alegría en mi seno. ¡Dichosa tú que has creído! Porque lo que te ha dicho el Señor se cumplirá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libro%20abierto%20marró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9480" y="1219320"/>
            <a:ext cx="8534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3300"/>
                </a:solidFill>
                <a:latin typeface="Comic Sans MS"/>
              </a:rPr>
              <a:t>El «Magnificat» es un salmo de acción de gracias compuesto de citas </a:t>
            </a:r>
            <a:br>
              <a:rPr sz="1800"/>
            </a:br>
            <a:r>
              <a:rPr b="0" lang="es-ES" sz="1800" spc="-1" strike="noStrike">
                <a:solidFill>
                  <a:srgbClr val="663300"/>
                </a:solidFill>
                <a:latin typeface="Comic Sans MS"/>
              </a:rPr>
              <a:t>y alusiones al Antiguo Testamento, especialmente al cántico de Ana, </a:t>
            </a:r>
            <a:br>
              <a:rPr sz="1800"/>
            </a:br>
            <a:r>
              <a:rPr b="0" lang="es-ES" sz="1800" spc="-1" strike="noStrike">
                <a:solidFill>
                  <a:srgbClr val="663300"/>
                </a:solidFill>
                <a:latin typeface="Comic Sans MS"/>
              </a:rPr>
              <a:t>la madre de Samuel (1 Sam 2, 1-1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" sz="1800" spc="-1" strike="noStrike">
                <a:solidFill>
                  <a:srgbClr val="663300"/>
                </a:solidFill>
                <a:latin typeface="Comic Sans MS"/>
              </a:rPr>
              <a:t>      </a:t>
            </a:r>
            <a:r>
              <a:rPr b="0" lang="es-ES" sz="1800" spc="-1" strike="noStrike">
                <a:solidFill>
                  <a:srgbClr val="663300"/>
                </a:solidFill>
                <a:latin typeface="Comic Sans MS"/>
              </a:rPr>
              <a:t>Su núcleo: Dios se apiada de los pob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" sz="1800" spc="-1" strike="noStrike">
                <a:solidFill>
                  <a:srgbClr val="663300"/>
                </a:solidFill>
                <a:latin typeface="Comic Sans MS"/>
              </a:rPr>
              <a:t>       </a:t>
            </a:r>
            <a:r>
              <a:rPr b="0" lang="es-ES" sz="1800" spc="-1" strike="noStrike">
                <a:solidFill>
                  <a:srgbClr val="663300"/>
                </a:solidFill>
                <a:latin typeface="Comic Sans MS"/>
              </a:rPr>
              <a:t>Tiene un contenido de denuncia. Una de las claves que identifican </a:t>
            </a:r>
            <a:br>
              <a:rPr sz="1800"/>
            </a:br>
            <a:r>
              <a:rPr b="0" lang="es-ES" sz="1800" spc="-1" strike="noStrike">
                <a:solidFill>
                  <a:srgbClr val="663300"/>
                </a:solidFill>
                <a:latin typeface="Comic Sans MS"/>
              </a:rPr>
              <a:t>a l@s profet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3300"/>
                </a:solidFill>
                <a:latin typeface="Comic Sans MS"/>
              </a:rPr>
              <a:t>María denuncia: la prepotencia (Lc 1, 51), el poder (1,52) y el tener (1,53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3300"/>
                </a:solidFill>
                <a:latin typeface="Comic Sans MS"/>
              </a:rPr>
              <a:t>No los denuncia directamente, sino que lo hace a través del triunfo </a:t>
            </a:r>
            <a:br>
              <a:rPr sz="1800"/>
            </a:br>
            <a:r>
              <a:rPr b="0" lang="es-ES" sz="1800" spc="-1" strike="noStrike">
                <a:solidFill>
                  <a:srgbClr val="663300"/>
                </a:solidFill>
                <a:latin typeface="Comic Sans MS"/>
              </a:rPr>
              <a:t>de las personas pobres sobre esos tres “pilares” de la socie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3300"/>
                </a:solidFill>
                <a:latin typeface="Comic Sans MS"/>
              </a:rPr>
              <a:t>Dios y su obra es más grande que todo el pecado que pueda haber </a:t>
            </a:r>
            <a:br>
              <a:rPr sz="1800"/>
            </a:br>
            <a:r>
              <a:rPr b="0" lang="es-ES" sz="1800" spc="-1" strike="noStrike">
                <a:solidFill>
                  <a:srgbClr val="663300"/>
                </a:solidFill>
                <a:latin typeface="Comic Sans MS"/>
              </a:rPr>
              <a:t>en el mun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3300"/>
                </a:solidFill>
                <a:latin typeface="Comic Sans MS"/>
              </a:rPr>
              <a:t>Pocos pasajes de la Escritura recogen, de forma tan precisa y poética,</a:t>
            </a:r>
            <a:br>
              <a:rPr sz="1800"/>
            </a:br>
            <a:r>
              <a:rPr b="0" lang="es-ES" sz="1800" spc="-1" strike="noStrike">
                <a:solidFill>
                  <a:srgbClr val="663300"/>
                </a:solidFill>
                <a:latin typeface="Comic Sans MS"/>
              </a:rPr>
              <a:t>lo que es y lo que realiza la palabra profética, como el canto del Magnífic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3300"/>
                </a:solidFill>
                <a:latin typeface="Comic Sans MS"/>
              </a:rPr>
              <a:t>¡Y lo canta una muj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ntonces María dij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NATIVIDAD%20LA%20HISTORIA%20MARIA%20sonriente" descr=""/>
          <p:cNvPicPr/>
          <p:nvPr/>
        </p:nvPicPr>
        <p:blipFill>
          <a:blip r:embed="rId1"/>
          <a:stretch/>
        </p:blipFill>
        <p:spPr>
          <a:xfrm>
            <a:off x="0" y="0"/>
            <a:ext cx="4267080" cy="4800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495680" y="228600"/>
            <a:ext cx="46483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Mi alma glorifica al Señor,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y mi espíritu se regocija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en Dios mi Salvador,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porque ha mirado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la humildad de su sier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Desde ahora me llamarán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dichosa todas las generaciones,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porque ha hecho en mí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cosas grandes el Poderoso.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Su nombre es santo,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y es misericordioso siempre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con aquellos que le honr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724280"/>
            <a:ext cx="86868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a esperanza activa de María queda evocada en su propio camino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 entrega y pequeñez pers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lla es el modelo: dialoga con Dios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inicia como mujer un camino de esperanza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comienza a realizar la acción liberado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l mismo Señor que hizo maravillas en María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hace también maravillas en tod@s y cada un@ de nosotr@s.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n%20430" descr=""/>
          <p:cNvPicPr/>
          <p:nvPr/>
        </p:nvPicPr>
        <p:blipFill>
          <a:blip r:embed="rId1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5410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esplegó la fuerza de su brazo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y dispersó a los de corazón soberbio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erribó de sus tronos a los poderoso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OBREZA%20ajudar" descr=""/>
          <p:cNvPicPr/>
          <p:nvPr/>
        </p:nvPicPr>
        <p:blipFill>
          <a:blip r:embed="rId2"/>
          <a:stretch/>
        </p:blipFill>
        <p:spPr>
          <a:xfrm>
            <a:off x="5334120" y="1828800"/>
            <a:ext cx="3809880" cy="5029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02800" y="533520"/>
            <a:ext cx="397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y ensalzó a los humildes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Colmó de bienes a los hambriento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7320" y="1143000"/>
            <a:ext cx="3987720" cy="4597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 a los ricos despidió sin n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019400"/>
            <a:ext cx="9144000" cy="28371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ría interpreta el gesto de Dios como inversión completa de las condiciones de la historia. Comienza un camino en el que todas las personas hambrientas y oprimidas pueden recibir la liberació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 evidente que esas diferencias no se han superado todavía. Los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oberbio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iguen imponiendo su “ley” sobre la tierra. Los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potentado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ontinúan ejerciendo su poder, mientras siguen marginadas millones y millones de personas. Los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rico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e enriquecen cada día más en muchas partes del mundo, también en las que se consideran católicas y cristinas, mientras que los pobres pasan hambr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uestra tarea está en sintonizar con la pedagogía de Dios y trabajar por un mund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tinto donde esta proclamación se haga rea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vicente_ferrer%20-%20niño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152280"/>
            <a:ext cx="5029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Tomó de la mano a Israel, su siervo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acordándose de su misericordia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como lo había prometido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a nuestros antepasados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en favor de Abrahán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y de sus descendientes para siempr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568760"/>
            <a:ext cx="9144000" cy="2288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María canta en nombre de l@s pequeñ@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lla es la voz de quienes que no tienen vo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María es profeta de Dios y se aventura a adelantar lo que sucederá en el futuro, mediante la búsqueda incesante de los signos de Dios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y la total disposición de su perso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Sus palabras suscitan un fuerte compromiso. 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Quien las diga de verdad, como ella, ha de comprometerse a convertirl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 principio de existencia personal y de actuación soc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casa%20árbol%20ros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95280" y="762120"/>
            <a:ext cx="6096240" cy="8254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María estuvo con Isabel unos tres meses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después volvió a su ca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5392800"/>
            <a:ext cx="8302680" cy="14655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alegría de los acontecimientos inunda la casa de Isab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as dos mujeres comparten, viven su encuentro profétic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n el que se hacen partícipes de la llamada de Dios a cada una de ella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ambién a  nosotr@s nos visita, nos llena de su Espíritu y de su alegría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 nos invita a agradecer y cantar las maravillas de D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flro%20AMARILLA%20dch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46120" y="171360"/>
            <a:ext cx="3070080" cy="67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Tan sólo mejor</a:t>
            </a:r>
            <a:br>
              <a:rPr sz="1400"/>
            </a:b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que la mejor parte</a:t>
            </a:r>
            <a:br>
              <a:rPr sz="1400"/>
            </a:b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que escogió María,</a:t>
            </a:r>
            <a:br>
              <a:rPr sz="1400"/>
            </a:b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el difícil to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Acoger al Verbo</a:t>
            </a:r>
            <a:br>
              <a:rPr sz="1400"/>
            </a:b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dándose al silenci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Vigilar Su Ausencia</a:t>
            </a:r>
            <a:br>
              <a:rPr sz="1400"/>
            </a:b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gritando Su nomb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Descubrir su Rostro</a:t>
            </a:r>
            <a:br>
              <a:rPr sz="1400"/>
            </a:b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en todos los rostr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Hacer del silencio</a:t>
            </a:r>
            <a:br>
              <a:rPr sz="1400"/>
            </a:b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la mayor escuch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Traducir en actos</a:t>
            </a:r>
            <a:br>
              <a:rPr sz="1400"/>
            </a:b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las Sagradas Letr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Combatir amando.</a:t>
            </a:r>
            <a:br>
              <a:rPr sz="1400"/>
            </a:b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Morir por la vida</a:t>
            </a:r>
            <a:br>
              <a:rPr sz="1400"/>
            </a:b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luchando en la paz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Derribar los tronos</a:t>
            </a:r>
            <a:br>
              <a:rPr sz="1400"/>
            </a:b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con las viejas armas</a:t>
            </a:r>
            <a:br>
              <a:rPr sz="1400"/>
            </a:b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quebrantadas de ira,</a:t>
            </a:r>
            <a:br>
              <a:rPr sz="1400"/>
            </a:b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forradas de flo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Plantar la bandera</a:t>
            </a:r>
            <a:br>
              <a:rPr sz="1400"/>
            </a:b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-la justicia libre-</a:t>
            </a:r>
            <a:br>
              <a:rPr sz="1400"/>
            </a:b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en los gritos pob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Cantar sobre el mundo</a:t>
            </a:r>
            <a:br>
              <a:rPr sz="1400"/>
            </a:b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el Advenimiento</a:t>
            </a:r>
            <a:br>
              <a:rPr sz="1400"/>
            </a:b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que el mundo reclama</a:t>
            </a:r>
            <a:br>
              <a:rPr sz="1400"/>
            </a:b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quizás sin saber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El difícil todo</a:t>
            </a:r>
            <a:br>
              <a:rPr sz="1400"/>
            </a:b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que supo escoger</a:t>
            </a:r>
            <a:br>
              <a:rPr sz="1400"/>
            </a:b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... la otra María. </a:t>
            </a:r>
            <a:r>
              <a:rPr b="0" i="1" lang="es-ES" sz="1400" spc="-1" strike="noStrike">
                <a:solidFill>
                  <a:srgbClr val="ffcc00"/>
                </a:solidFill>
                <a:latin typeface="Comic Sans MS"/>
              </a:rPr>
              <a:t>(Pedro Casaldálig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809880" y="380880"/>
            <a:ext cx="16480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336600"/>
                    </a:gs>
                    <a:gs pos="100000">
                      <a:srgbClr val="ffcc00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El difícil tod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336600"/>
                  </a:gs>
                  <a:gs pos="100000">
                    <a:srgbClr val="ffcc00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3T18:33:16Z</dcterms:created>
  <dc:creator>Asun Gutiérrez</dc:creator>
  <dc:description/>
  <dc:language>en-US</dc:language>
  <cp:lastModifiedBy> </cp:lastModifiedBy>
  <dcterms:modified xsi:type="dcterms:W3CDTF">2010-07-28T18:25:58Z</dcterms:modified>
  <cp:revision>18</cp:revision>
  <dc:subject>jeasam@gmail.com</dc:subject>
  <dc:title>Asunción de María</dc:title>
</cp:coreProperties>
</file>