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2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.jpeg" ContentType="image/jpeg"/>
  <Override PartName="/ppt/media/image31.png" ContentType="image/pn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B35-0144-4AC9-92E3-D214A6C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8A8-E2FC-443C-988D-8F8E4EF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38A-8879-41F8-8F3E-84224D6F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AA1-CB68-4A4F-9A38-BD4AD24B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F67-667D-41FD-A592-8DD6E076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BAC-1D11-4D5A-B675-1AF62F0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4E2-1DD0-478A-92ED-09BFCFA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3C5-76FB-484B-9F61-CA21316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60F-CB99-4F72-A7B8-A1CA99A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6C7-E160-4D14-9736-0FEF11B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4C0-9934-4FD1-8673-BD43A0D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8FF-4206-4564-A1C1-8873CD81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092-B04A-42F2-AA73-FB48A18BBE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1044400">
            <a:off x="108000" y="69192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DUC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739800">
            <a:off x="4787640" y="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LA M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21044400">
            <a:off x="971640" y="2421000"/>
            <a:ext cx="620388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SONDA DE  CAMPE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 rot="21044400">
            <a:off x="2484360" y="4149720"/>
            <a:ext cx="620388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6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340000" y="76500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3640" y="2852640"/>
            <a:ext cx="3743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REGEN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1640" y="907920"/>
            <a:ext cx="2665440" cy="2233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 UNA CHICA DEL MUNDO LIB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84720" y="115920"/>
            <a:ext cx="3311640" cy="1657440"/>
          </a:xfrm>
          <a:prstGeom prst="cloudCallout">
            <a:avLst>
              <a:gd name="adj1" fmla="val -53069"/>
              <a:gd name="adj2" fmla="val 63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O TRABAJOS DUROS Y ESFORZ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333360"/>
            <a:ext cx="3384720" cy="230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ME GANE MI 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21044400">
            <a:off x="344520" y="342720"/>
            <a:ext cx="48243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LAS MEJ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 rot="2719200">
            <a:off x="4827600" y="151740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ABAJADO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604800">
            <a:off x="2598480" y="5081760"/>
            <a:ext cx="41148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XU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1268280"/>
            <a:ext cx="2232000" cy="1224000"/>
          </a:xfrm>
          <a:prstGeom prst="cloudCallout">
            <a:avLst>
              <a:gd name="adj1" fmla="val -43740"/>
              <a:gd name="adj2" fmla="val 85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VISTO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76500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4941720"/>
            <a:ext cx="359892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VUE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9640" y="62064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859280" y="4221000"/>
            <a:ext cx="3743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DIRES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260280"/>
            <a:ext cx="2521080" cy="1873440"/>
          </a:xfrm>
          <a:prstGeom prst="cloudCallout">
            <a:avLst>
              <a:gd name="adj1" fmla="val 81486"/>
              <a:gd name="adj2" fmla="val 90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JUNTA LABORAL CON MI J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236000" y="2924280"/>
            <a:ext cx="1908000" cy="1512720"/>
          </a:xfrm>
          <a:prstGeom prst="cloudCallout">
            <a:avLst>
              <a:gd name="adj1" fmla="val 18300"/>
              <a:gd name="adj2" fmla="val 81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UMERO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15920"/>
            <a:ext cx="2303280" cy="2305080"/>
          </a:xfrm>
          <a:prstGeom prst="cloudCallout">
            <a:avLst>
              <a:gd name="adj1" fmla="val 91694"/>
              <a:gd name="adj2" fmla="val 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 HABLO AL CHILE PARA QUE ME EN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0"/>
            <a:ext cx="2521080" cy="2708280"/>
          </a:xfrm>
          <a:prstGeom prst="cloudCallout">
            <a:avLst>
              <a:gd name="adj1" fmla="val -49750"/>
              <a:gd name="adj2" fmla="val 63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 UNA CHICA LABORAL QUE TRABAJA EN EL HELI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8632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36240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500720" y="3376440"/>
            <a:ext cx="4643280" cy="3481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1773360"/>
            <a:ext cx="2736720" cy="2950920"/>
          </a:xfrm>
          <a:prstGeom prst="cloudCallout">
            <a:avLst>
              <a:gd name="adj1" fmla="val 73490"/>
              <a:gd name="adj2" fmla="val 25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ENCANTA HABLAR AL CHILE SIEMPRE, POR QUE SABEN ESCUCHARME Y MANDAR FAX CON MIS AMI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362400"/>
            <a:ext cx="5003640" cy="3495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465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495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46580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940360" y="189000"/>
            <a:ext cx="3024360" cy="1800000"/>
          </a:xfrm>
          <a:prstGeom prst="cloudCallout">
            <a:avLst>
              <a:gd name="adj1" fmla="val -43754"/>
              <a:gd name="adj2" fmla="val 78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Í ESTA M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RICULUM Y EL DE MI AMIGA JEFE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500720" cy="2852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336240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500720" cy="1998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96000" y="765000"/>
            <a:ext cx="3024000" cy="20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OS LAS FUTURAS EMPRESARIAS DEL TABLE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000" y="0"/>
            <a:ext cx="1655640" cy="1341360"/>
          </a:xfrm>
          <a:prstGeom prst="cloudCallout">
            <a:avLst>
              <a:gd name="adj1" fmla="val 33606"/>
              <a:gd name="adj2" fmla="val 82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ES MI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132000" y="0"/>
            <a:ext cx="3240360" cy="2205000"/>
          </a:xfrm>
          <a:prstGeom prst="cloudCallout">
            <a:avLst>
              <a:gd name="adj1" fmla="val -55439"/>
              <a:gd name="adj2" fmla="val 68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YO… NO ME QUEDADO ATRÁS SOY DE $500 PESOS Y MAS Y HAGO DE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0:21:15Z</dcterms:created>
  <dc:creator>seguridadgmi</dc:creator>
  <dc:description/>
  <dc:language>en-US</dc:language>
  <cp:lastModifiedBy>seguridadgmi</cp:lastModifiedBy>
  <dcterms:modified xsi:type="dcterms:W3CDTF">2009-04-03T16:56:25Z</dcterms:modified>
  <cp:revision>25</cp:revision>
  <dc:subject/>
  <dc:title>Diapositiva 1</dc:title>
</cp:coreProperties>
</file>