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60.jpeg" ContentType="image/jpeg"/>
  <Override PartName="/ppt/media/image20.png" ContentType="image/png"/>
  <Override PartName="/ppt/media/image37.jpeg" ContentType="image/jpeg"/>
  <Override PartName="/ppt/media/image24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2.jpeg" ContentType="image/jpeg"/>
  <Override PartName="/ppt/media/image31.png" ContentType="image/pn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7A8-6075-4D50-825B-87F407F0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EE8-C7C8-4653-9676-A575629C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4E5-A636-43E1-9CB7-927FC6DE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8CF-5BEB-4A7D-8168-229D84E7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272-3F97-48FD-A126-07EBA9B4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575-8A85-4351-9EEE-78FA49D6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031-F7FF-4DBD-AC1A-6E9FA6DC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A48-0F09-469C-A7DF-0BCCD959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9CE-1434-45A1-856E-AEEF60AD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152-876F-4AB9-979D-AFDF7288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655-19E0-4B94-BB5A-1411E37B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087-4D51-4A19-9DF3-4837EDF1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A026-788A-403C-9981-5543F62151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1044400">
            <a:off x="108000" y="691920"/>
            <a:ext cx="4114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DUCCIO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739800">
            <a:off x="4787640" y="0"/>
            <a:ext cx="4114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 LA M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21044400">
            <a:off x="971640" y="2421000"/>
            <a:ext cx="6203880" cy="20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LA SONDA DE  CAMPEC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 rot="21044400">
            <a:off x="2484360" y="4149720"/>
            <a:ext cx="6203880" cy="20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EN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6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340000" y="765000"/>
            <a:ext cx="36561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ÑORI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3640" y="2852640"/>
            <a:ext cx="37436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ISS    REGENC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11640" y="907920"/>
            <a:ext cx="2665440" cy="2233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Y UNA CHICA DEL MUNDO LIB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84720" y="115920"/>
            <a:ext cx="3311640" cy="1657440"/>
          </a:xfrm>
          <a:prstGeom prst="cloudCallout">
            <a:avLst>
              <a:gd name="adj1" fmla="val -53069"/>
              <a:gd name="adj2" fmla="val 63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O TRABAJOS DUROS Y ESFORZ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03640" y="333360"/>
            <a:ext cx="3384720" cy="2303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 ME GANE MI 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21044400">
            <a:off x="344520" y="342720"/>
            <a:ext cx="482436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LAS MEJ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 rot="2719200">
            <a:off x="4827600" y="1517400"/>
            <a:ext cx="4114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RABAJADO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 rot="604800">
            <a:off x="2598480" y="5081760"/>
            <a:ext cx="411480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XUA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43640" y="1268280"/>
            <a:ext cx="2232000" cy="1224000"/>
          </a:xfrm>
          <a:prstGeom prst="cloudCallout">
            <a:avLst>
              <a:gd name="adj1" fmla="val -43740"/>
              <a:gd name="adj2" fmla="val 85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VISTO B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765000"/>
            <a:ext cx="36561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ÑORI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76720" y="4941720"/>
            <a:ext cx="359892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ISS    VUE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539640" y="620640"/>
            <a:ext cx="36561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ÑORI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859280" y="4221000"/>
            <a:ext cx="3743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ISS    DIRESS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4188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260280"/>
            <a:ext cx="2521080" cy="1873440"/>
          </a:xfrm>
          <a:prstGeom prst="cloudCallout">
            <a:avLst>
              <a:gd name="adj1" fmla="val 81486"/>
              <a:gd name="adj2" fmla="val 90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JUNTA LABORAL CON MI J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236000" y="2924280"/>
            <a:ext cx="1908000" cy="1512720"/>
          </a:xfrm>
          <a:prstGeom prst="cloudCallout">
            <a:avLst>
              <a:gd name="adj1" fmla="val 18300"/>
              <a:gd name="adj2" fmla="val 81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NUMERO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115920"/>
            <a:ext cx="2303280" cy="2305080"/>
          </a:xfrm>
          <a:prstGeom prst="cloudCallout">
            <a:avLst>
              <a:gd name="adj1" fmla="val 91694"/>
              <a:gd name="adj2" fmla="val 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E HABLO AL CHILE PARA QUE ME EN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0"/>
            <a:ext cx="2521080" cy="2708280"/>
          </a:xfrm>
          <a:prstGeom prst="cloudCallout">
            <a:avLst>
              <a:gd name="adj1" fmla="val -49750"/>
              <a:gd name="adj2" fmla="val 63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Y UNA CHICA LABORAL QUE TRABAJA EN EL HELI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86320" y="0"/>
            <a:ext cx="46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3362400"/>
            <a:ext cx="46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500720" y="3376440"/>
            <a:ext cx="4643280" cy="3481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1773360"/>
            <a:ext cx="2736720" cy="2950920"/>
          </a:xfrm>
          <a:prstGeom prst="cloudCallout">
            <a:avLst>
              <a:gd name="adj1" fmla="val 73490"/>
              <a:gd name="adj2" fmla="val 25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 ENCANTA HABLAR AL CHILE SIEMPRE, POR QUE SABEN ESCUCHARME Y MANDAR FAX CON MIS AMI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362400"/>
            <a:ext cx="5003640" cy="3495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4657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32360" cy="3495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643280" y="4221000"/>
            <a:ext cx="46580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940360" y="189000"/>
            <a:ext cx="3024360" cy="1800000"/>
          </a:xfrm>
          <a:prstGeom prst="cloudCallout">
            <a:avLst>
              <a:gd name="adj1" fmla="val -43754"/>
              <a:gd name="adj2" fmla="val 78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Í ESTA M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RICULUM Y EL DE MI AMIGA JEFE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4500720" cy="2852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0" y="3362400"/>
            <a:ext cx="4657680" cy="3495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643280" y="1989000"/>
            <a:ext cx="4500720" cy="1998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796000" y="765000"/>
            <a:ext cx="3024000" cy="2087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OS LAS FUTURAS EMPRESARIAS DEL TABLE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8000" y="0"/>
            <a:ext cx="1655640" cy="1341360"/>
          </a:xfrm>
          <a:prstGeom prst="cloudCallout">
            <a:avLst>
              <a:gd name="adj1" fmla="val 33606"/>
              <a:gd name="adj2" fmla="val 827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 ES MI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132000" y="0"/>
            <a:ext cx="3240360" cy="2205000"/>
          </a:xfrm>
          <a:prstGeom prst="cloudCallout">
            <a:avLst>
              <a:gd name="adj1" fmla="val -55439"/>
              <a:gd name="adj2" fmla="val 68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YO… NO ME QUEDADO ATRÁS SOY DE $500 PESOS Y MAS Y HAGO DE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18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0:21:15Z</dcterms:created>
  <dc:creator>seguridadgmi</dc:creator>
  <dc:description/>
  <dc:language>en-US</dc:language>
  <cp:lastModifiedBy>seguridadgmi</cp:lastModifiedBy>
  <dcterms:modified xsi:type="dcterms:W3CDTF">2009-04-03T16:56:25Z</dcterms:modified>
  <cp:revision>25</cp:revision>
  <dc:subject/>
  <dc:title>Diapositiva 1</dc:title>
</cp:coreProperties>
</file>