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drumroll.wav" ContentType="audio/x-wav"/>
  <Override PartName="/ppt/media/image3.jpeg" ContentType="image/jpeg"/>
  <Override PartName="/ppt/media/image5.jpeg" ContentType="image/jpeg"/>
  <Override PartName="/ppt/media/image4.jpeg" ContentType="image/jpeg"/>
  <Override PartName="/ppt/media/image2.jpeg" ContentType="image/jpeg"/>
  <Override PartName="/ppt/media/image15.jpeg" ContentType="image/jpeg"/>
  <Override PartName="/ppt/media/image13.jpeg" ContentType="image/jpeg"/>
  <Override PartName="/ppt/media/image12.png" ContentType="image/png"/>
  <Override PartName="/ppt/media/image11.png" ContentType="image/png"/>
  <Override PartName="/ppt/media/bomb.wav" ContentType="audio/x-wav"/>
  <Override PartName="/ppt/media/image7.jpeg" ContentType="image/jpeg"/>
  <Override PartName="/ppt/media/image1.jpeg" ContentType="image/jpeg"/>
  <Override PartName="/ppt/media/chimes.wav" ContentType="audio/x-wav"/>
  <Override PartName="/ppt/media/image10.png" ContentType="image/png"/>
  <Override PartName="/ppt/media/image6.jpeg" ContentType="image/jpeg"/>
  <Override PartName="/ppt/media/breeze.wav" ContentType="audio/x-wav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065-859A-4E3A-89E2-BBE18D0D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C88-A814-499B-9775-9517D1CD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06B-E155-423D-AD3F-F229D653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B7C9-B74A-4D29-A828-EA34A944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97C-2210-4A80-83E7-1069CDD3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7F18-7E85-4950-A77F-BD91840D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CF7-5C3A-48D5-BE90-E8D6C4DB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35F-D929-451D-B1D2-2CD550B9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A45-6A0D-4655-B812-1F2A9E4C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365-DA3C-45AF-B623-DB4BC5DB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F50-2FF0-493C-98A5-EF46643C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8881-3C3D-4207-BCB5-31F5B8AC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DD45-B5BA-4F85-AE0B-99A6C56040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 rot="20598000">
            <a:off x="1297080" y="938160"/>
            <a:ext cx="7057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7505"/>
              </a:avLst>
            </a:prstTxWarp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6239a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El  fin  del  mundo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16239a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CasellaDiTesto 2"/>
          <p:cNvSpPr/>
          <p:nvPr/>
        </p:nvSpPr>
        <p:spPr>
          <a:xfrm>
            <a:off x="6215040" y="5572080"/>
            <a:ext cx="17859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400" spc="-1" strike="noStrike">
                <a:solidFill>
                  <a:srgbClr val="cc9900"/>
                </a:solidFill>
                <a:latin typeface="Calibri"/>
              </a:rPr>
              <a:t>Click</a:t>
            </a:r>
            <a:endParaRPr b="0" lang="en-US" sz="5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animMotion origin="layout" path="M -0.57101 0.5419 L 0.05503 -0.01065 E">
                                      <p:cBhvr>
                                        <p:cTn id="6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4" descr="http://www.benazir-bhutto.co.uk/images/Alan-Garcia-1.jpg"/>
          <p:cNvPicPr/>
          <p:nvPr/>
        </p:nvPicPr>
        <p:blipFill>
          <a:blip r:embed="rId1"/>
          <a:stretch/>
        </p:blipFill>
        <p:spPr>
          <a:xfrm>
            <a:off x="214200" y="1143000"/>
            <a:ext cx="3133800" cy="4276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999880" y="1213920"/>
            <a:ext cx="5715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ts val="34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22268"/>
                </a:solidFill>
                <a:latin typeface="Californian FB"/>
              </a:rPr>
              <a:t>	</a:t>
            </a:r>
            <a:r>
              <a:rPr b="1" lang="es-ES" sz="3200" spc="-1" strike="noStrike">
                <a:solidFill>
                  <a:srgbClr val="222268"/>
                </a:solidFill>
                <a:latin typeface="Californian FB"/>
              </a:rPr>
              <a:t>No habrá más desempleo, analfabetismo, narcotráfico, guerrilla, paramilitarismo, delincuencia común, se-cuestros, extorsiones, desplazado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ts val="34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ts val="34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22268"/>
                </a:solidFill>
                <a:latin typeface="Californian FB"/>
              </a:rPr>
              <a:t>¡¡ Y LO MÁS ESPECTACULAR!!!!!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0" y="571680"/>
            <a:ext cx="431964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Hoy, ¡¡retiro el cobro del IGV en todos los productos y ya no habrá más hambre, ni miseria....                 ¡¡Escuchen bien, todos los problemas se acaban hoy!! y el que no me crea, mañana viene y me lo reclama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64" name="Picture 11" descr="http://english.pravda.ru/img/idb/alangarcia.jpg"/>
          <p:cNvPicPr/>
          <p:nvPr/>
        </p:nvPicPr>
        <p:blipFill>
          <a:blip r:embed="rId1"/>
          <a:stretch/>
        </p:blipFill>
        <p:spPr>
          <a:xfrm>
            <a:off x="4857840" y="357120"/>
            <a:ext cx="3995640" cy="58579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breeze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42960" y="357120"/>
            <a:ext cx="742932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Calibri"/>
              </a:rPr>
              <a:t>Un día Dios, cansado de todos los pecados, decide ponerle fin a la tierra y reúne a todos los lideres mundiales, para notificarles personalmente, su decisión de terminar con la humanidad  en 24 horas.</a:t>
            </a:r>
            <a:endParaRPr b="0" lang="en-US" sz="2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249200" y="1928880"/>
            <a:ext cx="66456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alibri"/>
              </a:rPr>
              <a:t>-"Los he reunido, para decirles que ¡¡termi-naré con la humanidad en 24 horas!!"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46200" y="3786120"/>
            <a:ext cx="78516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262673"/>
                </a:solidFill>
                <a:latin typeface="Calibri"/>
              </a:rPr>
              <a:t>-”</a:t>
            </a:r>
            <a:r>
              <a:rPr b="1" lang="es-ES" sz="2600" spc="-1" strike="noStrike">
                <a:solidFill>
                  <a:srgbClr val="1e4649"/>
                </a:solidFill>
                <a:latin typeface="Calibri"/>
              </a:rPr>
              <a:t>¡</a:t>
            </a:r>
            <a:r>
              <a:rPr b="1" lang="es-ES" sz="2600" spc="-1" strike="noStrike">
                <a:solidFill>
                  <a:srgbClr val="262673"/>
                </a:solidFill>
                <a:latin typeface="Calibri"/>
              </a:rPr>
              <a:t>Nada de peros!!... Ese es el tiempo lìmite... la tierra no existirá más!!!!... por lo tanto, vayan a sus respectivos  países y notifiquen a sus pueblos para que todos arreglen sus cosas. </a:t>
            </a:r>
            <a:r>
              <a:rPr b="1" lang="es-ES" sz="2600" spc="-1" strike="noStrike">
                <a:solidFill>
                  <a:srgbClr val="1e4649"/>
                </a:solidFill>
                <a:latin typeface="Calibri"/>
              </a:rPr>
              <a:t>¡</a:t>
            </a:r>
            <a:r>
              <a:rPr b="1" lang="es-ES" sz="2600" spc="-1" strike="noStrike">
                <a:solidFill>
                  <a:srgbClr val="262673"/>
                </a:solidFill>
                <a:latin typeface="Calibri"/>
              </a:rPr>
              <a:t>Tienen 24 horas!!."</a:t>
            </a:r>
            <a:endParaRPr b="0" lang="en-US" sz="2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214280" y="313704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Calibri"/>
              </a:rPr>
              <a:t>-”¡Pero, señor... !!!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48" name="Picture 10" descr="http://herobracelets.org/wp-images/barak-obama-bracelet.jpg"/>
          <p:cNvPicPr/>
          <p:nvPr/>
        </p:nvPicPr>
        <p:blipFill>
          <a:blip r:embed="rId2"/>
          <a:stretch/>
        </p:blipFill>
        <p:spPr>
          <a:xfrm>
            <a:off x="1214280" y="1714680"/>
            <a:ext cx="4876920" cy="37908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7"/>
          <p:cNvSpPr/>
          <p:nvPr/>
        </p:nvSpPr>
        <p:spPr>
          <a:xfrm>
            <a:off x="4071960" y="642960"/>
            <a:ext cx="4714920" cy="1379520"/>
          </a:xfrm>
          <a:prstGeom prst="wedgeRectCallout">
            <a:avLst>
              <a:gd name="adj1" fmla="val -51680"/>
              <a:gd name="adj2" fmla="val 84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"My fellow americans, les tengo una buena noticia y una mala noticia... La buena es que Dios sí existe.... ha hablado conmigo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4714920" y="3500280"/>
            <a:ext cx="4071960" cy="1643400"/>
          </a:xfrm>
          <a:prstGeom prst="wedgeRectCallout">
            <a:avLst>
              <a:gd name="adj1" fmla="val -62009"/>
              <a:gd name="adj2" fmla="val -804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 mala es...que esta gran Nación.... nuestro sueño americano... dejará de existir en 24 horas..... esa es la voluntad de Dios”. </a:t>
            </a:r>
            <a:endParaRPr b="0" lang="en-US" sz="2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4"/>
          <p:cNvSpPr/>
          <p:nvPr/>
        </p:nvSpPr>
        <p:spPr>
          <a:xfrm>
            <a:off x="1571760" y="1500120"/>
            <a:ext cx="3747960" cy="2738520"/>
          </a:xfrm>
          <a:prstGeom prst="wedgeEllipseCallout">
            <a:avLst>
              <a:gd name="adj1" fmla="val 70425"/>
              <a:gd name="adj2" fmla="val 17041"/>
            </a:avLst>
          </a:prstGeom>
          <a:solidFill>
            <a:srgbClr val="ff00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maradas, pueblo cubano,  </a:t>
            </a:r>
            <a:r>
              <a:rPr b="1" lang="es-ES" sz="2400" spc="-1" strike="noStrike">
                <a:solidFill>
                  <a:srgbClr val="0d0d0d"/>
                </a:solidFill>
                <a:latin typeface="Arial"/>
              </a:rPr>
              <a:t>¡¡</a:t>
            </a:r>
            <a:r>
              <a:rPr b="1" lang="es-ES" sz="24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ngo dos malas noticias que darles…!!!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 rot="10661400">
            <a:off x="2031480" y="4127040"/>
            <a:ext cx="6332760" cy="1730520"/>
          </a:xfrm>
          <a:prstGeom prst="wedgeRoundRectCallout">
            <a:avLst>
              <a:gd name="adj1" fmla="val -620"/>
              <a:gd name="adj2" fmla="val 180180"/>
              <a:gd name="adj3" fmla="val 16667"/>
            </a:avLst>
          </a:prstGeom>
          <a:solidFill>
            <a:srgbClr val="ff00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00"/>
                </a:solidFill>
                <a:latin typeface="Arial"/>
              </a:rPr>
              <a:t>La primera es que Dios sí existe… Sí, así es... ¡¡¡yo lo vi... con mis propios ojos!!!!... ¡yo estuve ahí coño!!!!... estuve equivocado  todo este tiempo chico!!!</a:t>
            </a:r>
            <a:endParaRPr b="0" lang="en-US" sz="2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4"/>
          <p:cNvSpPr/>
          <p:nvPr/>
        </p:nvSpPr>
        <p:spPr>
          <a:xfrm>
            <a:off x="179280" y="476280"/>
            <a:ext cx="3392640" cy="5832360"/>
          </a:xfrm>
          <a:prstGeom prst="wedgeEllipseCallout">
            <a:avLst>
              <a:gd name="adj1" fmla="val 91879"/>
              <a:gd name="adj2" fmla="val 12495"/>
            </a:avLst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La segunda, es que en sólo 24 horas... esta magnífica  revolución por la que hemos luchado,...                  ¡¡</a:t>
            </a:r>
            <a:r>
              <a:rPr b="1" lang="es-ES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dejará de existir!!”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http://americalatinaunida.files.wordpress.com/2009/06/alan_garcia_habla_de_fujimori.jpg"/>
          <p:cNvPicPr/>
          <p:nvPr/>
        </p:nvPicPr>
        <p:blipFill>
          <a:blip r:embed="rId2"/>
          <a:stretch/>
        </p:blipFill>
        <p:spPr>
          <a:xfrm>
            <a:off x="2071800" y="214200"/>
            <a:ext cx="3809880" cy="35244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5"/>
          <p:cNvSpPr/>
          <p:nvPr/>
        </p:nvSpPr>
        <p:spPr>
          <a:xfrm>
            <a:off x="1143000" y="4000680"/>
            <a:ext cx="6357960" cy="1512720"/>
          </a:xfrm>
          <a:prstGeom prst="wedgeRoundRectCallout">
            <a:avLst>
              <a:gd name="adj1" fmla="val 7171"/>
              <a:gd name="adj2" fmla="val -99842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Compatriotas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, hoy es un día muy especial para todos. Les tengo que dar dos buenas noticiasss.... 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>
    <p:wedge/>
    <p:sndAc>
      <p:stSnd>
        <p:snd r:embed="rId4" name="drumroll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http://filer.livinginperu.com/news/img2/alangarcia.jpg"/>
          <p:cNvPicPr/>
          <p:nvPr/>
        </p:nvPicPr>
        <p:blipFill>
          <a:blip r:embed="rId2"/>
          <a:stretch/>
        </p:blipFill>
        <p:spPr>
          <a:xfrm>
            <a:off x="3500280" y="0"/>
            <a:ext cx="2643480" cy="3591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5"/>
          <p:cNvSpPr/>
          <p:nvPr/>
        </p:nvSpPr>
        <p:spPr>
          <a:xfrm>
            <a:off x="2286000" y="3573360"/>
            <a:ext cx="6072120" cy="2641680"/>
          </a:xfrm>
          <a:prstGeom prst="wedgeRoundRectCallout">
            <a:avLst>
              <a:gd name="adj1" fmla="val -15805"/>
              <a:gd name="adj2" fmla="val -76462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9900"/>
                </a:solidFill>
                <a:latin typeface="Arial"/>
              </a:rPr>
              <a:t>La primera... es ¡¡ soy un enviado de Dios!! ¡¡SU MENSAJERO!!, porque hablé con Él personalmente!!!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5"/>
          <p:cNvSpPr txBox="1"/>
          <p:nvPr/>
        </p:nvSpPr>
        <p:spPr>
          <a:xfrm>
            <a:off x="463680" y="428760"/>
            <a:ext cx="8216640" cy="2493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a segunda compatriotas,  es que conforme 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 lo prometido a través de toda mi campaña .…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 24 horas....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428760" y="4714920"/>
            <a:ext cx="830232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scuchen bien... en só lo 24 horas..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11" descr="http://www.otrastardes.com/wp-content/uploads/2009/11/alan-garcia1.jpg"/>
          <p:cNvPicPr/>
          <p:nvPr/>
        </p:nvPicPr>
        <p:blipFill>
          <a:blip r:embed="rId9"/>
          <a:stretch/>
        </p:blipFill>
        <p:spPr>
          <a:xfrm>
            <a:off x="3357720" y="2095560"/>
            <a:ext cx="3381120" cy="2666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00:54:28Z</dcterms:created>
  <dc:creator>Juan Pablo Gómez G</dc:creator>
  <dc:description/>
  <dc:language>en-US</dc:language>
  <cp:lastModifiedBy> </cp:lastModifiedBy>
  <dcterms:modified xsi:type="dcterms:W3CDTF">2009-12-18T10:02:43Z</dcterms:modified>
  <cp:revision>29</cp:revision>
  <dc:subject/>
  <dc:title>Diapositiva 1</dc:title>
</cp:coreProperties>
</file>