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15.jpeg" ContentType="image/jpeg"/>
  <Override PartName="/ppt/media/image13.jpeg" ContentType="image/jpeg"/>
  <Override PartName="/ppt/media/image12.png" ContentType="image/png"/>
  <Override PartName="/ppt/media/image11.png" ContentType="image/png"/>
  <Override PartName="/ppt/media/bomb.wav" ContentType="audio/x-wav"/>
  <Override PartName="/ppt/media/image7.jpeg" ContentType="image/jpeg"/>
  <Override PartName="/ppt/media/image1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breeze.wav" ContentType="audio/x-wav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286-A8D5-4663-B6F2-86FE74E7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E6E-2A81-4D99-AEEB-BC0E3CE4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814-E1D9-45BE-81F3-4378A029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FFC-7BF3-47A7-ACD1-8FEC413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46E-577C-47E5-9E6E-C0098AC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AE1-9970-4A60-8690-A67081A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9E6-7302-4D0F-8910-7251398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5D3-8E20-43F1-9423-2A155008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907-A9C0-4BB8-B2E1-59C48CB2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100-F9E3-4D4D-891B-46B57D2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7A0-DD31-4852-BFA4-CBD4F08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028-DEA0-4375-9E9C-5C6620A4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ADCA-C3F9-400A-9B0A-25C8C68367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0598000">
            <a:off x="1297080" y="938160"/>
            <a:ext cx="7057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505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239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El  fin  del  mundo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16239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CasellaDiTesto 2"/>
          <p:cNvSpPr/>
          <p:nvPr/>
        </p:nvSpPr>
        <p:spPr>
          <a:xfrm>
            <a:off x="6215040" y="5572080"/>
            <a:ext cx="17859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cc9900"/>
                </a:solidFill>
                <a:latin typeface="Calibri"/>
              </a:rPr>
              <a:t>Click</a:t>
            </a:r>
            <a:endParaRPr b="0" lang="en-US" sz="5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Motion origin="layout" path="M -0.57101 0.5419 L 0.05503 -0.01065 E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4" descr="http://www.benazir-bhutto.co.uk/images/Alan-Garcia-1.jpg"/>
          <p:cNvPicPr/>
          <p:nvPr/>
        </p:nvPicPr>
        <p:blipFill>
          <a:blip r:embed="rId1"/>
          <a:stretch/>
        </p:blipFill>
        <p:spPr>
          <a:xfrm>
            <a:off x="214200" y="1143000"/>
            <a:ext cx="3133800" cy="4276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999880" y="1213920"/>
            <a:ext cx="5715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ts val="34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2268"/>
                </a:solidFill>
                <a:latin typeface="Californian FB"/>
              </a:rPr>
              <a:t>	</a:t>
            </a:r>
            <a:r>
              <a:rPr b="1" lang="es-ES" sz="3200" spc="-1" strike="noStrike">
                <a:solidFill>
                  <a:srgbClr val="222268"/>
                </a:solidFill>
                <a:latin typeface="Californian FB"/>
              </a:rPr>
              <a:t>No habrá más desempleo, analfabetismo, narcotráfico, guerrilla, paramilitarismo, delincuencia común, se-cuestros, extorsiones, desplazad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ts val="34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ts val="34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2268"/>
                </a:solidFill>
                <a:latin typeface="Californian FB"/>
              </a:rPr>
              <a:t>¡¡ Y LO MÁS ESPECTACULAR!!!!!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571680"/>
            <a:ext cx="431964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Hoy, ¡¡retiro el cobro del IGV en todos los productos y ya no habrá más hambre, ni miseria....                 ¡¡Escuchen bien, todos los problemas se acaban hoy!! y el que no me crea, mañana viene y me lo reclama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64" name="Picture 11" descr="http://english.pravda.ru/img/idb/alangarcia.jpg"/>
          <p:cNvPicPr/>
          <p:nvPr/>
        </p:nvPicPr>
        <p:blipFill>
          <a:blip r:embed="rId1"/>
          <a:stretch/>
        </p:blipFill>
        <p:spPr>
          <a:xfrm>
            <a:off x="4857840" y="357120"/>
            <a:ext cx="3995640" cy="5857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breeze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42960" y="357120"/>
            <a:ext cx="74293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Calibri"/>
              </a:rPr>
              <a:t>Un día Dios, cansado de todos los pecados, decide ponerle fin a la tierra y reúne a todos los lideres mundiales, para notificarles personalmente, su decisión de terminar con la humanidad  en 24 horas.</a:t>
            </a:r>
            <a:endParaRPr b="0" lang="en-US" sz="2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249200" y="1928880"/>
            <a:ext cx="66456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</a:rPr>
              <a:t>-"Los he reunido, para decirles que ¡¡termi-naré con la humanidad en 24 horas!!"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46200" y="3786120"/>
            <a:ext cx="78516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262673"/>
                </a:solidFill>
                <a:latin typeface="Calibri"/>
              </a:rPr>
              <a:t>-”</a:t>
            </a:r>
            <a:r>
              <a:rPr b="1" lang="es-ES" sz="2600" spc="-1" strike="noStrike">
                <a:solidFill>
                  <a:srgbClr val="1e4649"/>
                </a:solidFill>
                <a:latin typeface="Calibri"/>
              </a:rPr>
              <a:t>¡</a:t>
            </a:r>
            <a:r>
              <a:rPr b="1" lang="es-ES" sz="2600" spc="-1" strike="noStrike">
                <a:solidFill>
                  <a:srgbClr val="262673"/>
                </a:solidFill>
                <a:latin typeface="Calibri"/>
              </a:rPr>
              <a:t>Nada de peros!!... Ese es el tiempo lìmite... la tierra no existirá más!!!!... por lo tanto, vayan a sus respectivos  países y notifiquen a sus pueblos para que todos arreglen sus cosas. </a:t>
            </a:r>
            <a:r>
              <a:rPr b="1" lang="es-ES" sz="2600" spc="-1" strike="noStrike">
                <a:solidFill>
                  <a:srgbClr val="1e4649"/>
                </a:solidFill>
                <a:latin typeface="Calibri"/>
              </a:rPr>
              <a:t>¡</a:t>
            </a:r>
            <a:r>
              <a:rPr b="1" lang="es-ES" sz="2600" spc="-1" strike="noStrike">
                <a:solidFill>
                  <a:srgbClr val="262673"/>
                </a:solidFill>
                <a:latin typeface="Calibri"/>
              </a:rPr>
              <a:t>Tienen 24 horas!!."</a:t>
            </a:r>
            <a:endParaRPr b="0" lang="en-US" sz="2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214280" y="313704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Calibri"/>
              </a:rPr>
              <a:t>-”¡Pero, señor... !!!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48" name="Picture 10" descr="http://herobracelets.org/wp-images/barak-obama-bracelet.jpg"/>
          <p:cNvPicPr/>
          <p:nvPr/>
        </p:nvPicPr>
        <p:blipFill>
          <a:blip r:embed="rId2"/>
          <a:stretch/>
        </p:blipFill>
        <p:spPr>
          <a:xfrm>
            <a:off x="1214280" y="1714680"/>
            <a:ext cx="4876920" cy="3790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4071960" y="642960"/>
            <a:ext cx="4714920" cy="1379520"/>
          </a:xfrm>
          <a:prstGeom prst="wedgeRectCallout">
            <a:avLst>
              <a:gd name="adj1" fmla="val -51680"/>
              <a:gd name="adj2" fmla="val 84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"My fellow americans, les tengo una buena noticia y una mala noticia... La buena es que Dios sí existe.... ha hablado conmigo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4714920" y="3500280"/>
            <a:ext cx="4071960" cy="1643400"/>
          </a:xfrm>
          <a:prstGeom prst="wedgeRectCallout">
            <a:avLst>
              <a:gd name="adj1" fmla="val -62009"/>
              <a:gd name="adj2" fmla="val -80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 mala es...que esta gran Nación.... nuestro sueño americano... dejará de existir en 24 horas..... esa es la voluntad de Dios”. </a:t>
            </a:r>
            <a:endParaRPr b="0" lang="en-US" sz="2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1571760" y="1500120"/>
            <a:ext cx="3747960" cy="2738520"/>
          </a:xfrm>
          <a:prstGeom prst="wedgeEllipseCallout">
            <a:avLst>
              <a:gd name="adj1" fmla="val 70425"/>
              <a:gd name="adj2" fmla="val 17041"/>
            </a:avLst>
          </a:prstGeom>
          <a:solidFill>
            <a:srgbClr val="ff00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maradas, pueblo cubano,  </a:t>
            </a: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¡¡</a:t>
            </a:r>
            <a:r>
              <a:rPr b="1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ngo dos malas noticias que darles…!!!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 rot="10661400">
            <a:off x="2031480" y="4127040"/>
            <a:ext cx="6332760" cy="1730520"/>
          </a:xfrm>
          <a:prstGeom prst="wedgeRoundRectCallout">
            <a:avLst>
              <a:gd name="adj1" fmla="val -620"/>
              <a:gd name="adj2" fmla="val 180180"/>
              <a:gd name="adj3" fmla="val 16667"/>
            </a:avLst>
          </a:prstGeom>
          <a:solidFill>
            <a:srgbClr val="ff00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La primera es que Dios sí existe… Sí, así es... ¡¡¡yo lo vi... con mis propios ojos!!!!... ¡yo estuve ahí coño!!!!... estuve equivocado  todo este tiempo chico!!!</a:t>
            </a:r>
            <a:endParaRPr b="0" lang="en-US" sz="2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179280" y="476280"/>
            <a:ext cx="3392640" cy="5832360"/>
          </a:xfrm>
          <a:prstGeom prst="wedgeEllipseCallout">
            <a:avLst>
              <a:gd name="adj1" fmla="val 91879"/>
              <a:gd name="adj2" fmla="val 12495"/>
            </a:avLst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La segunda, es que en sólo 24 horas... esta magnífica  revolución por la que hemos luchado,...                  ¡¡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dejará de existir!!”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http://americalatinaunida.files.wordpress.com/2009/06/alan_garcia_habla_de_fujimori.jpg"/>
          <p:cNvPicPr/>
          <p:nvPr/>
        </p:nvPicPr>
        <p:blipFill>
          <a:blip r:embed="rId2"/>
          <a:stretch/>
        </p:blipFill>
        <p:spPr>
          <a:xfrm>
            <a:off x="2071800" y="21420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1143000" y="4000680"/>
            <a:ext cx="6357960" cy="1512720"/>
          </a:xfrm>
          <a:prstGeom prst="wedgeRoundRectCallout">
            <a:avLst>
              <a:gd name="adj1" fmla="val 7171"/>
              <a:gd name="adj2" fmla="val -9984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atriotas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, hoy es un día muy especial para todos. Les tengo que dar dos buenas noticiasss....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drumroll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http://filer.livinginperu.com/news/img2/alangarcia.jpg"/>
          <p:cNvPicPr/>
          <p:nvPr/>
        </p:nvPicPr>
        <p:blipFill>
          <a:blip r:embed="rId2"/>
          <a:stretch/>
        </p:blipFill>
        <p:spPr>
          <a:xfrm>
            <a:off x="3500280" y="0"/>
            <a:ext cx="2643480" cy="3591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286000" y="3573360"/>
            <a:ext cx="6072120" cy="2641680"/>
          </a:xfrm>
          <a:prstGeom prst="wedgeRoundRectCallout">
            <a:avLst>
              <a:gd name="adj1" fmla="val -15805"/>
              <a:gd name="adj2" fmla="val -7646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9900"/>
                </a:solidFill>
                <a:latin typeface="Arial"/>
              </a:rPr>
              <a:t>La primera... es ¡¡ soy un enviado de Dios!! ¡¡SU MENSAJERO!!, porque hablé con Él personalmente!!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63680" y="428760"/>
            <a:ext cx="8216640" cy="249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 segunda compatriotas,  es que conforme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lo prometido a través de toda mi campaña .…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 24 horas...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428760" y="4714920"/>
            <a:ext cx="83023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scuchen bien... en só lo 24 horas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11" descr="http://www.otrastardes.com/wp-content/uploads/2009/11/alan-garcia1.jpg"/>
          <p:cNvPicPr/>
          <p:nvPr/>
        </p:nvPicPr>
        <p:blipFill>
          <a:blip r:embed="rId9"/>
          <a:stretch/>
        </p:blipFill>
        <p:spPr>
          <a:xfrm>
            <a:off x="3357720" y="2095560"/>
            <a:ext cx="338112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0:54:28Z</dcterms:created>
  <dc:creator>Juan Pablo Gómez G</dc:creator>
  <dc:description/>
  <dc:language>en-US</dc:language>
  <cp:lastModifiedBy> </cp:lastModifiedBy>
  <dcterms:modified xsi:type="dcterms:W3CDTF">2009-12-18T10:02:43Z</dcterms:modified>
  <cp:revision>29</cp:revision>
  <dc:subject/>
  <dc:title>Diapositiva 1</dc:title>
</cp:coreProperties>
</file>