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BB0-6368-45BD-A85B-040F3DFE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CEA-7B82-43D2-A0C1-9FF8D48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0FB-602A-4E80-8ED4-46AF932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776-C4F4-4E32-8F52-C2A19FE2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1B55-E2A3-4537-A3EF-AD3235EC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C98E-08CE-4AD2-A851-5999F9A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13D-F672-44D9-B844-63C01C69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7D7-0C5E-4820-9B5D-67E197A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8029-9191-4873-8680-B637C760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494-47A4-4AED-9A32-AFA467E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8F6F-5315-49CF-8771-CA0B13E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0A9-2ECD-4F50-A8D1-7472FA75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813E-D16E-476F-B2F1-1784702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2C3-A807-4B59-BEC7-341D895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6D8-80FF-4828-B025-8C405D7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5E91-05C5-4C9A-96EC-70F5ADA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FC9-2D41-43BB-8BC8-C0DB2497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056-7190-4316-8709-6A3F7B6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674-4AD3-47A2-A490-859FD51F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CF5-8BCA-4730-96EE-A48AED8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71A-32CA-4BE0-9A9C-D2A065B4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3E0-D421-4B05-96E6-CF8C27D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F2B-7997-415D-93DA-8E865FC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01E-AB38-49CB-818D-C00741F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AC9-E675-4299-B9A1-6F3C8A458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397-2E85-42B6-A1C4-9C6011417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0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microbús lleno de monjas choca con un tren y se mueren to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legan al Paraíso, tratan de atravesar el portón para entrar, y se encuentran con San Ped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El Santo le pregunta a la primera monj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 Teresa, ¿usted tuvo alguna vez contacto con un pene?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La hermana sonríe tímidamente y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Bueno... una vez toqué la cabeza de uno, con la puntita del dedo. 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Muy bien - dice el Portero del Cielo - meta la punta del dedo en esta pira de agua bendita, y luego atraviese el portón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San Pedro le pregunta a la segunda monja:                    -Hermana Beatriz, ¿ud tuvo alguna vez contacto con un pene?... 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La hermana traga saliva y dice: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 Bien... una vez acaricié uno...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Siendo así - determina San Pedro - meta toda la mano en el agua bendita, y luego atraviese el portón.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4005360"/>
            <a:ext cx="854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De repente se arma un despelote en la fila de monjas. Una de ellas empieza a empujar a las otras para pasar  al primer luga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2411280" y="98100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flipH="1">
            <a:off x="4716360" y="9586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375876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Cuando la monjita agotada llega al comienzo de la fila, San Pedro le pregunt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, ¿por qué está tan apurada?...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Y la monja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Es que si voy a tener que hacer gárgaras con ese agua, mejor lo  hago ahora, antes de que la hermana María se lave el culo...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95560" y="2438280"/>
            <a:ext cx="13528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47:20Z</dcterms:created>
  <dc:creator>OLGA</dc:creator>
  <dc:description/>
  <dc:language>en-US</dc:language>
  <cp:lastModifiedBy>ROB</cp:lastModifiedBy>
  <dcterms:modified xsi:type="dcterms:W3CDTF">2008-07-10T02:31:23Z</dcterms:modified>
  <cp:revision>6</cp:revision>
  <dc:subject/>
  <dc:title>Diapositiva 1</dc:title>
</cp:coreProperties>
</file>