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656-D531-4900-9FF7-34D9D74C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DE1-5FE4-4779-A342-0552B65E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79E-A351-4EE5-8281-90DCF519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733-8ED0-4630-964C-97E0B795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B4F1-FBDB-45FF-981D-9CEDE758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EAFE-D90E-4A04-96A2-3BE832D4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0576-C41F-4A6E-BD37-9C6D67F7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E15B-B780-48AB-95C8-F52B6BDA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733C-6F91-4A48-A460-67CABA7A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CB7F-5044-4780-A975-CD1BD753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1AB6-8362-4AC3-90A6-DCC9892C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3B5-186E-4B7B-B2A2-BB4CBACB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B43F-E927-41B6-9D59-C5891FB1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1250-B2F6-480D-B1A4-99A251D1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2D6F-C281-4374-AE3A-3CF6203F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06A1-E05D-4A25-AFFB-30C5EBAE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57CB-D440-44A6-85E8-0B89ACD3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60C-6CA3-4C94-97F6-A7BDF364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ECF-3D56-412C-9B7B-7841FC73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631-0E2F-494B-8897-FBE01707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358-F083-4FA6-BDBA-D6A1D4FD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8DA-5F34-4FB2-AB31-7DDB7DC0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264-C86E-42CA-9494-63C394F9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10F-2BB9-46DD-9681-E05D2A6B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D0C0-C528-4F0D-B373-270F754CC2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FD76-8E45-4E9B-BBC5-E8A12B02DC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320" y="1676160"/>
            <a:ext cx="8015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microbús lleno de monjas choca con un tren y se mueren to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do llegan al Paraíso, tratan de atravesar el portón para entrar, y se encuentran con San Pedr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 flipH="1">
            <a:off x="4572000" y="148428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3428640"/>
            <a:ext cx="8209080" cy="31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El Santo le pregunta a la primera monja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Hermana Teresa, ¿usted tuvo alguna vez contacto con un pene?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La hermana sonríe tímidamente y responde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Bueno... una vez toqué la cabeza de uno, con la puntita del dedo. 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Muy bien - dice el Portero del Cielo - meta la punta del dedo en esta pira de agua bendita, y luego atraviese el portón.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 flipH="1">
            <a:off x="4572000" y="148428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3428640"/>
            <a:ext cx="8209080" cy="31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San Pedro le pregunta a la segunda monja:                    -Hermana Beatriz, ¿ud tuvo alguna vez contacto con un pene?... </a:t>
            </a:r>
            <a:br>
              <a:rPr sz="2400"/>
            </a:b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La hermana traga saliva y dice:</a:t>
            </a:r>
            <a:br>
              <a:rPr sz="2400"/>
            </a:b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- Bien... una vez acaricié uno...</a:t>
            </a:r>
            <a:br>
              <a:rPr sz="2400"/>
            </a:br>
            <a:r>
              <a:rPr b="1" lang="es-ES" sz="2400" spc="-1" strike="noStrike">
                <a:solidFill>
                  <a:srgbClr val="b7e7ff"/>
                </a:solidFill>
                <a:latin typeface="Arial"/>
              </a:rPr>
              <a:t>-Siendo así - determina San Pedro - meta toda la mano en el agua bendita, y luego atraviese el portón.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4005360"/>
            <a:ext cx="854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De repente se arma un despelote en la fila de monjas. Una de ellas empieza a empujar a las otras para pasar  al primer lugar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 flipH="1">
            <a:off x="2411280" y="98100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1611360" cy="271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flipH="1">
            <a:off x="1979640" y="981000"/>
            <a:ext cx="923760" cy="1535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 flipH="1">
            <a:off x="2484360" y="1052640"/>
            <a:ext cx="922320" cy="1533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 flipH="1">
            <a:off x="4716360" y="958680"/>
            <a:ext cx="966960" cy="160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 flipH="1">
            <a:off x="2844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 flipH="1">
            <a:off x="3276720" y="1125360"/>
            <a:ext cx="984240" cy="151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 flipH="1">
            <a:off x="3778200" y="1268280"/>
            <a:ext cx="936720" cy="1441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3758760"/>
            <a:ext cx="8209080" cy="31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Cuando la monjita agotada llega al comienzo de la fila, San Pedro le pregunta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Hermana, ¿por qué está tan apurada?...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Y la monja responde:</a:t>
            </a:r>
            <a:br>
              <a:rPr sz="2400"/>
            </a:br>
            <a:r>
              <a:rPr b="1" lang="en-US" sz="2400" spc="-1" strike="noStrike">
                <a:solidFill>
                  <a:srgbClr val="b7e7ff"/>
                </a:solidFill>
                <a:latin typeface="Arial"/>
              </a:rPr>
              <a:t>-Es que si voy a tener que hacer gárgaras con ese agua, mejor lo  hago ahora, antes de que la hermana María se lave el culo... 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95560" y="2438280"/>
            <a:ext cx="13528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0:47:20Z</dcterms:created>
  <dc:creator>OLGA</dc:creator>
  <dc:description/>
  <dc:language>en-US</dc:language>
  <cp:lastModifiedBy>ROB</cp:lastModifiedBy>
  <dcterms:modified xsi:type="dcterms:W3CDTF">2008-07-10T02:31:23Z</dcterms:modified>
  <cp:revision>6</cp:revision>
  <dc:subject/>
  <dc:title>Diapositiva 1</dc:title>
</cp:coreProperties>
</file>