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5.gif" ContentType="image/gif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8.gif" ContentType="image/gif"/>
  <Override PartName="/ppt/media/image10.wmf" ContentType="image/x-wmf"/>
  <Override PartName="/ppt/media/image4.jpeg" ContentType="image/jpeg"/>
  <Override PartName="/ppt/media/image6.gif" ContentType="image/gif"/>
  <Override PartName="/ppt/media/image7.gif" ContentType="image/gif"/>
  <Override PartName="/ppt/media/Cortazar%20-%20Stolen%20kiss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954-4380-41BE-A0AF-8B353DE7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55A-7CB7-4614-BEBC-D6352615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77A-2A68-450A-8CBB-F270BCEB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C08-AF5B-423D-9CED-90D91711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341-6D71-407E-BB12-7AA27737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108-3ADB-4337-B0B8-EE47126C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C5F-0C6D-4252-B42C-5BEC7298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8BF-13F2-43ED-82BF-C2282CC8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2E9-2297-4E5C-A49A-EB938F71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934-254D-4315-A42D-07238E9A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10E-3542-46F6-9877-B1BD6F1A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590-15E6-4502-9370-3A82C671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A682-C5E7-4448-84E7-ABAF218AE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ortazar%20-%20Stolen%20kiss.wav" TargetMode="External"/><Relationship Id="rId2" Type="http://schemas.microsoft.com/office/2007/relationships/media" Target="file:///tmp/home/.config/libreoffice/4/user/gallery/Cortazar%20-%20Stolen%20kiss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ortazar%20-%20Stolen%20kis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slide0001_image003xxx"/>
          <p:cNvPicPr/>
          <p:nvPr/>
        </p:nvPicPr>
        <p:blipFill>
          <a:blip r:embed="rId4">
            <a:lum contrast="-30000"/>
          </a:blip>
          <a:stretch/>
        </p:blipFill>
        <p:spPr>
          <a:xfrm>
            <a:off x="0" y="-27000"/>
            <a:ext cx="9325080" cy="6986520"/>
          </a:xfrm>
          <a:prstGeom prst="rect">
            <a:avLst/>
          </a:prstGeom>
          <a:ln w="0">
            <a:noFill/>
          </a:ln>
          <a:effectLst>
            <a:outerShdw dist="137587" dir="2021404" blurRad="0" rotWithShape="0">
              <a:srgbClr val="000000"/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6267600" y="2781360"/>
            <a:ext cx="1839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627280" y="550800"/>
            <a:ext cx="6840720" cy="192276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cc99"/>
                </a:solidFill>
                <a:latin typeface="Comic Sans MS"/>
              </a:rPr>
              <a:t>A Dios le agradezco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5" name="Cortazar%20-%20Stolen%20kis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Por la señora que está detrás de mí en la iglesia y que desentona al cantar,</a:t>
            </a:r>
            <a:br>
              <a:rPr sz="3600"/>
            </a:br>
            <a:br>
              <a:rPr sz="3600"/>
            </a:br>
            <a:r>
              <a:rPr b="1" lang="en-US" sz="3500" spc="-1" strike="noStrike">
                <a:solidFill>
                  <a:srgbClr val="ff9933"/>
                </a:solidFill>
                <a:latin typeface="Verdana"/>
              </a:rPr>
              <a:t>porque significa</a:t>
            </a:r>
            <a:br>
              <a:rPr sz="3500"/>
            </a:br>
            <a:r>
              <a:rPr b="1" lang="en-US" sz="3500" spc="-1" strike="noStrike">
                <a:solidFill>
                  <a:srgbClr val="ff9933"/>
                </a:solidFill>
                <a:latin typeface="Verdana"/>
              </a:rPr>
              <a:t>que puedo oír.</a:t>
            </a:r>
            <a:br>
              <a:rPr sz="48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58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99cc00"/>
                </a:solidFill>
                <a:latin typeface="Verdana"/>
              </a:rPr>
              <a:t>Por la cantidad que tengo que lavar y planchar,</a:t>
            </a:r>
            <a:br>
              <a:rPr sz="4000"/>
            </a:br>
            <a:br>
              <a:rPr sz="40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que tengo 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ropa que vesti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99cc00"/>
                </a:solidFill>
                <a:latin typeface="Verdana"/>
              </a:rPr>
              <a:t>Por el cansancio y los dolores musculares al </a:t>
            </a:r>
            <a:br>
              <a:rPr sz="4000"/>
            </a:br>
            <a:r>
              <a:rPr b="1" lang="en-US" sz="4000" spc="-1" strike="noStrike">
                <a:solidFill>
                  <a:srgbClr val="99cc00"/>
                </a:solidFill>
                <a:latin typeface="Verdana"/>
              </a:rPr>
              <a:t>final del día,</a:t>
            </a:r>
            <a:br>
              <a:rPr sz="4000"/>
            </a:br>
            <a:br>
              <a:rPr sz="40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fui capaz de trabajar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543564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Verdana"/>
              </a:rPr>
              <a:t>Por el despertador que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Verdana"/>
              </a:rPr>
              <a:t>suena temprano todas la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Verdana"/>
              </a:rPr>
              <a:t>mañanas,</a:t>
            </a:r>
            <a:br>
              <a:rPr sz="4000"/>
            </a:br>
            <a:br>
              <a:rPr sz="40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que estoy vivo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Verdana"/>
              </a:rPr>
              <a:t>Y</a:t>
            </a:r>
            <a:br>
              <a:rPr sz="4800"/>
            </a:b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finalmente por la cantidad de correos que recibo,</a:t>
            </a:r>
            <a:br>
              <a:rPr sz="4400"/>
            </a:br>
            <a:br>
              <a:rPr sz="4400"/>
            </a:br>
            <a:r>
              <a:rPr b="1" lang="en-US" sz="3900" spc="-1" strike="noStrike">
                <a:solidFill>
                  <a:srgbClr val="333399"/>
                </a:solidFill>
                <a:latin typeface="Verdana"/>
              </a:rPr>
              <a:t>porque significa que tengo amigos que piensan en mí.</a:t>
            </a: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 </a:t>
            </a:r>
            <a:br>
              <a:rPr sz="4400"/>
            </a:br>
            <a:br>
              <a:rPr sz="4400"/>
            </a:br>
            <a:r>
              <a:rPr b="1" lang="en-US" sz="3400" spc="-1" strike="noStrike">
                <a:solidFill>
                  <a:srgbClr val="99cc00"/>
                </a:solidFill>
                <a:latin typeface="Monotype Corsiva"/>
              </a:rPr>
              <a:t>Envía este correo a alguien que aprecies, y cuando creas que todo en la vida te va mal, léelo otra vez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34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Por mi criatura, que no limpia su cuarto,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pero está viendo la tele,</a:t>
            </a:r>
            <a:br>
              <a:rPr sz="2800"/>
            </a:br>
            <a:br>
              <a:rPr sz="2800"/>
            </a:br>
            <a:r>
              <a:rPr b="1" lang="en-US" sz="3000" spc="-1" strike="noStrike">
                <a:solidFill>
                  <a:srgbClr val="333399"/>
                </a:solidFill>
                <a:latin typeface="Verdana"/>
              </a:rPr>
              <a:t>porque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Verdana"/>
              </a:rPr>
              <a:t>significa que está en casa y no en las cal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9892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8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Verdana"/>
              </a:rPr>
              <a:t>Por los descuentos en mi sueldo,</a:t>
            </a:r>
            <a:br>
              <a:rPr sz="4000"/>
            </a:br>
            <a:br>
              <a:rPr sz="40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estoy trabajando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Verdana"/>
              </a:rPr>
              <a:t>Por el desorden que tengo que </a:t>
            </a:r>
            <a:br>
              <a:rPr sz="4000"/>
            </a:br>
            <a:r>
              <a:rPr b="1" lang="en-US" sz="4000" spc="-1" strike="noStrike">
                <a:solidFill>
                  <a:srgbClr val="00ffff"/>
                </a:solidFill>
                <a:latin typeface="Verdana"/>
              </a:rPr>
              <a:t>limpiar después de una fiesta,</a:t>
            </a:r>
            <a:br>
              <a:rPr sz="4000"/>
            </a:br>
            <a:br>
              <a:rPr sz="40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estuve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rodeada de seres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querido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64000" y="0"/>
            <a:ext cx="378000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flipH="1">
            <a:off x="5292720" y="3429000"/>
            <a:ext cx="38512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1152720" cy="689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732720" y="4292640"/>
            <a:ext cx="11523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997360"/>
            <a:ext cx="44654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Por las ropas que me quedan un poco ajustadas,</a:t>
            </a:r>
            <a:br>
              <a:rPr sz="3600"/>
            </a:br>
            <a:br>
              <a:rPr sz="36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tengo suficiente para comer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637000"/>
            <a:ext cx="4679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Verdana"/>
              </a:rPr>
              <a:t>Por mi sombra que me ve trabajar,</a:t>
            </a:r>
            <a:br>
              <a:rPr sz="4400"/>
            </a:br>
            <a:br>
              <a:rPr sz="44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puedo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salir al so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284280"/>
            <a:ext cx="38988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99cc00"/>
                </a:solidFill>
                <a:latin typeface="Verdana"/>
              </a:rPr>
              <a:t>Por el césped que tengo que cortar, ventanas que necesito limpiar y cañerías que arreglar,</a:t>
            </a:r>
            <a:br>
              <a:rPr sz="2800"/>
            </a:br>
            <a:br>
              <a:rPr sz="28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tengo una cas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c9900"/>
                </a:solidFill>
                <a:latin typeface="Verdana"/>
              </a:rPr>
              <a:t>Por las quejas que oigo acerca del Gobierno,</a:t>
            </a:r>
            <a:br>
              <a:rPr sz="4000"/>
            </a:br>
            <a:br>
              <a:rPr sz="40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 que tenemos libertad de expresión</a:t>
            </a:r>
            <a:r>
              <a:rPr b="0" lang="en-US" sz="35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1720800" cy="28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236000" y="1268280"/>
            <a:ext cx="1908000" cy="2833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80000" y="3357720"/>
            <a:ext cx="2017800" cy="2690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80360" y="4076640"/>
            <a:ext cx="1763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5e4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2997000"/>
            <a:ext cx="44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Wingdings"/>
                <a:ea typeface="Wingdings"/>
              </a:rPr>
              <a:t>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r el lugar par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cionar qu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cuentro al final del estacionamiento,</a:t>
            </a:r>
            <a:br>
              <a:rPr sz="2400"/>
            </a:br>
            <a:br>
              <a:rPr sz="24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porque significa</a:t>
            </a:r>
            <a:br>
              <a:rPr sz="3500"/>
            </a:b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que tengo auto.</a:t>
            </a:r>
            <a:r>
              <a:rPr b="0" lang="en-US" sz="3600" spc="-1" strike="noStrike">
                <a:solidFill>
                  <a:srgbClr val="ffcc66"/>
                </a:solidFill>
                <a:latin typeface="Verdan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3:55:57Z</dcterms:created>
  <dc:creator>ksmerida</dc:creator>
  <dc:description/>
  <dc:language>en-US</dc:language>
  <cp:lastModifiedBy>Hernando Rodríguez Vargas</cp:lastModifiedBy>
  <dcterms:modified xsi:type="dcterms:W3CDTF">2008-03-06T01:39:26Z</dcterms:modified>
  <cp:revision>13</cp:revision>
  <dc:subject/>
  <dc:title>A DIOS LE  AGRADEZCO</dc:title>
</cp:coreProperties>
</file>