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Bebu%20Silveti%20Imperio%20de%20cristalal+7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ADA-16EA-44DF-9BA2-DD3F0CF0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D7A-0FF4-4042-A0E7-1EE6DBC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B1C-83B0-49AB-B561-FD0A4544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0E6-B595-4135-91A3-0CBB6C4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E5B-73ED-47A8-8BBF-369120CB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DED-ED5F-44BD-87DF-D1B4675A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E67-13A0-45BF-AFB1-7EC029A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143-1A7F-4F84-85D0-5D2E5EC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403-EE27-49B7-9E3B-C4D80CD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644-9AA7-4B70-9475-95F7C26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48D-BDEE-4AD5-8568-8EFC5DA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4FD-85B0-44A2-9F2E-4104A01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DA83-27F7-404B-887D-05094D36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ebu%20Silveti%20Imperio%20de%20cristalal+7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095880"/>
            <a:ext cx="32004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Una adapt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Francisco Arámburo Sa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eorgia"/>
              </a:rPr>
              <a:t>Música: </a:t>
            </a:r>
            <a:r>
              <a:rPr b="1" i="1" lang="es-ES" sz="1800" spc="-1" strike="noStrike">
                <a:solidFill>
                  <a:srgbClr val="ffffff"/>
                </a:solidFill>
                <a:latin typeface="Georgia"/>
              </a:rPr>
              <a:t>Imperio de Cri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09680"/>
            <a:ext cx="7848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¿Que es? ¿En qué consiste? ¿Qué significa? ¿Cuáles son sus principios básic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685800"/>
            <a:ext cx="83818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ra entender el SOCIALISM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26708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He aquí algunos razonamientos explicados  en forma de sencilla analogía anecdótica        para comprenderlo mej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ocinas%20parlantes" descr=""/>
          <p:cNvPicPr/>
          <p:nvPr/>
        </p:nvPicPr>
        <p:blipFill>
          <a:blip r:embed="rId2"/>
          <a:stretch/>
        </p:blipFill>
        <p:spPr>
          <a:xfrm>
            <a:off x="4572000" y="6248520"/>
            <a:ext cx="76212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Bebu%20Silveti%20Imperio%20de%20cristalal+7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685800"/>
            <a:ext cx="8229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l maestro preguntó entonces si comprendían ahora el significado del Socialismo, en el cual todo es de todos, y a la vez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nadie en particul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4160" y="5816520"/>
            <a:ext cx="7375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Así es. Las calificaciones que habían ob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pertenecían a toda la clase y no a cada alum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440" y="4267080"/>
            <a:ext cx="8763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La explicación es sencilla. Simplemente se debe a que el ser humano está dispuesto a sacrificarse trabajando muy duro cuando la recompensa es atractiva y justifica el esfuerzo propio; pero cuando el gobierno suprime ese incentivo y le quita al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productivo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para darle al </a:t>
            </a: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pasivo</a:t>
            </a:r>
            <a:r>
              <a:rPr b="1" lang="es-ES_tradnl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, nadie va a hacer ya el sacrificio necesario para lograr la excelencia. Por supuesto que no. ¿Para qué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6200" y="304920"/>
            <a:ext cx="8210520" cy="23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lección en el aula ha terminado. Ahora correspo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 los lectores meditar sobre este hech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y que observar y evaluar los resultados que se 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btenido --o mejor dicho que NO se han obtenido--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ba, Venezuela, Bolivia y la misma Unión Sovi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y otros paí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6095880"/>
            <a:ext cx="54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ff00"/>
                </a:solidFill>
                <a:latin typeface="Verdana"/>
                <a:ea typeface="Times New Roman"/>
              </a:rPr>
              <a:t>Al final el fracaso será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9880" y="457200"/>
            <a:ext cx="74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eamos ahora los concepto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Abraham Lincoln expresó hace ya muchos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8120" y="4114800"/>
            <a:ext cx="8705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1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crear prosperidad desalentando la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iciativa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opia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2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fortalecer al débil debilitando al fuerte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3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ayudar a los pequeños aplastando a los grandes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4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uede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mejorar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al pobre destruyendo al rico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5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uede elevar al asalariado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oprmiendo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a quien paga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lo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alario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6.-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o 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uede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resolver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lo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problemas mientras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gaste m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de lo que </a:t>
            </a:r>
            <a:r>
              <a:rPr b="0" lang="es-MX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g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70480" y="64612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tinú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480" y="228600"/>
            <a:ext cx="8915400" cy="2533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7.-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o se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uede promover la fraternidad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y el progreso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de la humanidad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romoviendo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e incitando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 odio de clas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8.-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puede garantizar una adecuada seguridad con dinero prestad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9.-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o s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puede formar el carácter y el valor del hombre quitándole su independencia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, s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libertad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y s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iniciativa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10.-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 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uede ayudar a los hombres realizando por ellos perma</a:t>
            </a:r>
            <a:r>
              <a:rPr b="0" lang="es-MX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nen-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temente lo que ellos pueden y deben hacer por sí mismo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10080"/>
            <a:ext cx="853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La Humanidad no ha aprendido aún a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caer en excesos, y desafortunad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ignora la moder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240" y="228600"/>
            <a:ext cx="90457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= CONCLUSIÓ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o toda teoría filosófica, el Socialismo tiene sus aspectos bue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o malo es que muchas veces las teorías se arrastran a casos extrem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s pensamientos expresados en esta presentación deberí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hacernos meditar e invitarnos sacar conclusiones, que si bien no 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estar de acuerdo con las mayorías, deben estar apegadas a la raz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791320"/>
            <a:ext cx="5867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inalmente, veamos estas frases acerca de las MAYORI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3720" y="3581280"/>
            <a:ext cx="467028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Es probable que esta 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genere una serie de comen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y aun polémicas. Cada quien sabr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Pero yo sólo me he concr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s-MX" sz="1800" spc="-1" strike="noStrike">
                <a:solidFill>
                  <a:srgbClr val="ffff00"/>
                </a:solidFill>
                <a:latin typeface="Arial Rounded MT Bold"/>
              </a:rPr>
              <a:t>a exponer los simples HECH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96880" y="2895480"/>
            <a:ext cx="223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Por lo tan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8880" y="228600"/>
            <a:ext cx="7817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Las mayorías no tienen por qué t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la razón sólo por ser mayoría. No neces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Tienen </a:t>
            </a:r>
            <a:r>
              <a:rPr b="1" i="1" lang="es-MX" sz="2400" spc="-1" strike="noStrike">
                <a:solidFill>
                  <a:srgbClr val="ffff00"/>
                </a:solidFill>
                <a:latin typeface="Verdana"/>
              </a:rPr>
              <a:t>superioridad numérica,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 pero nada má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9680" y="5029200"/>
            <a:ext cx="6729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Muchas veces la MAYORIA sign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que todos los tontos están del mismo l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09760" y="1600200"/>
            <a:ext cx="32576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F i n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030280" y="6324480"/>
            <a:ext cx="315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faramburo@aramburosuit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01992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©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 2009. Queda prohib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cualquier cambio o alteración a es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obra en su forma o contenido origi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ente%200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209680" cy="157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39625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Esta es una lección sencilla, casi escolar, en la cual no revisaremos las complicadas raíces del Socialismo. No citaremos a Carlos Mar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ni a Lenín, y mucho menos trataremos de investi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las intrincadas doctrinas emanadas del Kerml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Nada de 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28600"/>
            <a:ext cx="355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Aquí solamente nos situaremos en una universidad imagin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y narraremos lo que sucedió en el interio</a:t>
            </a: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r </a:t>
            </a: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de una de sus a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8000" y="5867280"/>
            <a:ext cx="7313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Imagina, pues, que eres un alumno má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l salón y toma asiento en uno de los pupit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n una conocida y reconocida universidad latinoamericana se suscitó una discusión entre el maestro de Economía y sus alum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1752480"/>
            <a:ext cx="8153280" cy="1313640"/>
          </a:xfrm>
          <a:prstGeom prst="rect">
            <a:avLst/>
          </a:prstGeom>
          <a:solidFill>
            <a:srgbClr val="dddddd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os alumnos insistían en que el Socialismo era bueno, que sí funcionaba bien y que era la mejor forma de gobierno, pues en él no existían las clases sociales, ni pobres ni ricos, ya que todos eran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943600"/>
            <a:ext cx="8686800" cy="7038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La producción y la riqueza deben ser repartidos equitati-vamente entre todos para el beneficio común” arguí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1360" y="947880"/>
            <a:ext cx="825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l maestro, quien escuchaba con atención, prop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ntonces hacer un experimento con todos los alum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y propuso este 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3840" y="3581280"/>
            <a:ext cx="7995960" cy="137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-Muy bien- señaló. -De aquí en adelante las calif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que obtenga cada quien en sus exámenes serán promedi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ntre todos los alumnos. Así cada quien obtendrá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beneficio del estudio y del esfuerzo comú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280" y="5105520"/>
            <a:ext cx="8298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Rounded MT Bold"/>
              </a:rPr>
              <a:t>Aunque no todos los estudiantes entendieron muy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Rounded MT Bold"/>
              </a:rPr>
              <a:t>el nuevo plan, aquellos que iban más atrasados en 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Rounded MT Bold"/>
              </a:rPr>
              <a:t>estudios, que eran los más numerosos, aceptaron de inmediato logrando fácilmente la mayoría de los vo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57200" y="990720"/>
            <a:ext cx="6429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l llevarse a cabo el siguiente examen, se vio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calificaciones promediaban un 7.8 para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ibro%2003" descr=""/>
          <p:cNvPicPr/>
          <p:nvPr/>
        </p:nvPicPr>
        <p:blipFill>
          <a:blip r:embed="rId2"/>
          <a:stretch/>
        </p:blipFill>
        <p:spPr>
          <a:xfrm>
            <a:off x="6553080" y="4343400"/>
            <a:ext cx="1981440" cy="14875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331320" y="6019920"/>
            <a:ext cx="245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Verdana"/>
              </a:rPr>
              <a:t>¿Obtener más sin may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Verdana"/>
              </a:rPr>
              <a:t>esfuerzo? ¡Excelent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Verdana"/>
              </a:rPr>
              <a:t>¿A quién le dan pan que ll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2360" y="1752480"/>
            <a:ext cx="6657840" cy="143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mo es natural, los estudiantes que se habí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reparado bien estaban inconformes, en tanto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s que NO habían estudiado se encontra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satisfechos y fel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62880" y="2362320"/>
            <a:ext cx="4905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Verdana"/>
              </a:rPr>
              <a:t>¡Era de esperar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" y="4937040"/>
            <a:ext cx="8877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ro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uando presentaron el segundo examen, los estudiantes que estudiaron poco estudiaron men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un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 los que habían estudiado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ch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cidieron no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mpeñar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to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ya que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todos modo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iban a lograr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btener u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iez... 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ambién estudiaron men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¿Por qué iban a desvelarse estudiando  si de todos modos no tomarían en cuenta su esfuerzo?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¡El promedio del segundo examen fue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6.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lide0003_image009" descr=""/>
          <p:cNvPicPr/>
          <p:nvPr/>
        </p:nvPicPr>
        <p:blipFill>
          <a:blip r:embed="rId2"/>
          <a:stretch/>
        </p:blipFill>
        <p:spPr>
          <a:xfrm>
            <a:off x="7467480" y="1523880"/>
            <a:ext cx="1249560" cy="1752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28600" y="228600"/>
            <a:ext cx="8686800" cy="1008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Al perderse el entusiasmo y el afán de superación el ánimo decayó. Nadie quiso ya estudiar, hacer tareas ni dedicarle más tiempo a la materia. La motivación se desplo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7040" y="0"/>
            <a:ext cx="888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Nadie estuvo conforme. Los buenos estudiantes se quejaron de que no tomaban en cuenta su dedicación, pero los flojos dijeron que sí era justo obtener mejores notas a través del esfuerzo de los demás, pues las calificaciones tenían que obtenerse y “repartirse equitativamente entre todos..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676520"/>
            <a:ext cx="4952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Sin darse cuenta estab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estableciendo los princip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básicos del Comu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16765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Verdana"/>
              </a:rPr>
              <a:t>¡y a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Verdana"/>
              </a:rPr>
              <a:t>exigían má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1480" y="30492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Pero cuando se llevó a cabo el tercer examen f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el acabóse: el promedio fue de 4.0 (cuat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51120" y="1295280"/>
            <a:ext cx="4114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3300"/>
                </a:solidFill>
                <a:latin typeface="Verdana"/>
              </a:rPr>
              <a:t>¡Todos quedar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3300"/>
                </a:solidFill>
                <a:latin typeface="Verdana"/>
              </a:rPr>
              <a:t>reprobado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1480" y="5029200"/>
            <a:ext cx="76010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s estudiantes empezaron a pelear entre 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ulpándose unos a otros por los fracasos obteni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hasta llegar a los resentimientos y los insultos, e inclus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 los golpes, ya que ninguno estaba dispuesto a estud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ara que se beneficiaran los otros que no lo hací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41840" y="4292640"/>
            <a:ext cx="706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Verdana"/>
              </a:rPr>
              <a:t>¡</a:t>
            </a:r>
            <a:r>
              <a:rPr b="1" lang="es-MX" sz="2400" spc="-1" strike="noStrike">
                <a:solidFill>
                  <a:srgbClr val="ffff00"/>
                </a:solidFill>
                <a:latin typeface="Verdana"/>
              </a:rPr>
              <a:t>O sea que iniciaron una pequeña revolución</a:t>
            </a:r>
            <a:r>
              <a:rPr b="1" lang="es-MX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3880" y="3049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Y sucedió lo que ya se esperaba. Las notas nunca mejoraron y obviamente, para asombro general, todos perdieron el año escolar     en la clase de Economí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343400"/>
            <a:ext cx="5181480" cy="21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a para entonces el experi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ba latente y bajo la lupa de toda la escuela, y pronto también de toda la comun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¡Todos estaban 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del result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>Francisco Aramburo</dc:creator>
  <dc:description/>
  <dc:language>en-US</dc:language>
  <cp:lastModifiedBy>Francisco Aramburo</cp:lastModifiedBy>
  <dcterms:modified xsi:type="dcterms:W3CDTF">2009-07-01T00:34:15Z</dcterms:modified>
  <cp:revision>100</cp:revision>
  <dc:subject/>
  <dc:title>Presentación de PowerPoint</dc:title>
</cp:coreProperties>
</file>