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408-EB01-4D2F-890D-B5E702FD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C18-8BD9-4AC2-B69B-21CEFA31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905-D894-4C9A-B361-65BED3E6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8B0-602C-400A-80FB-59FC5CB9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B10-AE10-4215-8083-53E8F0A2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520-4CC9-47A9-A9E8-2B3120F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F93-D7FA-48EA-AF30-D50A948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F0A-DA46-4726-8F79-FFD9E07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9C2-1B68-4D67-8BA7-2E2A641A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FAE-3144-4910-8122-A820178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DD9-A95D-4577-BC05-2B2E0F8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79C-5598-4329-B289-77101B9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B3B-2D55-430B-B4C2-55E3B3E17A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audio" Target="../media/EL%20PESCADO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2" name="WordArt 5"/>
          <p:cNvSpPr txBox="1"/>
          <p:nvPr/>
        </p:nvSpPr>
        <p:spPr>
          <a:xfrm rot="20536800">
            <a:off x="171360" y="1517760"/>
            <a:ext cx="885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AVANZAR</a:t>
            </a:r>
            <a:endParaRPr b="0" lang="en-US" sz="1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77" name="Picture 3" descr="cid:001201c810b4$583d28e0$370010ac@local.pl"/>
          <p:cNvPicPr/>
          <p:nvPr/>
        </p:nvPicPr>
        <p:blipFill>
          <a:blip r:embed="rId1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152280" y="6019920"/>
            <a:ext cx="83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ufrió el atentado el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M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yo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1" name="Picture 3" descr="cid:001301c810b4$583d28e0$370010ac@local.pl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4" name="Picture 3" descr="cid:001501c810b4$583f99e0$370010ac@local.pl"/>
          <p:cNvPicPr/>
          <p:nvPr/>
        </p:nvPicPr>
        <p:blipFill>
          <a:blip r:embed="rId1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59436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llece l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t-BR" sz="3200" spc="-1" strike="noStrike">
                <a:solidFill>
                  <a:srgbClr val="ff0000"/>
                </a:solidFill>
                <a:latin typeface="Arial Black"/>
              </a:rPr>
              <a:t>ª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ma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año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89" name="Picture 3" descr="cid:001401c810b4$583d28e0$370010ac@local.pl"/>
          <p:cNvPicPr/>
          <p:nvPr/>
        </p:nvPicPr>
        <p:blipFill>
          <a:blip r:embed="rId1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Text Box 5"/>
          <p:cNvSpPr/>
          <p:nvPr/>
        </p:nvSpPr>
        <p:spPr>
          <a:xfrm>
            <a:off x="1066680" y="53341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Cuando fallece tení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85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ño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8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93" name="Picture 4" descr="cid:001001c810b4$583d28e0$370010ac@local.pl"/>
          <p:cNvPicPr/>
          <p:nvPr/>
        </p:nvPicPr>
        <p:blipFill>
          <a:blip r:embed="rId1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Text Box 6"/>
          <p:cNvSpPr/>
          <p:nvPr/>
        </p:nvSpPr>
        <p:spPr>
          <a:xfrm>
            <a:off x="900000" y="5373720"/>
            <a:ext cx="72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Fech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 de su muert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02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/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4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/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005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97" name="Picture 3" descr="cid:001101c810b4$583d28e0$370010ac@local.pl"/>
          <p:cNvPicPr/>
          <p:nvPr/>
        </p:nvPicPr>
        <p:blipFill>
          <a:blip r:embed="rId1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5003640" y="1341360"/>
            <a:ext cx="3886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La hora de su muerte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1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: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37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1+3+7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0" name="Picture 4" descr="47031914"/>
          <p:cNvPicPr/>
          <p:nvPr/>
        </p:nvPicPr>
        <p:blipFill>
          <a:blip r:embed="rId1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79280" y="1413000"/>
            <a:ext cx="3810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l er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el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65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º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pa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6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3" name="Picture 5" descr="niebo+ma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495680" y="685800"/>
            <a:ext cx="434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4832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96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5680" y="2362320"/>
            <a:ext cx="4343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es el nº de</a:t>
            </a:r>
            <a:endParaRPr b="0" lang="en-US" sz="44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Mar</a:t>
            </a: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i</a:t>
            </a: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108" name="Picture 3" descr="cid:001701c810b4$583f99e0$370010ac@local.pl"/>
          <p:cNvPicPr/>
          <p:nvPr/>
        </p:nvPicPr>
        <p:blipFill>
          <a:blip r:embed="rId1"/>
          <a:stretch/>
        </p:blipFill>
        <p:spPr>
          <a:xfrm>
            <a:off x="230040" y="230040"/>
            <a:ext cx="632304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6516720" y="115920"/>
            <a:ext cx="2627280" cy="10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Reenvie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l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ara que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otra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ersonas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 enteren 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ésto!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685800"/>
            <a:ext cx="777240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Haz una petición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y verás lo que sucederá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ronto.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85800" y="4267080"/>
            <a:ext cx="784872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í cual es tu petición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tes que termine el contéo 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iguiente.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47" name="Picture 5" descr="papież16"/>
          <p:cNvPicPr/>
          <p:nvPr/>
        </p:nvPicPr>
        <p:blipFill>
          <a:blip r:embed="rId1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Text Box 6"/>
          <p:cNvSpPr/>
          <p:nvPr/>
        </p:nvSpPr>
        <p:spPr>
          <a:xfrm>
            <a:off x="5029200" y="533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Arial Black"/>
              </a:rPr>
              <a:t>Se acuerda de ésta persona 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1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1" name="Picture 3" descr="cid:000a01c810b4$583d28e0$370010ac@local.pl"/>
          <p:cNvPicPr/>
          <p:nvPr/>
        </p:nvPicPr>
        <p:blipFill>
          <a:blip r:embed="rId1"/>
          <a:stretch/>
        </p:blipFill>
        <p:spPr>
          <a:xfrm>
            <a:off x="531720" y="455760"/>
            <a:ext cx="4164120" cy="556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3" name="Picture 5" descr="cid:000c01c810b4$583d28e0$370010ac@local.pl"/>
          <p:cNvPicPr/>
          <p:nvPr/>
        </p:nvPicPr>
        <p:blipFill>
          <a:blip r:embed="rId2"/>
          <a:stretch/>
        </p:blipFill>
        <p:spPr>
          <a:xfrm>
            <a:off x="4648320" y="455760"/>
            <a:ext cx="3612960" cy="55609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9072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Arial Black"/>
              </a:rPr>
              <a:t>Hiciste tu petición</a:t>
            </a: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47840" y="595008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Reenvíalo a todos tus amigos</a:t>
            </a: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372360" y="549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Academy Engraved LET"/>
              </a:rPr>
              <a:t>FIN</a:t>
            </a: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6" name="Picture 3" descr="cid:000801c810b4$583d28e0$370010ac@local.pl"/>
          <p:cNvPicPr/>
          <p:nvPr/>
        </p:nvPicPr>
        <p:blipFill>
          <a:blip r:embed="rId1"/>
          <a:stretch/>
        </p:blipFill>
        <p:spPr>
          <a:xfrm>
            <a:off x="272880" y="455760"/>
            <a:ext cx="4232520" cy="5489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Rectangle 6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58" name="Picture 5" descr="cid:000901c810b4$583d28e0$370010ac@local.pl"/>
          <p:cNvPicPr/>
          <p:nvPr/>
        </p:nvPicPr>
        <p:blipFill>
          <a:blip r:embed="rId2"/>
          <a:stretch/>
        </p:blipFill>
        <p:spPr>
          <a:xfrm>
            <a:off x="4494240" y="455760"/>
            <a:ext cx="4332240" cy="548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1" name="Picture 3" descr="cid:001601c810b4$583f99e0$370010ac@local.pl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4" name="Picture 3" descr="cid:000e01c810b4$583d28e0$370010ac@local.pl"/>
          <p:cNvPicPr/>
          <p:nvPr/>
        </p:nvPicPr>
        <p:blipFill>
          <a:blip r:embed="rId1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6" name="Picture 5" descr="cid:000f01c810b4$583d28e0$370010ac@local.pl"/>
          <p:cNvPicPr/>
          <p:nvPr/>
        </p:nvPicPr>
        <p:blipFill>
          <a:blip r:embed="rId1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Text Box 7"/>
          <p:cNvSpPr/>
          <p:nvPr/>
        </p:nvSpPr>
        <p:spPr>
          <a:xfrm>
            <a:off x="5410080" y="304920"/>
            <a:ext cx="3581640" cy="40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99"/>
                </a:solidFill>
                <a:latin typeface="Arial Black"/>
              </a:rPr>
              <a:t>SU NOMBRE</a:t>
            </a:r>
            <a:endParaRPr b="0" lang="en-US" sz="36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EN  POLACO SUMAN</a:t>
            </a:r>
            <a:endParaRPr b="0" lang="en-US" sz="20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 Black"/>
              </a:rPr>
              <a:t>13  l</a:t>
            </a:r>
            <a:r>
              <a:rPr b="1" lang="pt-BR" sz="4000" spc="-1" strike="noStrike">
                <a:solidFill>
                  <a:srgbClr val="ff0000"/>
                </a:solidFill>
                <a:latin typeface="Arial Black"/>
              </a:rPr>
              <a:t>etras</a:t>
            </a:r>
            <a:endParaRPr b="0" lang="en-US" sz="40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69" name="Picture 3" descr="47031721"/>
          <p:cNvPicPr/>
          <p:nvPr/>
        </p:nvPicPr>
        <p:blipFill>
          <a:blip r:embed="rId1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105520" y="762120"/>
            <a:ext cx="4038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Fue electo Pap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 los </a:t>
            </a: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8 </a:t>
            </a: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ños    de vida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+8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99"/>
              </a:solidFill>
              <a:latin typeface="Academy Engraved LET"/>
            </a:endParaRPr>
          </a:p>
        </p:txBody>
      </p:sp>
      <p:pic>
        <p:nvPicPr>
          <p:cNvPr id="73" name="Picture 3" descr="cid:000d01c810b4$583d28e0$370010ac@local.pl"/>
          <p:cNvPicPr/>
          <p:nvPr/>
        </p:nvPicPr>
        <p:blipFill>
          <a:blip r:embed="rId1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Text Box 5"/>
          <p:cNvSpPr/>
          <p:nvPr/>
        </p:nvSpPr>
        <p:spPr>
          <a:xfrm>
            <a:off x="380880" y="5181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u pontificado dur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</a:t>
            </a:r>
            <a:r>
              <a:rPr b="1" lang="es-MX" sz="3200" spc="-1" strike="noStrike">
                <a:solidFill>
                  <a:srgbClr val="003399"/>
                </a:solidFill>
                <a:latin typeface="Arial Black"/>
              </a:rPr>
              <a:t>,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301 d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as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+3+0+1=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3399"/>
              </a:solidFill>
              <a:latin typeface="Academy Engraved LE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Arturo</cp:lastModifiedBy>
  <dcterms:modified xsi:type="dcterms:W3CDTF">2010-06-24T01:36:20Z</dcterms:modified>
  <cp:revision>9</cp:revision>
  <dc:subject/>
  <dc:title>Prezentacja programu PowerPoint</dc:title>
</cp:coreProperties>
</file>