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DE4-9EE9-49C9-A3D3-9BC3501E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761-51C3-4567-9ECA-79972C6F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02D-4766-49F4-92A2-09664241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A16-3D92-4A14-B58E-2D34A687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059-9A66-43E0-BCCD-EEBF8A45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666-A31A-4571-BE87-29110FDD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0B4-2307-43D4-99B0-B9D9311E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E57-4917-48B9-9D2A-A1B4E972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9FA-3D19-40F7-B501-6B412CCC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62A-E854-47D0-B146-BEA8A76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53B-1B73-4E81-9D47-362BB61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03C-1AFD-47B7-953E-3194BA13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52E7-8A3F-4DC7-B8FA-C0C1CF7616C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Arial"/>
              </a:rPr>
              <a:t>Las Reliquias de los A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99"/>
                </a:solidFill>
                <a:latin typeface="Arial"/>
              </a:rPr>
              <a:t>Canción: Johnny Be Good (Chuck Ber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Sábado, 28 de Octubre de 2006"/>
          <p:cNvPicPr/>
          <p:nvPr/>
        </p:nvPicPr>
        <p:blipFill>
          <a:blip r:embed="rId2"/>
          <a:stretch/>
        </p:blipFill>
        <p:spPr>
          <a:xfrm>
            <a:off x="6072120" y="4857840"/>
            <a:ext cx="2000160" cy="139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ábado, 28 de Octubre de 2006"/>
          <p:cNvPicPr/>
          <p:nvPr/>
        </p:nvPicPr>
        <p:blipFill>
          <a:blip r:embed="rId2"/>
          <a:stretch/>
        </p:blipFill>
        <p:spPr>
          <a:xfrm>
            <a:off x="7786800" y="5786280"/>
            <a:ext cx="914400" cy="63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0:48:12Z</dcterms:created>
  <dc:creator>gv000148</dc:creator>
  <dc:description/>
  <dc:language>en-US</dc:language>
  <cp:lastModifiedBy>Fernando Ordóñez de la Piedra</cp:lastModifiedBy>
  <dcterms:modified xsi:type="dcterms:W3CDTF">2009-09-07T01:28:38Z</dcterms:modified>
  <cp:revision>4</cp:revision>
  <dc:subject/>
  <dc:title>Álbum de fotografias</dc:title>
</cp:coreProperties>
</file>