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596-A1F2-4BF5-9BD8-98349049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B6E-8747-4B6A-9891-FEB5F0D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098-4599-467F-B5DE-EE84A8B5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B94-2F48-4CC2-8D70-4D5E357D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414-71C1-44D2-AD39-530D3F45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123-0EE3-4F8D-A453-0C18A04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222-6EC6-40B0-A975-9B4EF227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370-5E94-47AF-9532-70A0F092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420-4D94-4260-B3FD-9D577BB6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E02-B983-46FC-8230-D2B644AA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6A3-C82E-4718-8A22-884C6B2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CF4-0B00-4987-9D7A-CDC4A07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C477-D21E-44A1-AC5A-2233956B32D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Arial"/>
              </a:rPr>
              <a:t>Las Reliquias de los A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Canción: Johnny Be Good (Chuck Ber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Sábado, 28 de Octubre de 2006"/>
          <p:cNvPicPr/>
          <p:nvPr/>
        </p:nvPicPr>
        <p:blipFill>
          <a:blip r:embed="rId2"/>
          <a:stretch/>
        </p:blipFill>
        <p:spPr>
          <a:xfrm>
            <a:off x="6072120" y="4857840"/>
            <a:ext cx="2000160" cy="139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ábado, 28 de Octubre de 2006"/>
          <p:cNvPicPr/>
          <p:nvPr/>
        </p:nvPicPr>
        <p:blipFill>
          <a:blip r:embed="rId2"/>
          <a:stretch/>
        </p:blipFill>
        <p:spPr>
          <a:xfrm>
            <a:off x="7786800" y="5786280"/>
            <a:ext cx="914400" cy="63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0:48:12Z</dcterms:created>
  <dc:creator>gv000148</dc:creator>
  <dc:description/>
  <dc:language>en-US</dc:language>
  <cp:lastModifiedBy>Fernando Ordóñez de la Piedra</cp:lastModifiedBy>
  <dcterms:modified xsi:type="dcterms:W3CDTF">2009-09-07T01:28:38Z</dcterms:modified>
  <cp:revision>4</cp:revision>
  <dc:subject/>
  <dc:title>Álbum de fotografias</dc:title>
</cp:coreProperties>
</file>