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4D7-3E46-4837-B7DE-18562DA7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FEEE-3559-41D5-B5C2-72DD4BD0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AD7-C9BF-4A47-AB37-F3F77EB2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E3F-3BB4-404E-AA2A-F7FE5A80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0D2-EAF4-4AF2-A71A-A146B479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FA0-A25C-4763-AAED-FC1C879F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45B-9A4A-453A-A1FE-8B516A39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7D7-7BB3-4B34-B8F7-1A481A49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67A2-D301-4A60-B942-964812C9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75D-EB40-48BE-B2EA-68513E40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41A6-DF57-454F-9252-FDBA6454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D9A9-AE5B-4412-8BB9-8B6E3F8B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8304-8DD7-4229-BD3E-9E329FC452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FOTOHU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85920" y="0"/>
            <a:ext cx="6572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644480" y="0"/>
            <a:ext cx="58532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65240" y="0"/>
            <a:ext cx="8812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20760" y="0"/>
            <a:ext cx="85024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98360"/>
            <a:ext cx="9144000" cy="646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649520" y="0"/>
            <a:ext cx="5843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55520" y="0"/>
            <a:ext cx="7031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062000" y="0"/>
            <a:ext cx="7020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65040" y="0"/>
            <a:ext cx="8412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42800" y="0"/>
            <a:ext cx="8258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027160" y="0"/>
            <a:ext cx="5087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24000" y="0"/>
            <a:ext cx="8494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230480" y="0"/>
            <a:ext cx="668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54080" y="0"/>
            <a:ext cx="8835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23960" y="0"/>
            <a:ext cx="7694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698480" y="0"/>
            <a:ext cx="574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50920" y="0"/>
            <a:ext cx="8640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82640" y="0"/>
            <a:ext cx="7577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305000" y="0"/>
            <a:ext cx="6532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08080" y="0"/>
            <a:ext cx="8727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20:51:32Z</dcterms:created>
  <dc:creator>Susana Ramírez Verano</dc:creator>
  <dc:description/>
  <dc:language>en-US</dc:language>
  <cp:lastModifiedBy>Ana</cp:lastModifiedBy>
  <dcterms:modified xsi:type="dcterms:W3CDTF">2014-11-22T03:08:39Z</dcterms:modified>
  <cp:revision>2</cp:revision>
  <dc:subject/>
  <dc:title>FOTOHUMOR</dc:title>
</cp:coreProperties>
</file>