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79B-3019-43FF-91FA-C70F39AB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F0E-5991-465E-842C-F9B6968A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353-F464-43DB-85D9-5548DD00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419-4247-4D6D-914C-3F578E22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486-C952-4987-B327-552A18AD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338-F950-4447-8C46-AB147779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8B5-302A-4586-B63E-1EA49FB2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45A-5087-4483-A750-69FB5BC7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56E-5022-41BA-8EFF-F576BF05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383-4409-4551-8BA7-AD1C649E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23A-B383-4505-9C32-2D4DDFB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6DC-6C6C-4B97-BF95-5BAAEEB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0FF7-765E-4076-8348-50D769E9E4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FOTOHU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85920" y="0"/>
            <a:ext cx="6572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44480" y="0"/>
            <a:ext cx="5853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0"/>
            <a:ext cx="8812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0760" y="0"/>
            <a:ext cx="8502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98360"/>
            <a:ext cx="9144000" cy="646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649520" y="0"/>
            <a:ext cx="5843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55520" y="0"/>
            <a:ext cx="7031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062000" y="0"/>
            <a:ext cx="7020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5040" y="0"/>
            <a:ext cx="8412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42800" y="0"/>
            <a:ext cx="8258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27160" y="0"/>
            <a:ext cx="5087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24000" y="0"/>
            <a:ext cx="8494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30480" y="0"/>
            <a:ext cx="668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54080" y="0"/>
            <a:ext cx="8835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23960" y="0"/>
            <a:ext cx="7694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698480" y="0"/>
            <a:ext cx="574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0"/>
            <a:ext cx="8640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82640" y="0"/>
            <a:ext cx="7577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305000" y="0"/>
            <a:ext cx="6532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08080" y="0"/>
            <a:ext cx="8727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20:51:32Z</dcterms:created>
  <dc:creator>Susana Ramírez Verano</dc:creator>
  <dc:description/>
  <dc:language>en-US</dc:language>
  <cp:lastModifiedBy>Ana</cp:lastModifiedBy>
  <dcterms:modified xsi:type="dcterms:W3CDTF">2014-11-22T03:08:39Z</dcterms:modified>
  <cp:revision>2</cp:revision>
  <dc:subject/>
  <dc:title>FOTOHUMOR</dc:title>
</cp:coreProperties>
</file>