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29.jpeg" ContentType="image/jpeg"/>
  <Override PartName="/ppt/media/alberto%20cortes%20-%20facundo%20cabral%20-%20no%20me%20llames%20extranjero2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C1A-090B-41AE-856A-83D2139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96D-A75D-433E-80F0-1168565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D9A-11E8-42EC-A5D5-65D45742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7A9-7537-47B7-8D29-EA319DC1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5F0-C47F-4183-943C-6984BE8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41E-C9CD-4E38-AC0E-6708CCF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DC5-FD67-4E14-99C5-7C7BD3C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49A-732D-48B9-934D-5FF9B45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5A9-CB2E-45BA-91A8-9B04A7F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A5C-75D8-494B-B4C5-97AADC8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1EA-86B0-4BBE-B7BD-0F64E60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838-A801-441D-AB96-5031266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AE23-0121-405D-93C9-8020A7DF38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alberto%20cortes%20-%20facundo%20cabral%20-%20no%20me%20llames%20extranjero2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No me llames extranjer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Facundo Cabral- Alberto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65800" y="1341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AFAEL A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anu"/>
          <p:cNvPicPr/>
          <p:nvPr/>
        </p:nvPicPr>
        <p:blipFill>
          <a:blip r:embed="rId1"/>
          <a:stretch/>
        </p:blipFill>
        <p:spPr>
          <a:xfrm>
            <a:off x="1979640" y="2637000"/>
            <a:ext cx="5545080" cy="369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mor,rafael"/>
          <p:cNvPicPr/>
          <p:nvPr/>
        </p:nvPicPr>
        <p:blipFill>
          <a:blip r:embed="rId2"/>
          <a:stretch/>
        </p:blipFill>
        <p:spPr>
          <a:xfrm>
            <a:off x="0" y="981000"/>
            <a:ext cx="1847880" cy="187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lberto3"/>
          <p:cNvPicPr/>
          <p:nvPr/>
        </p:nvPicPr>
        <p:blipFill>
          <a:blip r:embed="rId3"/>
          <a:stretch/>
        </p:blipFill>
        <p:spPr>
          <a:xfrm>
            <a:off x="7596360" y="981000"/>
            <a:ext cx="1547640" cy="1509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7299000" y="62164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uses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fa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  <p:sndAc>
      <p:stSnd>
        <p:snd r:embed="rId4" name="alberto%20cortes%20-%20facundo%20cabral%20-%20no%20me%20llames%20extranjero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3103310 copia"/>
          <p:cNvPicPr/>
          <p:nvPr/>
        </p:nvPicPr>
        <p:blipFill>
          <a:blip r:embed="rId1"/>
          <a:stretch/>
        </p:blipFill>
        <p:spPr>
          <a:xfrm>
            <a:off x="0" y="0"/>
            <a:ext cx="9540720" cy="7029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137400" y="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que nos sueñan iguales las madres contra su p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SC05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85760" y="6537240"/>
            <a:ext cx="56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ni pienses de donde veng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rostros27"/>
          <p:cNvPicPr/>
          <p:nvPr/>
        </p:nvPicPr>
        <p:blipFill>
          <a:blip r:embed="rId1"/>
          <a:stretch/>
        </p:blipFill>
        <p:spPr>
          <a:xfrm>
            <a:off x="0" y="-243000"/>
            <a:ext cx="9396360" cy="7751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0" y="649116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jor saber donde vamos, adonde nos lleva el tiemp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rumbling real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183960" y="6491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porque tu pan y tu fu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nino001"/>
          <p:cNvPicPr/>
          <p:nvPr/>
        </p:nvPicPr>
        <p:blipFill>
          <a:blip r:embed="rId1"/>
          <a:stretch/>
        </p:blipFill>
        <p:spPr>
          <a:xfrm>
            <a:off x="395280" y="-320760"/>
            <a:ext cx="8424720" cy="8340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829800" y="6537240"/>
            <a:ext cx="49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man mi hambre y frío, y me cobija tu tech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algache girls waiting for fish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1695960" y="6381720"/>
            <a:ext cx="53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tu trigo es como mi trigo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0039968"/>
          <p:cNvPicPr/>
          <p:nvPr/>
        </p:nvPicPr>
        <p:blipFill>
          <a:blip r:embed="rId1"/>
          <a:srcRect l="0" t="14388" r="0" b="9822"/>
          <a:stretch/>
        </p:blipFill>
        <p:spPr>
          <a:xfrm>
            <a:off x="0" y="0"/>
            <a:ext cx="9540720" cy="6883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1694880" y="653724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 mano como la mía, tu fuego como mi fueg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8ui"/>
          <p:cNvPicPr/>
          <p:nvPr/>
        </p:nvPicPr>
        <p:blipFill>
          <a:blip r:embed="rId1"/>
          <a:stretch/>
        </p:blipFill>
        <p:spPr>
          <a:xfrm>
            <a:off x="0" y="0"/>
            <a:ext cx="9612360" cy="69073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7" descr="image001%2E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1476360" y="260280"/>
              <a:ext cx="62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cc3300"/>
                  </a:solidFill>
                  <a:latin typeface="Arial"/>
                </a:rPr>
                <a:t>ANTES DE QUEJARTE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9"/>
          <p:cNvSpPr/>
          <p:nvPr/>
        </p:nvSpPr>
        <p:spPr>
          <a:xfrm>
            <a:off x="1194120" y="649116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l hambre no avisa nunca, vive cambiando de du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frica"/>
          <p:cNvPicPr/>
          <p:nvPr/>
        </p:nvPicPr>
        <p:blipFill>
          <a:blip r:embed="rId1"/>
          <a:stretch/>
        </p:blipFill>
        <p:spPr>
          <a:xfrm>
            <a:off x="-684360" y="-49320"/>
            <a:ext cx="1051272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40 CircleofLove"/>
          <p:cNvPicPr/>
          <p:nvPr/>
        </p:nvPicPr>
        <p:blipFill>
          <a:blip r:embed="rId1"/>
          <a:stretch/>
        </p:blipFill>
        <p:spPr>
          <a:xfrm>
            <a:off x="-324000" y="-33480"/>
            <a:ext cx="10152360" cy="6972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lberto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anu00"/>
          <p:cNvPicPr/>
          <p:nvPr/>
        </p:nvPicPr>
        <p:blipFill>
          <a:blip r:embed="rId1"/>
          <a:stretch/>
        </p:blipFill>
        <p:spPr>
          <a:xfrm>
            <a:off x="0" y="0"/>
            <a:ext cx="10260000" cy="6897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5400" y="649116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me llamas extranjero porque me trajo un cami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lide2xx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0"/>
            <a:ext cx="9144000" cy="65977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61760" y="6165720"/>
            <a:ext cx="598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que nací en otro pueblo, porque conozco otros ma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02880" y="64911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un día zarpé de otro puer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dios3"/>
          <p:cNvPicPr/>
          <p:nvPr/>
        </p:nvPicPr>
        <p:blipFill>
          <a:blip r:embed="rId1"/>
          <a:stretch/>
        </p:blipFill>
        <p:spPr>
          <a:xfrm>
            <a:off x="0" y="-1539720"/>
            <a:ext cx="9448920" cy="1142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75560" y="6216480"/>
            <a:ext cx="55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siempre quedan iguales en el adiós los pañuel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17760" y="649116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pupilas borrosas de los que dejamos l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4772730 copia"/>
          <p:cNvPicPr/>
          <p:nvPr/>
        </p:nvPicPr>
        <p:blipFill>
          <a:blip r:embed="rId1"/>
          <a:stretch/>
        </p:blipFill>
        <p:spPr>
          <a:xfrm>
            <a:off x="0" y="0"/>
            <a:ext cx="10260000" cy="6926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345040" y="6537240"/>
            <a:ext cx="51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el amor de la que sueña con el día del regres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18120" y="623736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migos que nos nombran y son iguales los b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ofert80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1339560" y="653724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mismo cansancio viejo que viene arrastrando el homb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1336320" y="621648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traemos el mismo grit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anoA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192680" y="5950080"/>
            <a:ext cx="63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de el fondo de los tiempos, cuando no existían frontera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338120" y="64911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s que vinieran ellos, los que dividen y mat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rostros"/>
          <p:cNvPicPr/>
          <p:nvPr/>
        </p:nvPicPr>
        <p:blipFill>
          <a:blip r:embed="rId1"/>
          <a:stretch/>
        </p:blipFill>
        <p:spPr>
          <a:xfrm>
            <a:off x="-541440" y="20520"/>
            <a:ext cx="10298160" cy="6864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625400" y="649116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los son los que inventaron  esta palabra: extran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626480" y="6165720"/>
            <a:ext cx="67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que roban, los que mienten, los que venden nuestros s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rostros12"/>
          <p:cNvPicPr/>
          <p:nvPr/>
        </p:nvPicPr>
        <p:blipFill>
          <a:blip r:embed="rId1"/>
          <a:stretch/>
        </p:blipFill>
        <p:spPr>
          <a:xfrm>
            <a:off x="0" y="0"/>
            <a:ext cx="9325080" cy="7661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553040" y="653724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que es una palabra triste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rostros25"/>
          <p:cNvPicPr/>
          <p:nvPr/>
        </p:nvPicPr>
        <p:blipFill>
          <a:blip r:embed="rId1"/>
          <a:stretch/>
        </p:blipFill>
        <p:spPr>
          <a:xfrm>
            <a:off x="0" y="0"/>
            <a:ext cx="10404360" cy="6932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5"/>
          <p:cNvSpPr/>
          <p:nvPr/>
        </p:nvSpPr>
        <p:spPr>
          <a:xfrm>
            <a:off x="2923200" y="0"/>
            <a:ext cx="58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es una palabra helada, huele a olvido y a destier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ino12"/>
          <p:cNvPicPr/>
          <p:nvPr/>
        </p:nvPicPr>
        <p:blipFill>
          <a:blip r:embed="rId1"/>
          <a:stretch/>
        </p:blipFill>
        <p:spPr>
          <a:xfrm>
            <a:off x="900000" y="-1755720"/>
            <a:ext cx="7782120" cy="953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5870880" y="0"/>
            <a:ext cx="271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ra tu niño y el mío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871600" y="54936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o corren de la 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sta el final del send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lbertoHome1"/>
          <p:cNvPicPr/>
          <p:nvPr/>
        </p:nvPicPr>
        <p:blipFill>
          <a:blip r:embed="rId1"/>
          <a:stretch/>
        </p:blipFill>
        <p:spPr>
          <a:xfrm>
            <a:off x="1763640" y="0"/>
            <a:ext cx="5373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The girls in crowds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986120" y="6537240"/>
            <a:ext cx="54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ellos no saben de idioma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59"/>
          <p:cNvPicPr/>
          <p:nvPr/>
        </p:nvPicPr>
        <p:blipFill>
          <a:blip r:embed="rId1"/>
          <a:stretch/>
        </p:blipFill>
        <p:spPr>
          <a:xfrm>
            <a:off x="-612720" y="0"/>
            <a:ext cx="10333080" cy="6883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698840" y="6216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ímites ni banderas, míralos se van al ciel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una risa paloma que los reúne en el v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viejos28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8626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400680" y="6491160"/>
            <a:ext cx="58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piensa en tu hermano y e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muertos"/>
          <p:cNvPicPr/>
          <p:nvPr/>
        </p:nvPicPr>
        <p:blipFill>
          <a:blip r:embed="rId1"/>
          <a:stretch/>
        </p:blipFill>
        <p:spPr>
          <a:xfrm>
            <a:off x="-828720" y="0"/>
            <a:ext cx="10188720" cy="6969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194120" y="649116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cuerpo lleno de balas, besando de muerte el suel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nu3"/>
          <p:cNvPicPr/>
          <p:nvPr/>
        </p:nvPicPr>
        <p:blipFill>
          <a:blip r:embed="rId1"/>
          <a:stretch/>
        </p:blipFill>
        <p:spPr>
          <a:xfrm>
            <a:off x="0" y="0"/>
            <a:ext cx="10620360" cy="6945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1769040" y="6537240"/>
            <a:ext cx="53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los no eran extranjeros, se conocían de siemp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manu54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698480" y="638172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la libertad eterna e igual de libres murieron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elguarda17"/>
          <p:cNvPicPr/>
          <p:nvPr/>
        </p:nvPicPr>
        <p:blipFill>
          <a:blip r:embed="rId1"/>
          <a:stretch/>
        </p:blipFill>
        <p:spPr>
          <a:xfrm>
            <a:off x="-973080" y="0"/>
            <a:ext cx="10296360" cy="7723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1552320" y="653724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mírame bien a los ojos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nino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760" y="649116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o más allá del odio, del egoísmo y el mie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novios4"/>
          <p:cNvPicPr/>
          <p:nvPr/>
        </p:nvPicPr>
        <p:blipFill>
          <a:blip r:embed="rId1"/>
          <a:stretch/>
        </p:blipFill>
        <p:spPr>
          <a:xfrm>
            <a:off x="-828720" y="-458640"/>
            <a:ext cx="10441080" cy="8170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16320" y="6491160"/>
            <a:ext cx="55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verás que soy un hombre, no puedo ser extranj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comunion10"/>
          <p:cNvPicPr/>
          <p:nvPr/>
        </p:nvPicPr>
        <p:blipFill>
          <a:blip r:embed="rId1"/>
          <a:stretch/>
        </p:blipFill>
        <p:spPr>
          <a:xfrm>
            <a:off x="755640" y="-387360"/>
            <a:ext cx="7500960" cy="928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6355800" y="281160"/>
            <a:ext cx="23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Te animar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llamarle extranje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020000" y="2637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880" y="404640"/>
            <a:ext cx="38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s al más pequ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mi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rm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os, a Mí me lo hac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anu33"/>
          <p:cNvPicPr/>
          <p:nvPr/>
        </p:nvPicPr>
        <p:blipFill>
          <a:blip r:embed="rId1"/>
          <a:stretch/>
        </p:blipFill>
        <p:spPr>
          <a:xfrm>
            <a:off x="-1116000" y="0"/>
            <a:ext cx="1253016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480" y="649116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me llames extranjero, porque haya nacido lej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nopal01"/>
          <p:cNvPicPr/>
          <p:nvPr/>
        </p:nvPicPr>
        <p:blipFill>
          <a:blip r:embed="rId1"/>
          <a:stretch/>
        </p:blipFill>
        <p:spPr>
          <a:xfrm>
            <a:off x="0" y="0"/>
            <a:ext cx="9468000" cy="6923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5929200" y="3524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¿Y a El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020000" y="1989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971640" y="674640"/>
            <a:ext cx="7180200" cy="5580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AMIG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Donde quieras que estén, espero que no cierren sus ojos a esta rea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Quizás no es mucho lo que individualmente podamos hacer, pero para poder cambiar el mundo, debemos empezar a cambiar nos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No derrames el agua, no gastes tu dinero en lo que no s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CR" sz="1800" spc="-1" strike="noStrike">
                <a:solidFill>
                  <a:srgbClr val="990000"/>
                </a:solidFill>
                <a:latin typeface="Arial"/>
              </a:rPr>
              <a:t>Allí donde tú vives hay muchos que te necesitan: no los olvides, porque es el segundo mandamiento mas 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CR" sz="1800" spc="-1" strike="noStrike">
                <a:solidFill>
                  <a:srgbClr val="ff0000"/>
                </a:solidFill>
                <a:latin typeface="Arial"/>
              </a:rPr>
              <a:t>AMARÁS A TU PROJIMO COMO A TI MISMO”. 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020000" y="621648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c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a ahora el ra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palomas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76320">
            <a:solidFill>
              <a:srgbClr val="339933"/>
            </a:solidFill>
            <a:miter/>
          </a:ln>
        </p:spPr>
      </p:pic>
      <p:sp>
        <p:nvSpPr>
          <p:cNvPr id="215" name="WordArt 3"/>
          <p:cNvSpPr txBox="1"/>
          <p:nvPr/>
        </p:nvSpPr>
        <p:spPr>
          <a:xfrm>
            <a:off x="1219320" y="990720"/>
            <a:ext cx="4267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me llames extranjero…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627280" y="5238720"/>
            <a:ext cx="407988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¡Llámame hermano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anu0"/>
          <p:cNvPicPr/>
          <p:nvPr/>
        </p:nvPicPr>
        <p:blipFill>
          <a:blip r:embed="rId1"/>
          <a:stretch/>
        </p:blipFill>
        <p:spPr>
          <a:xfrm>
            <a:off x="-252360" y="189000"/>
            <a:ext cx="9753480" cy="6505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90480" y="649116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orque tenga otro nombre la tierra de donde ve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014449-001"/>
          <p:cNvPicPr/>
          <p:nvPr/>
        </p:nvPicPr>
        <p:blipFill>
          <a:blip r:embed="rId1"/>
          <a:srcRect l="0" t="8008" r="0" b="0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93400" y="649116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, porque fue distinto el s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"/>
          <p:cNvPicPr/>
          <p:nvPr/>
        </p:nvPicPr>
        <p:blipFill>
          <a:blip r:embed="rId1"/>
          <a:stretch/>
        </p:blipFill>
        <p:spPr>
          <a:xfrm>
            <a:off x="1332000" y="0"/>
            <a:ext cx="6662520" cy="7461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20" y="6491160"/>
            <a:ext cx="57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porque acunó mi infancia otro idioma de los cuen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nino7"/>
          <p:cNvPicPr/>
          <p:nvPr/>
        </p:nvPicPr>
        <p:blipFill>
          <a:blip r:embed="rId1"/>
          <a:stretch/>
        </p:blipFill>
        <p:spPr>
          <a:xfrm>
            <a:off x="-900000" y="-243000"/>
            <a:ext cx="10944000" cy="729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256320" y="653724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me llames extranjero si en el amor de una madre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660356 cop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72320" y="638172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uvimos la misma luz en el canto y en el beso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1:58:06Z</dcterms:created>
  <dc:creator>Gonzalo Perez</dc:creator>
  <dc:description/>
  <dc:language>en-US</dc:language>
  <cp:lastModifiedBy>WinuE</cp:lastModifiedBy>
  <dcterms:modified xsi:type="dcterms:W3CDTF">2008-07-26T18:02:17Z</dcterms:modified>
  <cp:revision>10</cp:revision>
  <dc:subject/>
  <dc:title>“No me llames extranjero”</dc:title>
</cp:coreProperties>
</file>