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3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ANDRE%20RIEU%20-QUE%20SERA%20SERA-%20M.B.wav" ContentType="audio/x-wav"/>
  <Override PartName="/ppt/media/image8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C153-672F-4BA3-B326-0B98A725A4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9CA-23D7-4B16-A880-F7BD63B429E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8B9-3AF7-461E-B0AF-E9D7F2A7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824-2998-48FE-B657-024D5F4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680C-C1B2-444D-886E-C9E237D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7AF5-DC49-4A5B-B1E3-487830B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32F8-33B8-4507-B05B-E5AF52A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7BD18-119A-4FAD-B9F7-C143C29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4393F-8E6B-4E3C-92FF-2CCEDBA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CC174-C9F8-44DF-BCC9-EB61248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0C684-656E-4F60-B5E5-FB60737F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1A93-426D-498A-82F4-72E30BA1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0B2FA-E225-41A1-BC6B-4535B8F9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1D8D9-4541-4CDC-883E-AF5413B5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848-3955-4B9A-92E6-C041D4E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1236C-B140-4560-88D2-1C0BB85B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F3130-8984-4DBF-9EA1-3B1C3FE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A65E2-E3EE-4B82-8895-A2A2392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6703E-46A9-4FDD-85B0-9185098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3B656-C73C-4706-93A9-5446599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CEA85-D14D-4117-BC4D-A8E237F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6D739-5E47-49A5-839E-D483F2B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315E5-1732-415D-B834-9AA1933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303B0-F019-43EF-BAC1-372466CA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A0CF6-5BD8-4475-98B5-DACED5CF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062-D2C1-4F90-9B3D-77DB2A97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93975-588F-4E0A-B954-8AE64E77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1C155-6979-49B1-8C9F-089918C0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DB45C-B676-4729-8CEB-1EEA4C1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B3091-045B-44D0-BED2-FD58F7F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CC46B-C607-4644-99C6-8A40E0D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04548-9246-4EDB-ACD8-9593631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EB9BD-FD37-445C-A95F-B176713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1514D-2F6A-46F5-8ACC-7BB24DC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8E15-2C1C-428D-8BEC-655C519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B061-615B-49E9-A430-8321DF8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B1DD-5D99-49FF-ACF7-E83B2DF0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E347-7DEB-403E-AF63-85C57977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262F7-0CA4-4973-876A-7CDCE6FD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F8CBF-B391-4D83-AF63-A33AA3D2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4B491-3E8F-488E-ACF6-C82C0A94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C68FC-08C0-4D30-A754-97EE8BB2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66D1E-7B74-45A9-87E6-F03E049A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FB785-CF29-4E35-A5BE-B0A47E9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5C512-1AF1-4878-B284-3A1EEE8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B16E7-4841-45B5-9947-13C37E7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C6627-2638-4977-A124-8B70436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ED0-9B89-4207-8A12-BB92F576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C6DDC-77BB-404A-89AC-434EA89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18E69-0425-4089-AAC9-56669CBD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351D-9251-444B-9A62-46424AB1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989E4-42E6-4B53-9FB4-305A868C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96E98-2940-41D9-9FF7-E70F31F1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FDDA-8C19-464D-8A90-105D443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6E84-192B-440B-9CF9-58EFB219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BED-3BD3-45EE-9DD7-FE99C8D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8046-C12E-440B-AB92-A9E89BF4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64AD-9EDC-4C59-AF08-CBA7746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F40-4BAC-4C8E-913E-85EAB378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430-5C74-48D9-A3B2-C8F61A0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CF4-906D-41ED-9BE4-7892B9B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648-FF1B-4842-9C7C-9D8328B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5087-772E-40D2-9A45-07162E23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5AC7-CF49-4FA6-B93A-255B2C6D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704C-0CD9-4E2A-8658-2E6BDEFE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1C6A-77CB-4D6E-B23F-8FA3824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FABD-F34E-4822-99E0-0EAD4F9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1AB2-8056-4DF9-B174-4F188FDF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C650-626A-4D53-A4A8-9E4E718E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FC3-F503-4812-B077-B92F2495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E6930-EBC6-44F6-8A1E-1257AB20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84E4-D633-4E99-8767-33FC4734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6473-B6B6-4E52-BFE2-8E2B518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6D77-E106-4548-91C4-4D54220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A259-E9CC-418D-9E05-475A1EE9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E9FA-F0B8-4734-82EA-4D702F7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D53D-5713-424C-90DE-18B7B805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0123-4D89-48C6-9A60-F1317B1B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0471-3A44-4FBB-9198-84101BD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D934-53DA-47A5-A7E5-ADD7DAEA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E6C-92A2-4931-8AB7-B98C62E5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DABD-F880-4901-B1B9-EBA02F5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7EE3-DD00-4057-B265-7C260A3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6CB2-9BDF-40A0-926A-0A1E170A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0358-B0D2-4BD2-ABA0-684BCB2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4385-4185-4255-A452-39E975F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3944-3590-4439-94D8-EDA0A18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5236-2B4B-4D6D-A11C-D36E03D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6486-DE6D-4848-8FA9-76FD9930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B198-CAA2-4951-95AE-D202B91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7EF2-91B5-43BC-A66D-B082B390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2D4-0BAA-451C-A842-5ACC329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37F6-41CD-46C3-8F5A-9AD5D960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0172C-6E37-44D2-8B45-01E5E71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3F36-C6FE-425F-ABC0-966F1E62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BA111-ADCE-46D8-973D-C20E0A29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B5F3-687C-4B49-8C28-2FA438DC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A3E0-7B73-4BFB-B4CD-26607F8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2FE8-FFA5-4AA9-8765-BC4E30D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DCAF-ED8B-4F8D-A42F-5C72FE1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5015-1488-4A49-A408-B631C40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4C31-E8C7-4B15-8EC6-097D9CF7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374-6233-42DD-B2A5-DB3A299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7350-0B65-4642-811B-8A8C7CA4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143A-566C-4CC3-B741-0C318D76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6E58-EBBA-4787-A25A-449EB45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4891-B442-48E6-B6AE-B2B63BBA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92D5-5D4F-4AB9-A230-6A9444E1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56C75-556A-4FE5-B1BA-0871E58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C1D0-1077-49CD-9F4C-E6410840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1D1B-4455-45DF-AAE5-ABF4B1DA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99D1-39C5-4B13-B9E9-29F1616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6528-904A-432D-9B76-06BFE03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E03-7727-432F-820D-0357FBF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CFE55-136A-4D2F-8BC4-D138DE66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E191-5C74-4D95-9037-8099B02F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8B11-291D-43D6-9170-25EE9777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1F8C-8474-41CF-8621-816E1484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C5AD-63BF-4396-8470-B357109D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B3FC-AF93-4C22-A41B-B1EB89B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BD65B-2DDE-49B8-A674-A771DDE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2CF5-CA67-4A5C-8CAD-AE444C1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D4B3-9C5A-423D-A372-D869366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C6505-D295-4C63-B718-41CA56E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839-DC6D-48C9-A590-33655A1A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E981-2F55-45C3-AC59-4788061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842F-B346-4ADA-A8FF-B306194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18DE-A464-4252-8060-E5722AB6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7030-8527-428F-9535-9E75642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A5C8-ED8E-43BD-87B4-D0C35A35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507EE-ECC3-4E18-ABB4-7E4C9234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497DE-A956-4A17-893A-CF6DF76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AE1AE-C1EF-49BE-98AB-899B5AE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09AAF-97C4-477C-9C9C-6445F009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A6B0-73A7-4A1D-AD4A-F7AA03F5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235-FF1A-4973-87AE-CB4D03C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A452F-4943-45A1-BEDE-4C1609B1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E1A5-8BA2-409A-92AB-8B95FB3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250C-F195-483D-A1EC-8C1D2D8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0DB3-8C7D-411B-98A5-F853EA6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4469-F9C2-4446-9E8D-636629A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9C8D-EFB3-466B-AEE1-B15A6ED4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C81F-5AF9-43BD-BC30-095FC008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D3084-794F-4458-9286-68CCB2BC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CF97-5BA0-4ECC-A8FF-967B633F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AD263-C5E4-4ECE-876F-BE43410F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823-ADD8-485D-92FE-E93503FFAA3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C552-3900-4874-BF94-4EB6B194969E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9F2-C8D8-4EFA-8875-EE753072A45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460B-A8BA-4C86-9B8E-FE00B1961C92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C2F3-3D18-46A9-AE91-1A0C6B5FBD6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329-2504-4941-963F-8016DD10047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7F1E-BA2B-4A85-8160-6DD2F1F8C28D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00A-6EB9-480A-835D-89936B1E3D7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5CD-A2EC-40E8-B55C-9941D4F2E62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5771-A637-485E-A3CD-0C512F69472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06C5-C7EA-4F89-BF1C-7019B13130F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3A1-18ED-4AF7-A7C7-D481CCF5F862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RIEU%20-QUE%20SERA%20SERA-%20M.B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95680" y="162828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6000" spc="-1" strike="noStrike">
                <a:solidFill>
                  <a:srgbClr val="ffff66"/>
                </a:solidFill>
                <a:latin typeface="BlackChancery"/>
              </a:rPr>
              <a:t>Alberto Dur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788000" y="2565000"/>
            <a:ext cx="435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cu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66"/>
                </a:solidFill>
                <a:latin typeface="BlackChancery"/>
              </a:rPr>
              <a:t>cuadr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http://www.museodelprado.es/uploads/pics/Durero.jpg"/>
          <p:cNvPicPr/>
          <p:nvPr/>
        </p:nvPicPr>
        <p:blipFill>
          <a:blip r:embed="rId1"/>
          <a:stretch/>
        </p:blipFill>
        <p:spPr>
          <a:xfrm>
            <a:off x="395280" y="476280"/>
            <a:ext cx="4610160" cy="603900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p:transition spd="slow" advTm="8000">
    <p:wipe dir="d"/>
    <p:sndAc>
      <p:stSnd>
        <p:snd r:embed="rId2" name="ANDRE%20RIEU%20-QUE%20SERA%20SERA-%20M.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2"/>
          <p:cNvGraphicFramePr/>
          <p:nvPr/>
        </p:nvGraphicFramePr>
        <p:xfrm>
          <a:off x="2286000" y="990720"/>
          <a:ext cx="464832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4648320" cy="3985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2" name="Rectangle 4"/>
          <p:cNvSpPr/>
          <p:nvPr/>
        </p:nvSpPr>
        <p:spPr>
          <a:xfrm>
            <a:off x="1036800" y="5610240"/>
            <a:ext cx="70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los campos centrale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2"/>
          <p:cNvGraphicFramePr/>
          <p:nvPr/>
        </p:nvGraphicFramePr>
        <p:xfrm>
          <a:off x="4629240" y="1197000"/>
          <a:ext cx="421956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9240" y="1197000"/>
                    <a:ext cx="4219560" cy="35272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5" name="Text Box 3"/>
          <p:cNvSpPr/>
          <p:nvPr/>
        </p:nvSpPr>
        <p:spPr>
          <a:xfrm>
            <a:off x="1979640" y="5516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 De los extremos medios  34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Object 2"/>
          <p:cNvGraphicFramePr/>
          <p:nvPr/>
        </p:nvGraphicFramePr>
        <p:xfrm>
          <a:off x="324000" y="1206360"/>
          <a:ext cx="4032000" cy="35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206360"/>
                    <a:ext cx="4032000" cy="3517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1066680" y="1447920"/>
          <a:ext cx="3276720" cy="281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447920"/>
                    <a:ext cx="3276720" cy="28112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4648320" y="1447920"/>
          <a:ext cx="3276360" cy="2809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447920"/>
                    <a:ext cx="3276360" cy="28098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2" name="Text Box 4"/>
          <p:cNvSpPr/>
          <p:nvPr/>
        </p:nvSpPr>
        <p:spPr>
          <a:xfrm>
            <a:off x="611280" y="501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ambién se cumple para las diagonales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4d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611280" y="1066680"/>
          <a:ext cx="38844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66680"/>
                    <a:ext cx="3884400" cy="33321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5" name="Object 3"/>
          <p:cNvGraphicFramePr/>
          <p:nvPr/>
        </p:nvGraphicFramePr>
        <p:xfrm>
          <a:off x="4932360" y="1125360"/>
          <a:ext cx="3808440" cy="3286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125360"/>
                    <a:ext cx="3808440" cy="32864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7" name="Text Box 4"/>
          <p:cNvSpPr/>
          <p:nvPr/>
        </p:nvSpPr>
        <p:spPr>
          <a:xfrm>
            <a:off x="1979640" y="5157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así siempre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: ¡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4140360" y="1413000"/>
          <a:ext cx="4608360" cy="4176720"/>
        </p:xfrm>
        <a:graphic>
          <a:graphicData uri="http://schemas.openxmlformats.org/drawingml/2006/table">
            <a:tbl>
              <a:tblPr/>
              <a:tblGrid>
                <a:gridCol w="1152360"/>
                <a:gridCol w="1150920"/>
                <a:gridCol w="1152720"/>
                <a:gridCol w="115236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3 Rectángulo"/>
          <p:cNvSpPr/>
          <p:nvPr/>
        </p:nvSpPr>
        <p:spPr>
          <a:xfrm>
            <a:off x="250920" y="476280"/>
            <a:ext cx="3744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creó este cuadrado en </a:t>
            </a: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15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de-AT" sz="2400" spc="-1" strike="noStrike">
                <a:solidFill>
                  <a:srgbClr val="7030a0"/>
                </a:solidFill>
                <a:latin typeface="Rockwell Extra Bold"/>
                <a:ea typeface="Aharoni"/>
              </a:rPr>
              <a:t>C</a:t>
            </a:r>
            <a:r>
              <a:rPr b="1" lang="de-AT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e cuadrado es la 3ª letra del alfabeto y...la </a:t>
            </a:r>
            <a:r>
              <a:rPr b="1" lang="de-AT" sz="2400" spc="-1" strike="noStrike">
                <a:solidFill>
                  <a:srgbClr val="7030a0"/>
                </a:solidFill>
                <a:latin typeface="Rockwell Extra Bold"/>
              </a:rPr>
              <a:t>D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de Durero es la 4ª, entonces cuando unimos los dos números 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               </a:t>
            </a:r>
            <a:r>
              <a:rPr b="1" lang="de-AT" sz="2400" spc="-1" strike="noStrike">
                <a:solidFill>
                  <a:srgbClr val="ff5050"/>
                </a:solidFill>
                <a:latin typeface="Times New Roman"/>
              </a:rPr>
              <a:t>¡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mo dato extra las dos cifras centrales de la última fila forman el año en que realizó la obra (151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Dürer-004"/>
          <p:cNvPicPr/>
          <p:nvPr/>
        </p:nvPicPr>
        <p:blipFill>
          <a:blip r:embed="rId1"/>
          <a:stretch/>
        </p:blipFill>
        <p:spPr>
          <a:xfrm>
            <a:off x="539640" y="404640"/>
            <a:ext cx="4418280" cy="60627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551" name="Text Box 3"/>
          <p:cNvSpPr/>
          <p:nvPr/>
        </p:nvSpPr>
        <p:spPr>
          <a:xfrm>
            <a:off x="5435640" y="1341360"/>
            <a:ext cx="29718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¡</a:t>
            </a:r>
            <a:r>
              <a:rPr b="1" lang="de-AT" sz="3200" spc="-1" strike="noStrike">
                <a:solidFill>
                  <a:srgbClr val="ff9900"/>
                </a:solidFill>
                <a:latin typeface="ChopinScript"/>
              </a:rPr>
              <a:t>¡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Genial </a:t>
            </a: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Durero estaba muy orgulloso de haber creado este perfecto cuad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 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¡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3 Rectángulo"/>
          <p:cNvSpPr/>
          <p:nvPr/>
        </p:nvSpPr>
        <p:spPr>
          <a:xfrm>
            <a:off x="5076720" y="508464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¡ </a:t>
            </a:r>
            <a:r>
              <a:rPr b="1" lang="de-AT" sz="3200" spc="-1" strike="noStrike">
                <a:solidFill>
                  <a:srgbClr val="ff9900"/>
                </a:solidFill>
                <a:latin typeface="BlackChancery"/>
              </a:rPr>
              <a:t>Como para no estarlo </a:t>
            </a:r>
            <a:r>
              <a:rPr b="0" lang="de-AT" sz="3200" spc="-1" strike="noStrike">
                <a:solidFill>
                  <a:srgbClr val="ff9900"/>
                </a:solidFill>
                <a:latin typeface="Bookman Old Style"/>
              </a:rPr>
              <a:t>!</a:t>
            </a:r>
            <a:r>
              <a:rPr b="1" lang="de-AT" sz="2800" spc="-1" strike="noStrike">
                <a:solidFill>
                  <a:srgbClr val="ff9900"/>
                </a:solidFill>
                <a:latin typeface="BlackChance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1 Rectángulo"/>
          <p:cNvSpPr/>
          <p:nvPr/>
        </p:nvSpPr>
        <p:spPr>
          <a:xfrm>
            <a:off x="468360" y="1628640"/>
            <a:ext cx="81374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berto Durero (1471-1528) se le considera el artista del Renacimiento más famoso de Alema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1514 creó un grabado de nombre "melancolía" que contiene su curioso cuadrado,  el primero publicado en Europ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urante el Renacimiento la figura del grabado melancólico se asoció a la genialidad y la creatividad del artis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2 Redondear rectángulo de esquina diagonal"/>
          <p:cNvSpPr/>
          <p:nvPr/>
        </p:nvSpPr>
        <p:spPr>
          <a:xfrm>
            <a:off x="324000" y="549360"/>
            <a:ext cx="8496000" cy="5759280"/>
          </a:xfrm>
          <a:custGeom>
            <a:avLst/>
            <a:gdLst>
              <a:gd name="textAreaLeft" fmla="*/ 280800 w 8496000"/>
              <a:gd name="textAreaRight" fmla="*/ 8215200 w 8496000"/>
              <a:gd name="textAreaTop" fmla="*/ 281160 h 5759280"/>
              <a:gd name="textAreaBottom" fmla="*/ 5478120 h 5759280"/>
            </a:gdLst>
            <a:ahLst/>
            <a:rect l="textAreaLeft" t="textAreaTop" r="textAreaRight" b="textAreaBottom"/>
            <a:pathLst>
              <a:path w="8496300" h="5759450">
                <a:moveTo>
                  <a:pt x="959928" y="0"/>
                </a:moveTo>
                <a:lnTo>
                  <a:pt x="8496300" y="0"/>
                </a:lnTo>
                <a:lnTo>
                  <a:pt x="8496300" y="4799522"/>
                </a:lnTo>
                <a:lnTo>
                  <a:pt x="8496300" y="4799522"/>
                </a:lnTo>
                <a:arcTo wR="959928" hR="959928" stAng="0" swAng="5400004"/>
                <a:lnTo>
                  <a:pt x="0" y="5759450"/>
                </a:lnTo>
                <a:lnTo>
                  <a:pt x="0" y="959928"/>
                </a:lnTo>
                <a:lnTo>
                  <a:pt x="0" y="959928"/>
                </a:lnTo>
                <a:arcTo wR="959928" hR="959928" stAng="-10799996" swAng="5400004"/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CuadroTexto"/>
          <p:cNvSpPr/>
          <p:nvPr/>
        </p:nvSpPr>
        <p:spPr>
          <a:xfrm>
            <a:off x="6804000" y="5732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Haz Cl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ürer-00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333360"/>
            <a:ext cx="4849920" cy="621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06" name="Rectangle 4"/>
          <p:cNvSpPr/>
          <p:nvPr/>
        </p:nvSpPr>
        <p:spPr>
          <a:xfrm>
            <a:off x="5651640" y="836640"/>
            <a:ext cx="31906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n su grabado “Melancolía”, Alberto Durero talló un curioso cuadrado perfectamente  aritmé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Times New Roman"/>
              </a:rPr>
              <a:t>A la derecha, en la pared de la casa  lo puedes v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Rectángulo redondeado"/>
          <p:cNvSpPr/>
          <p:nvPr/>
        </p:nvSpPr>
        <p:spPr>
          <a:xfrm>
            <a:off x="4067280" y="907920"/>
            <a:ext cx="1152360" cy="122580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1225800"/>
              <a:gd name="textAreaBottom" fmla="*/ 1169640 h 1225800"/>
            </a:gdLst>
            <a:ahLst/>
            <a:rect l="textAreaLeft" t="textAreaTop" r="textAreaRight" b="textAreaBottom"/>
            <a:pathLst>
              <a:path w="21600" h="22976">
                <a:moveTo>
                  <a:pt x="3600" y="0"/>
                </a:moveTo>
                <a:arcTo wR="3600" hR="3600" stAng="16200000" swAng="-5400000"/>
                <a:lnTo>
                  <a:pt x="0" y="19376"/>
                </a:lnTo>
                <a:arcTo wR="3600" hR="3600" stAng="10800000" swAng="-5400000"/>
                <a:lnTo>
                  <a:pt x="18000" y="22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Dürer-002"/>
          <p:cNvPicPr/>
          <p:nvPr/>
        </p:nvPicPr>
        <p:blipFill>
          <a:blip r:embed="rId1"/>
          <a:stretch/>
        </p:blipFill>
        <p:spPr>
          <a:xfrm>
            <a:off x="684360" y="476280"/>
            <a:ext cx="279720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aphicFrame>
        <p:nvGraphicFramePr>
          <p:cNvPr id="509" name="Object 4"/>
          <p:cNvGraphicFramePr/>
          <p:nvPr/>
        </p:nvGraphicFramePr>
        <p:xfrm>
          <a:off x="684360" y="3789360"/>
          <a:ext cx="2895480" cy="248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789360"/>
                    <a:ext cx="289548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6"/>
          <p:cNvSpPr/>
          <p:nvPr/>
        </p:nvSpPr>
        <p:spPr>
          <a:xfrm>
            <a:off x="4356000" y="141300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mpliado sería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924360" y="29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¿Y qué tiene de curioso este cuadra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e estarás pregun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5 Rectángulo"/>
          <p:cNvSpPr/>
          <p:nvPr/>
        </p:nvSpPr>
        <p:spPr>
          <a:xfrm>
            <a:off x="5083560" y="45813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El número 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6 Rectángulo"/>
          <p:cNvSpPr/>
          <p:nvPr/>
        </p:nvSpPr>
        <p:spPr>
          <a:xfrm>
            <a:off x="399564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Este número es la suma de diferentes campos del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3" presetSubtype="1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5"/>
          <p:cNvGraphicFramePr/>
          <p:nvPr/>
        </p:nvGraphicFramePr>
        <p:xfrm>
          <a:off x="2340000" y="1052640"/>
          <a:ext cx="42670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267080" cy="36576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7" name="Rectangle 6"/>
          <p:cNvSpPr/>
          <p:nvPr/>
        </p:nvSpPr>
        <p:spPr>
          <a:xfrm>
            <a:off x="1613880" y="55897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todas las fil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Object 5"/>
          <p:cNvGraphicFramePr/>
          <p:nvPr/>
        </p:nvGraphicFramePr>
        <p:xfrm>
          <a:off x="2209680" y="1143000"/>
          <a:ext cx="419436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194360" cy="3598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1181520" y="56610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todas las columna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2195640" y="83664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836640"/>
                    <a:ext cx="4800600" cy="41180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3" name="Rectangle 4"/>
          <p:cNvSpPr/>
          <p:nvPr/>
        </p:nvSpPr>
        <p:spPr>
          <a:xfrm>
            <a:off x="1110240" y="544500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las cuatro esquin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6" name="Rectangle 4"/>
          <p:cNvSpPr/>
          <p:nvPr/>
        </p:nvSpPr>
        <p:spPr>
          <a:xfrm>
            <a:off x="611280" y="537372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Si desplazamos los campos en el sentido de las agujas del reloj, la suma sigue siendo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ffd1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Object 2"/>
          <p:cNvGraphicFramePr/>
          <p:nvPr/>
        </p:nvGraphicFramePr>
        <p:xfrm>
          <a:off x="2209680" y="838080"/>
          <a:ext cx="48769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876920" cy="41832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9" name="Rectangle 4"/>
          <p:cNvSpPr/>
          <p:nvPr/>
        </p:nvSpPr>
        <p:spPr>
          <a:xfrm>
            <a:off x="1547640" y="5661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i los desplazamos de nuevo, la suma es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12:59Z</dcterms:created>
  <dc:creator>LOLY PRIETO</dc:creator>
  <dc:description/>
  <dc:language>en-US</dc:language>
  <cp:lastModifiedBy>Fenomel</cp:lastModifiedBy>
  <dcterms:modified xsi:type="dcterms:W3CDTF">2012-03-11T00:36:19Z</dcterms:modified>
  <cp:revision>14</cp:revision>
  <dc:subject>EL CUADRADO MAGICO EN SU GRABADO MELANCOLIA</dc:subject>
  <dc:title>ALBERTO DURERO</dc:title>
</cp:coreProperties>
</file>