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3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ANDRE%20RIEU%20-QUE%20SERA%20SERA-%20M.B.wav" ContentType="audio/x-wav"/>
  <Override PartName="/ppt/media/image8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D3A3-E6B9-4B54-B166-C72749FB2C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69A4-1780-4663-BE0D-236E8B7DDD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7DC-8B14-44A8-BEEE-7676206B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C3D-017A-46C5-B2AA-30B4CD3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29D0D-FD90-48C2-8FD9-9F62D03C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DA71A-5CDD-452D-8085-3B00AB6B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1A7DA-254E-4237-A88B-77BE1E27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92992-9C46-4AB5-BF6E-1D35165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31042-CD7B-4CF5-BF26-10AEE86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FC667-D600-4CD9-B50F-6C40301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2865C-0F1E-4E29-8556-B6AF7B0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3D7E8-A375-48D1-B4C7-4C918A0C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826B9-AE4B-4CC8-B6AC-EFB4453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B0F48-8309-4685-B600-277A68FC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C6E-553F-414F-92CB-7567D55A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936BA-C65C-4480-B08F-2B027DF5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30847-1A5A-4F52-A6B7-5EA951E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CF617-8CEE-4805-B6F6-077D5262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79FB3-B561-4CB5-8C1D-4CDFF2C5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89316-466B-4FF8-85C2-6FF711B8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303DC-FFE5-4152-8D2C-247DD449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4D9DB-78A8-40B1-B0C6-1A9A1DA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B46C7-0FB1-4A1D-AF65-6E5CDEA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37F52-660B-47B5-8CEC-21E059FB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B0734-7F67-4638-81E7-1E24170E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B83-D49C-4D78-B74A-F04F687B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37CB7-EDE6-453D-ACB4-34D63825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EF460-2D6C-4636-A0F6-88FED260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6339B-6623-4FD8-B2E7-40256E7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E915-8CEB-4AF7-A8D1-82072BC5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021DF-88DF-4230-9FDC-56F4B55A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04B06-8060-450D-84E5-F039561C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DDC6A-74B6-4671-8B48-192102B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C5B82-CA37-4A50-B709-266CC16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347EF-C59E-40E9-AF3E-653E839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3153C-785C-42E7-99AA-783A7DC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6BC-E032-40D5-B0B6-050AF968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694C9-6180-43F0-995F-3CC3E23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B6A4-33F6-4EAD-9081-F7833DDD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6E292-F215-4C4C-A96A-BEFC2803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3E82C-8AC5-4215-ACD7-626B1FCE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ABDC7-35A7-47E1-B5CF-2D0A9A8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AF9C1-9980-460E-9276-8D7109D7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A7F89-6F06-4ED8-895A-C7B5096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266F7-3DA6-4988-836C-0B1FBB72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26A05-3530-4B63-85A4-EC70E8AE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6DCF8-AB45-44AF-8D75-60649D30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AC05-C3B0-412A-9CB7-92EF0C68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97FBE-5DF0-4105-B670-6956435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64D53-05A4-457E-86E7-1431D1E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E8543-6C4C-488B-9461-AC2B4CD0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CA509-CC70-405E-BCD9-4B6753F1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980F0-CD8A-45DF-BEB1-E88CDEDF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A0DE-A1A8-4534-817A-D58B2F90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8B84-7867-47B6-846D-16987FEC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D9A-FCE4-4970-9FDC-5E5FD63E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32BC-D17F-4787-A7D4-1ED5E8C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1B6-FB9F-4CA3-9290-950E184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870-A6A5-4DAF-8858-85D2C4A8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074-BB57-4B13-A031-544B75C3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4C15-B218-4F9A-8173-B293F31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9209-1DE4-479B-97B4-19781817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1766-1539-418B-9F80-251B6428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99A-6CD7-4155-926B-4EA2C364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FA8F-6593-4BAC-8483-7E212FBB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7BDA-E77C-4B9F-B296-B07F21B1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4995-1C6A-4DA5-8168-6EA1FF2F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A956-B4EC-42FB-A042-06C53659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8070-7A4A-4D57-AB98-FE733CB1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E13-5D3B-4E5C-8345-7B35AE2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C835-6C31-4D2D-A442-2370C5BC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1C42-300F-4B02-9D61-A2533A7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89AA-4827-4ADD-BD19-6FB9F532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0199-5229-4220-A790-8F2DF8E1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2D3E-9A31-43FC-BC6D-F3906A8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1866-BE57-4FF8-A537-9FAE8C5D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200C-3373-4DE8-8180-AB040DCA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75EC-FF7F-478B-82B7-909B238B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D8EF-E2E6-4111-93BE-FE08E8D4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8A9B-D211-4926-AED5-EB36970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BD1-16D4-4BA0-BE97-0E89E3F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879C-64D2-447D-BBDD-BE1423A8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623D-87C9-4C57-9614-3CBF155F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D757-87F8-4B5B-ADB6-A35602DC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508F-632F-4489-A388-A637A5DD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B2AA-E656-4C66-A07C-C465E78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34E3-8CB8-4439-968D-6E6B4F49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39D3-DE55-4E33-878A-BE629DA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3887E-B691-438C-9DE3-466ED0ED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1516-DE31-4364-9E85-3EB4BA3E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8123-01CB-42AA-8BBB-45AD1572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644-C700-44B7-923B-83A14B64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281D9-A3FB-4990-BFBD-B0A70C5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7AE2-E0DA-4694-AC82-BB236222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A3E5-BB56-4E4A-B3D1-1C6A450D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5C34-8479-4B72-9700-2022F46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A6FE-0185-45F0-A388-4A76D17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BEAA-483F-4877-A2D0-605F19C1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E05F9-7D27-46C0-A8E0-E8D9BCB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4D53-8BAB-41C4-B596-6115906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F433-24C4-4340-BE13-847A187B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AF58-53CD-495A-80A9-6B4C37E7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025-D8FB-468B-AA4D-3B1C727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5AA24-1472-42F3-B14A-AEADAEB8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5EC5F-EBE7-4712-8EF0-5E4FB724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D5AC4-6434-48E6-A168-E3EDE571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1BBF-AFB7-4C60-8837-BF93C427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3B20-DAEF-4F33-AC3C-491A3A6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A44AE-6BCE-4B13-990C-9FA4983A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A724-3E4E-422B-93C7-0F59A561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3846-DB0A-4EB5-9EE4-B092AE5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0C84-7805-428C-97DC-BE8DD35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B469E-BA49-4505-8A01-AE5D5C7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4EC-2638-4754-8A34-9CD9EC13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DAA3-8E27-4D43-8465-787CB5CA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153C6-0ED3-4FB5-B184-DBFEDF97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E019-7128-4B1B-8EA2-8564AFCB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E969A-7786-4061-BCDB-5024F36B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C6A0-1B99-4E28-BDDE-649CF920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06FF-BC20-49E2-8959-CEA4C042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52F17-1DBF-4E46-A3F9-BC31B34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E1AB-0A9A-440F-AB2B-20C82A31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46A8-F9D2-47E1-8A6A-089610C0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C6D9F-7086-447F-9DBD-B920DC9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175-4B21-4CC9-BC0E-F8208C8C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40AE-A10B-42E8-81CA-FCFEE06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8887-E1A5-401C-95EE-7D405A4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B224-5A0E-41ED-9FFE-6AC30E8B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23300-A430-43C0-B991-53EF7A48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809F0-4CAD-454B-8849-FD258E41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A3550-2EB7-432C-B662-46666B7F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4E7D-B92C-480B-AC2A-F4E39A1B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203D4-5399-42D6-AE31-0CE0E53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37D38-5CBA-4B10-8B3C-852DFFF5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2FBD8-613A-4084-823A-2427A77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7CC-27A2-4366-8369-42F36B2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1750-BF9B-4F97-B58F-966FC74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51801-0749-4879-9362-646FA41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108E2-CB77-44A2-8FDE-D8748FB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75497-69D5-44BD-8C9E-6A6D04B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5171-A50D-4BAE-8941-07838F3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43458-10D3-4011-9686-387AF143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71BE-D6CF-4F98-B857-DA1F4490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50738-79AF-4D93-9932-F17EA78A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9A0CA-7C68-410C-AE00-8E8C2FE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EB4E9-1D48-4396-8D09-555C0C2C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75D6-88DE-453D-8AD7-3247F46CCA0D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F6C-B8E6-422F-82C7-8E88457415D3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6B80-ED8A-4B17-ABD4-C75EEEC92A9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B47-92B0-4BEC-BACD-2F8EC6B78B8B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D7A-67BB-4BCC-96AA-0611162CF48B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897E-E492-4AD2-87FE-2703AFC22F1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BF99-9D2B-4681-8938-71F39343290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26EA-6122-42A8-BC8E-C5CB5EE8A4CE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E422-54D9-4910-92C1-65EFF23D0749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1DD-2D45-4C55-BB09-00D63925D2E6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DD8E-ADC4-4EF5-98A1-1043656E1131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CD89-EEA2-4DB5-B15E-2759173D0EED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RIEU%20-QUE%20SERA%20SERA-%20M.B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95680" y="162828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6000" spc="-1" strike="noStrike">
                <a:solidFill>
                  <a:srgbClr val="ffff66"/>
                </a:solidFill>
                <a:latin typeface="BlackChancery"/>
              </a:rPr>
              <a:t>Alberto Dur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788000" y="2565000"/>
            <a:ext cx="4356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Y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cu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cuadr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7" descr="http://www.museodelprado.es/uploads/pics/Durero.jpg"/>
          <p:cNvPicPr/>
          <p:nvPr/>
        </p:nvPicPr>
        <p:blipFill>
          <a:blip r:embed="rId1"/>
          <a:stretch/>
        </p:blipFill>
        <p:spPr>
          <a:xfrm>
            <a:off x="395280" y="476280"/>
            <a:ext cx="4610160" cy="603900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p:transition spd="slow" advTm="8000">
    <p:wipe dir="d"/>
    <p:sndAc>
      <p:stSnd>
        <p:snd r:embed="rId2" name="ANDRE%20RIEU%20-QUE%20SERA%20SERA-%20M.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Object 2"/>
          <p:cNvGraphicFramePr/>
          <p:nvPr/>
        </p:nvGraphicFramePr>
        <p:xfrm>
          <a:off x="2286000" y="990720"/>
          <a:ext cx="464832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4648320" cy="3985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2" name="Rectangle 4"/>
          <p:cNvSpPr/>
          <p:nvPr/>
        </p:nvSpPr>
        <p:spPr>
          <a:xfrm>
            <a:off x="1036800" y="5610240"/>
            <a:ext cx="70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los campos centrale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2"/>
          <p:cNvGraphicFramePr/>
          <p:nvPr/>
        </p:nvGraphicFramePr>
        <p:xfrm>
          <a:off x="4629240" y="1197000"/>
          <a:ext cx="421956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9240" y="1197000"/>
                    <a:ext cx="4219560" cy="35272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5" name="Text Box 3"/>
          <p:cNvSpPr/>
          <p:nvPr/>
        </p:nvSpPr>
        <p:spPr>
          <a:xfrm>
            <a:off x="1979640" y="5516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 De los extremos medios  34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Object 2"/>
          <p:cNvGraphicFramePr/>
          <p:nvPr/>
        </p:nvGraphicFramePr>
        <p:xfrm>
          <a:off x="324000" y="1206360"/>
          <a:ext cx="4032000" cy="35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06360"/>
                    <a:ext cx="4032000" cy="3517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1066680" y="1447920"/>
          <a:ext cx="3276720" cy="281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447920"/>
                    <a:ext cx="3276720" cy="28112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0" name="Object 3"/>
          <p:cNvGraphicFramePr/>
          <p:nvPr/>
        </p:nvGraphicFramePr>
        <p:xfrm>
          <a:off x="4648320" y="1447920"/>
          <a:ext cx="3276360" cy="2809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447920"/>
                    <a:ext cx="3276360" cy="28098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2" name="Text Box 4"/>
          <p:cNvSpPr/>
          <p:nvPr/>
        </p:nvSpPr>
        <p:spPr>
          <a:xfrm>
            <a:off x="611280" y="501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ambién se cumple para las diagonales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4d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Object 2"/>
          <p:cNvGraphicFramePr/>
          <p:nvPr/>
        </p:nvGraphicFramePr>
        <p:xfrm>
          <a:off x="611280" y="1066680"/>
          <a:ext cx="388440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66680"/>
                    <a:ext cx="3884400" cy="33321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5" name="Object 3"/>
          <p:cNvGraphicFramePr/>
          <p:nvPr/>
        </p:nvGraphicFramePr>
        <p:xfrm>
          <a:off x="4932360" y="1125360"/>
          <a:ext cx="3808440" cy="3286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125360"/>
                    <a:ext cx="3808440" cy="32864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7" name="Text Box 4"/>
          <p:cNvSpPr/>
          <p:nvPr/>
        </p:nvSpPr>
        <p:spPr>
          <a:xfrm>
            <a:off x="1979640" y="5157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así siempre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: ¡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4140360" y="1413000"/>
          <a:ext cx="4608360" cy="4176720"/>
        </p:xfrm>
        <a:graphic>
          <a:graphicData uri="http://schemas.openxmlformats.org/drawingml/2006/table">
            <a:tbl>
              <a:tblPr/>
              <a:tblGrid>
                <a:gridCol w="1152360"/>
                <a:gridCol w="1150920"/>
                <a:gridCol w="1152720"/>
                <a:gridCol w="115236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3 Rectángulo"/>
          <p:cNvSpPr/>
          <p:nvPr/>
        </p:nvSpPr>
        <p:spPr>
          <a:xfrm>
            <a:off x="250920" y="476280"/>
            <a:ext cx="37447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urero creó este cuadrado en </a:t>
            </a:r>
            <a:r>
              <a:rPr b="1" lang="de-AT" sz="2400" spc="-1" strike="noStrike">
                <a:solidFill>
                  <a:srgbClr val="ff5050"/>
                </a:solidFill>
                <a:latin typeface="Times New Roman"/>
              </a:rPr>
              <a:t>15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de-AT" sz="2400" spc="-1" strike="noStrike">
                <a:solidFill>
                  <a:srgbClr val="7030a0"/>
                </a:solidFill>
                <a:latin typeface="Rockwell Extra Bold"/>
                <a:ea typeface="Aharoni"/>
              </a:rPr>
              <a:t>C</a:t>
            </a:r>
            <a:r>
              <a:rPr b="1" lang="de-AT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e cuadrado es la 3ª letra del alfabeto y...la </a:t>
            </a:r>
            <a:r>
              <a:rPr b="1" lang="de-AT" sz="2400" spc="-1" strike="noStrike">
                <a:solidFill>
                  <a:srgbClr val="7030a0"/>
                </a:solidFill>
                <a:latin typeface="Rockwell Extra Bold"/>
              </a:rPr>
              <a:t>D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de Durero es la 4ª, entonces cuando unimos los dos números 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5050"/>
                </a:solidFill>
                <a:latin typeface="Times New Roman"/>
              </a:rPr>
              <a:t>               </a:t>
            </a:r>
            <a:r>
              <a:rPr b="1" lang="de-AT" sz="2400" spc="-1" strike="noStrike">
                <a:solidFill>
                  <a:srgbClr val="ff5050"/>
                </a:solidFill>
                <a:latin typeface="Times New Roman"/>
              </a:rPr>
              <a:t>¡34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mo dato extra las dos cifras centrales de la última fila forman el año en que realizó la obra (151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Dürer-004"/>
          <p:cNvPicPr/>
          <p:nvPr/>
        </p:nvPicPr>
        <p:blipFill>
          <a:blip r:embed="rId1"/>
          <a:stretch/>
        </p:blipFill>
        <p:spPr>
          <a:xfrm>
            <a:off x="539640" y="404640"/>
            <a:ext cx="4418280" cy="60627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51" name="Text Box 3"/>
          <p:cNvSpPr/>
          <p:nvPr/>
        </p:nvSpPr>
        <p:spPr>
          <a:xfrm>
            <a:off x="5435640" y="1341360"/>
            <a:ext cx="29718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¡</a:t>
            </a:r>
            <a:r>
              <a:rPr b="1" lang="de-AT" sz="3200" spc="-1" strike="noStrike">
                <a:solidFill>
                  <a:srgbClr val="ff9900"/>
                </a:solidFill>
                <a:latin typeface="ChopinScript"/>
              </a:rPr>
              <a:t>¡</a:t>
            </a: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Genial </a:t>
            </a:r>
            <a:r>
              <a:rPr b="0" lang="de-AT" sz="3200" spc="-1" strike="noStrike">
                <a:solidFill>
                  <a:srgbClr val="ff9900"/>
                </a:solidFill>
                <a:latin typeface="Bookman Old Styl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Durero estaba muy orgulloso de haber creado este perfecto cuad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 </a:t>
            </a: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¡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3 Rectángulo"/>
          <p:cNvSpPr/>
          <p:nvPr/>
        </p:nvSpPr>
        <p:spPr>
          <a:xfrm>
            <a:off x="5076720" y="5084640"/>
            <a:ext cx="40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9900"/>
                </a:solidFill>
                <a:latin typeface="Bookman Old Style"/>
              </a:rPr>
              <a:t>¡ </a:t>
            </a: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Como para no estarlo </a:t>
            </a:r>
            <a:r>
              <a:rPr b="0" lang="de-AT" sz="3200" spc="-1" strike="noStrike">
                <a:solidFill>
                  <a:srgbClr val="ff9900"/>
                </a:solidFill>
                <a:latin typeface="Bookman Old Style"/>
              </a:rPr>
              <a:t>!</a:t>
            </a:r>
            <a:r>
              <a:rPr b="1" lang="de-AT" sz="2800" spc="-1" strike="noStrike">
                <a:solidFill>
                  <a:srgbClr val="ff9900"/>
                </a:solidFill>
                <a:latin typeface="BlackChance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1 Rectángulo"/>
          <p:cNvSpPr/>
          <p:nvPr/>
        </p:nvSpPr>
        <p:spPr>
          <a:xfrm>
            <a:off x="468360" y="1628640"/>
            <a:ext cx="8137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berto Durero (1471-1528) se le considera el artista del Renacimiento más famoso de Alema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1514 creó un grabado de nombre "melancolía" que contiene su curioso cuadrado,  el primero publicado en Europ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urante el Renacimiento la figura del grabado melancólico se asoció a la genialidad y la creatividad del artis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2 Redondear rectángulo de esquina diagonal"/>
          <p:cNvSpPr/>
          <p:nvPr/>
        </p:nvSpPr>
        <p:spPr>
          <a:xfrm>
            <a:off x="324000" y="549360"/>
            <a:ext cx="8496000" cy="5759280"/>
          </a:xfrm>
          <a:custGeom>
            <a:avLst/>
            <a:gdLst>
              <a:gd name="textAreaLeft" fmla="*/ 280800 w 8496000"/>
              <a:gd name="textAreaRight" fmla="*/ 8215200 w 8496000"/>
              <a:gd name="textAreaTop" fmla="*/ 281160 h 5759280"/>
              <a:gd name="textAreaBottom" fmla="*/ 5478120 h 5759280"/>
            </a:gdLst>
            <a:ahLst/>
            <a:rect l="textAreaLeft" t="textAreaTop" r="textAreaRight" b="textAreaBottom"/>
            <a:pathLst>
              <a:path w="8496300" h="5759450">
                <a:moveTo>
                  <a:pt x="959928" y="0"/>
                </a:moveTo>
                <a:lnTo>
                  <a:pt x="8496300" y="0"/>
                </a:lnTo>
                <a:lnTo>
                  <a:pt x="8496300" y="4799522"/>
                </a:lnTo>
                <a:lnTo>
                  <a:pt x="8496300" y="4799522"/>
                </a:lnTo>
                <a:arcTo wR="959928" hR="959928" stAng="0" swAng="5400004"/>
                <a:lnTo>
                  <a:pt x="0" y="5759450"/>
                </a:lnTo>
                <a:lnTo>
                  <a:pt x="0" y="959928"/>
                </a:lnTo>
                <a:lnTo>
                  <a:pt x="0" y="959928"/>
                </a:lnTo>
                <a:arcTo wR="959928" hR="959928" stAng="-10799996" swAng="5400004"/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CuadroTexto"/>
          <p:cNvSpPr/>
          <p:nvPr/>
        </p:nvSpPr>
        <p:spPr>
          <a:xfrm>
            <a:off x="6804000" y="5732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Haz C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Dürer-00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333360"/>
            <a:ext cx="4849920" cy="621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06" name="Rectangle 4"/>
          <p:cNvSpPr/>
          <p:nvPr/>
        </p:nvSpPr>
        <p:spPr>
          <a:xfrm>
            <a:off x="5651640" y="836640"/>
            <a:ext cx="31906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n su grabado “Melancolía”, Alberto Durero talló un curioso cuadrado perfectamente  aritmé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Times New Roman"/>
              </a:rPr>
              <a:t>A la derecha, en la pared de la casa  lo puedes v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Rectángulo redondeado"/>
          <p:cNvSpPr/>
          <p:nvPr/>
        </p:nvSpPr>
        <p:spPr>
          <a:xfrm>
            <a:off x="4067280" y="907920"/>
            <a:ext cx="1152360" cy="122580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225800"/>
              <a:gd name="textAreaBottom" fmla="*/ 1169640 h 1225800"/>
            </a:gdLst>
            <a:ahLst/>
            <a:rect l="textAreaLeft" t="textAreaTop" r="textAreaRight" b="textAreaBottom"/>
            <a:pathLst>
              <a:path w="21600" h="22976">
                <a:moveTo>
                  <a:pt x="3600" y="0"/>
                </a:moveTo>
                <a:arcTo wR="3600" hR="3600" stAng="16200000" swAng="-5400000"/>
                <a:lnTo>
                  <a:pt x="0" y="19376"/>
                </a:lnTo>
                <a:arcTo wR="3600" hR="3600" stAng="10800000" swAng="-5400000"/>
                <a:lnTo>
                  <a:pt x="18000" y="229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Dürer-002"/>
          <p:cNvPicPr/>
          <p:nvPr/>
        </p:nvPicPr>
        <p:blipFill>
          <a:blip r:embed="rId1"/>
          <a:stretch/>
        </p:blipFill>
        <p:spPr>
          <a:xfrm>
            <a:off x="684360" y="476280"/>
            <a:ext cx="279720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aphicFrame>
        <p:nvGraphicFramePr>
          <p:cNvPr id="509" name="Object 4"/>
          <p:cNvGraphicFramePr/>
          <p:nvPr/>
        </p:nvGraphicFramePr>
        <p:xfrm>
          <a:off x="684360" y="3789360"/>
          <a:ext cx="2895480" cy="248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789360"/>
                    <a:ext cx="289548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6"/>
          <p:cNvSpPr/>
          <p:nvPr/>
        </p:nvSpPr>
        <p:spPr>
          <a:xfrm>
            <a:off x="4356000" y="1413000"/>
            <a:ext cx="42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Ampliado sería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924360" y="2924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¿Y qué tiene de curioso este cuadra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e estarás pregun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5 Rectángulo"/>
          <p:cNvSpPr/>
          <p:nvPr/>
        </p:nvSpPr>
        <p:spPr>
          <a:xfrm>
            <a:off x="5083560" y="45813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El número 34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6 Rectángulo"/>
          <p:cNvSpPr/>
          <p:nvPr/>
        </p:nvSpPr>
        <p:spPr>
          <a:xfrm>
            <a:off x="3995640" y="544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Este número es la suma de diferentes campos del cuad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3" presetSubtype="1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5"/>
          <p:cNvGraphicFramePr/>
          <p:nvPr/>
        </p:nvGraphicFramePr>
        <p:xfrm>
          <a:off x="2340000" y="1052640"/>
          <a:ext cx="42670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052640"/>
                    <a:ext cx="4267080" cy="36576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7" name="Rectangle 6"/>
          <p:cNvSpPr/>
          <p:nvPr/>
        </p:nvSpPr>
        <p:spPr>
          <a:xfrm>
            <a:off x="1613880" y="558972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todas las fil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Object 5"/>
          <p:cNvGraphicFramePr/>
          <p:nvPr/>
        </p:nvGraphicFramePr>
        <p:xfrm>
          <a:off x="2209680" y="1143000"/>
          <a:ext cx="4194360" cy="35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194360" cy="3598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1181520" y="56610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todas las columna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2"/>
          <p:cNvGraphicFramePr/>
          <p:nvPr/>
        </p:nvGraphicFramePr>
        <p:xfrm>
          <a:off x="2195640" y="83664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836640"/>
                    <a:ext cx="4800600" cy="41180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3" name="Rectangle 4"/>
          <p:cNvSpPr/>
          <p:nvPr/>
        </p:nvSpPr>
        <p:spPr>
          <a:xfrm>
            <a:off x="1110240" y="5445000"/>
            <a:ext cx="68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las cuatro esquin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Object 2"/>
          <p:cNvGraphicFramePr/>
          <p:nvPr/>
        </p:nvGraphicFramePr>
        <p:xfrm>
          <a:off x="2286000" y="83808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4800600" cy="41180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6" name="Rectangle 4"/>
          <p:cNvSpPr/>
          <p:nvPr/>
        </p:nvSpPr>
        <p:spPr>
          <a:xfrm>
            <a:off x="611280" y="537372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Si desplazamos los campos en el sentido de las agujas del reloj, la suma sigue siendo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ffd1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Object 2"/>
          <p:cNvGraphicFramePr/>
          <p:nvPr/>
        </p:nvGraphicFramePr>
        <p:xfrm>
          <a:off x="2209680" y="838080"/>
          <a:ext cx="48769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876920" cy="41832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9" name="Rectangle 4"/>
          <p:cNvSpPr/>
          <p:nvPr/>
        </p:nvSpPr>
        <p:spPr>
          <a:xfrm>
            <a:off x="1547640" y="5661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i los desplazamos de nuevo, la suma es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12:59Z</dcterms:created>
  <dc:creator>LOLY PRIETO</dc:creator>
  <dc:description/>
  <dc:language>en-US</dc:language>
  <cp:lastModifiedBy>Fenomel</cp:lastModifiedBy>
  <dcterms:modified xsi:type="dcterms:W3CDTF">2012-03-11T00:36:19Z</dcterms:modified>
  <cp:revision>14</cp:revision>
  <dc:subject>EL CUADRADO MAGICO EN SU GRABADO MELANCOLIA</dc:subject>
  <dc:title>ALBERTO DURERO</dc:title>
</cp:coreProperties>
</file>