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A-Ernesto%20Cortazar%20-%20Dreaming-1m38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437-25E6-4950-99D6-63E0E417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6DF-0DBA-4AA0-BF3F-A93D4E5C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D31-BD4A-40D8-82DF-2134742E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B7C-7FEC-45F4-86A0-B353D971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5D2-6FDF-4617-80BC-3D04422D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D3C-BFF8-411F-9103-504F578F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A01-F111-47F1-8FC7-E357BECA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403-5AF7-459D-BCE5-CAB45CF8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241-2122-48F3-A24F-908AC381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433-19A4-4A60-84B9-370C1057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EC0-64D3-4F6E-8A39-89709952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238-76FA-461E-AB66-71D1A0B1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779B-6A85-497E-AAE4-893182E1BD6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-Ernesto%20Cortazar%20-%20Dreaming-1m38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incredimail.com/app/?tag=emoticon_click_me_im2_re&amp;lang=22&amp;version=6044475&amp;setup_id=22000007&amp;aff_id=102&amp;addon=IncrediMail&amp;upn=9ce42ef4-f442-4495-8d79-44446c743517&amp;id=95202&amp;guid=16A21620-1ED4-4549-A218-F1E46A4AAE64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odelo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1268280"/>
            <a:ext cx="6049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00ff"/>
                    </a:gs>
                    <a:gs pos="100000">
                      <a:srgbClr val="3399ff"/>
                    </a:gs>
                  </a:gsLst>
                  <a:lin ang="2700000"/>
                </a:gradFill>
                <a:latin typeface="Cooper Black"/>
              </a:rPr>
              <a:t>Terapia d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00ff"/>
                  </a:gs>
                  <a:gs pos="100000">
                    <a:srgbClr val="3399ff"/>
                  </a:gs>
                </a:gsLst>
                <a:lin ang="2700000"/>
              </a:gradFill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00ff"/>
                    </a:gs>
                    <a:gs pos="100000">
                      <a:srgbClr val="3399ff"/>
                    </a:gs>
                  </a:gsLst>
                  <a:lin ang="2700000"/>
                </a:gradFill>
                <a:latin typeface="Cooper Black"/>
              </a:rPr>
              <a:t> 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00ff"/>
                    </a:gs>
                    <a:gs pos="100000">
                      <a:srgbClr val="3399ff"/>
                    </a:gs>
                  </a:gsLst>
                  <a:lin ang="2700000"/>
                </a:gradFill>
                <a:latin typeface="Cooper Black"/>
              </a:rPr>
              <a:t>Elogi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00ff"/>
                  </a:gs>
                  <a:gs pos="100000">
                    <a:srgbClr val="3399ff"/>
                  </a:gs>
                </a:gsLst>
                <a:lin ang="2700000"/>
              </a:gradFill>
              <a:latin typeface="Cooper Black"/>
              <a:ea typeface="Cooper Black"/>
            </a:endParaRPr>
          </a:p>
        </p:txBody>
      </p:sp>
      <p:pic>
        <p:nvPicPr>
          <p:cNvPr id="45" name="Picture 6" descr="GTransp38c"/>
          <p:cNvPicPr/>
          <p:nvPr/>
        </p:nvPicPr>
        <p:blipFill>
          <a:blip r:embed="rId2"/>
          <a:stretch/>
        </p:blipFill>
        <p:spPr>
          <a:xfrm>
            <a:off x="4284720" y="6362640"/>
            <a:ext cx="723960" cy="495360"/>
          </a:xfrm>
          <a:prstGeom prst="rect">
            <a:avLst/>
          </a:prstGeom>
          <a:ln w="0">
            <a:noFill/>
          </a:ln>
        </p:spPr>
      </p:pic>
      <p:sp>
        <p:nvSpPr>
          <p:cNvPr id="46" name="6 CuadroTexto"/>
          <p:cNvSpPr/>
          <p:nvPr/>
        </p:nvSpPr>
        <p:spPr>
          <a:xfrm>
            <a:off x="6576480" y="62150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Modelo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95280" y="981000"/>
            <a:ext cx="83520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ff33"/>
                </a:solidFill>
                <a:latin typeface="Cooper Black"/>
              </a:rPr>
              <a:t>¡Eres muy especial y con seguridad el mundo es más bonito.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4071960"/>
            <a:ext cx="8820000" cy="39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Cooper Black"/>
              </a:rPr>
              <a:t>por causa de ti!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Cooper Black"/>
              </a:rPr>
              <a:t>Yo te Q        mucho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GTransp17"/>
          <p:cNvPicPr/>
          <p:nvPr/>
        </p:nvPicPr>
        <p:blipFill>
          <a:blip r:embed="rId2"/>
          <a:stretch/>
        </p:blipFill>
        <p:spPr>
          <a:xfrm>
            <a:off x="3132000" y="5410080"/>
            <a:ext cx="2838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odelo1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11280" y="549360"/>
            <a:ext cx="7993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Renombrados terapeutas que trabajam con famílias, divulgaron una reciente investigación donde se hace notar que los miembros de las famílias en general están cada </a:t>
            </a:r>
            <a:br>
              <a:rPr sz="3200"/>
            </a:b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vez más fri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755640" y="5445000"/>
            <a:ext cx="7920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-973080" y="3789360"/>
            <a:ext cx="8280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no existe más cariñ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079640" y="4653000"/>
            <a:ext cx="8064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no se da más valor a las cualidades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332000" y="5546880"/>
            <a:ext cx="676908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solo se escuchan crí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odelo2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95280" y="1268280"/>
            <a:ext cx="8210520" cy="229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s personas están cada vez más intolerantes y se desgastan dando valor a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55640" y="4149720"/>
            <a:ext cx="7777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042920" y="3213000"/>
            <a:ext cx="676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os defectos de los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odel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55640" y="476280"/>
            <a:ext cx="7921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 ausencia del elogio está cada vez más presente en las famíl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68360" y="2133720"/>
            <a:ext cx="8353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No vemos a los hombres elogiando a sus mujeres o vice-versa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39640" y="3213000"/>
            <a:ext cx="813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no vemos a los jefes elogiando el trabajo de sus subordinad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24000" y="4365720"/>
            <a:ext cx="849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no vemos nunca a los padres e hijos elogiandose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11280" y="5516640"/>
            <a:ext cx="8208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amigos, etc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odelo2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00000" y="404640"/>
            <a:ext cx="7272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Solo vemos personas</a:t>
            </a: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 superficiales y fútiles </a:t>
            </a: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dando valor a </a:t>
            </a: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artistas</a:t>
            </a: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, </a:t>
            </a: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cantores</a:t>
            </a: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50920" y="1844640"/>
            <a:ext cx="8353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a personas que usan la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imagen</a:t>
            </a: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para ganar dinero</a:t>
            </a: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 y qu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95280" y="285264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por consecuenci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5280" y="3573360"/>
            <a:ext cx="828036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son personas que tienen la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obligación de cuidar del cuerpo y del rostro</a:t>
            </a: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042920" y="5300640"/>
            <a:ext cx="6985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Esa ausencia de elogio ha afectado mucho a las famíli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odel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95280" y="836640"/>
            <a:ext cx="784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 falta de diálogo en sus hogares,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26920" y="1700280"/>
            <a:ext cx="7345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el exceso de orgullo impide que las personas digan lo que </a:t>
            </a:r>
            <a:br>
              <a:rPr sz="3200"/>
            </a:b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sien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0" y="4005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Destruyen sus matrimoni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11280" y="4816440"/>
            <a:ext cx="799308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y acaban buscando en otras personas lo que no consiguen dentro </a:t>
            </a:r>
            <a:br>
              <a:rPr sz="3200"/>
            </a:b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de casa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Modelo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324000" y="549360"/>
            <a:ext cx="849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Comencemos a dar valor a nuestras famíli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95280" y="1341360"/>
            <a:ext cx="381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amig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050920" y="1484280"/>
            <a:ext cx="46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alumn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72000" y="1989000"/>
            <a:ext cx="417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subordin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0" y="2781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VAMOS A ELOGIAR . Al buen profesio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655640" y="3645000"/>
            <a:ext cx="7488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 buena actitu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796000" y="3645000"/>
            <a:ext cx="381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 étic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1258920" y="4365720"/>
            <a:ext cx="7164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 belleza de nuestros </a:t>
            </a:r>
            <a:br>
              <a:rPr sz="3200"/>
            </a:b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compañeros o nuestras compañer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755640" y="5732640"/>
            <a:ext cx="7993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el comportamiento de nuestros hij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odelo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55640" y="692280"/>
            <a:ext cx="7632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Vamos a observar  lo que nos gusta de las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24000" y="1773360"/>
            <a:ext cx="7848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El buen profesional, el buen hijo, el buen padre o la buena madre, el buen amigo, la buena ama de casa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68360" y="3500280"/>
            <a:ext cx="831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 mujer y el hombre que se cuida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42920" y="4292640"/>
            <a:ext cx="7274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En fin vivimos en una sociedad en la que uno necesita del otr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0" y="5516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es imposible vivir solo y aislado,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odelo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826920" y="8254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83664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y los elogios són la motivación en la vida de cualquier perso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0" y="2276640"/>
            <a:ext cx="9144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¿Cuantas personas podrías hacer feliz hoy elogiandola de alguna manera?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0" y="3716280"/>
            <a:ext cx="9144000" cy="11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¡Entonces elogia a alguien hoy!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900000" y="4869000"/>
            <a:ext cx="7272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Cooper Black"/>
              </a:rPr>
              <a:t>¡¡¡YO comienzo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4:41:52Z</dcterms:created>
  <dc:creator>FERNANDO</dc:creator>
  <dc:description/>
  <dc:language>en-US</dc:language>
  <cp:lastModifiedBy>CECILIA</cp:lastModifiedBy>
  <dcterms:modified xsi:type="dcterms:W3CDTF">2011-04-26T21:28:01Z</dcterms:modified>
  <cp:revision>12</cp:revision>
  <dc:subject/>
  <dc:title>Slide 1</dc:title>
</cp:coreProperties>
</file>