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A-Ernesto%20Cortazar%20-%20Dreaming-1m38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AA1-CAB2-47F1-962C-755C6773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449-65A3-4E8D-9CC2-1D0F3A7D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6D7-1153-4F0C-A332-854C8585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570-84F6-477A-8EEC-CBF672F0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71A-73C5-4EE8-9F5D-0A8FB137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805-F4B9-4DD1-9256-7F030C6B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BA1-8A54-4D3B-9B88-85CDBF1D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05C-9707-4DBE-A8BB-7A01A73E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3FE-128A-474A-A4D5-08A02CB7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4F9-EBD5-4F42-8E62-C524B098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38E-8DB7-43EB-BEC4-0734BEC4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0A5-F019-4BD0-82B8-B5708F4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032-B144-4015-B321-2FA9EB256F9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-Ernesto%20Cortazar%20-%20Dreaming-1m38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incredimail.com/app/?tag=emoticon_click_me_im2_re&amp;lang=22&amp;version=6044475&amp;setup_id=22000007&amp;aff_id=102&amp;addon=IncrediMail&amp;upn=9ce42ef4-f442-4495-8d79-44446c743517&amp;id=95202&amp;guid=16A21620-1ED4-4549-A218-F1E46A4AAE64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odelo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1268280"/>
            <a:ext cx="6049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2700000"/>
                </a:gradFill>
                <a:latin typeface="Cooper Black"/>
              </a:rPr>
              <a:t>Terapia d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00ff"/>
                  </a:gs>
                  <a:gs pos="100000">
                    <a:srgbClr val="3399ff"/>
                  </a:gs>
                </a:gsLst>
                <a:lin ang="2700000"/>
              </a:gra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2700000"/>
                </a:gradFill>
                <a:latin typeface="Cooper Black"/>
              </a:rPr>
              <a:t>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2700000"/>
                </a:gradFill>
                <a:latin typeface="Cooper Black"/>
              </a:rPr>
              <a:t>Elogi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00ff"/>
                  </a:gs>
                  <a:gs pos="100000">
                    <a:srgbClr val="3399ff"/>
                  </a:gs>
                </a:gsLst>
                <a:lin ang="2700000"/>
              </a:gradFill>
              <a:latin typeface="Cooper Black"/>
              <a:ea typeface="Cooper Black"/>
            </a:endParaRPr>
          </a:p>
        </p:txBody>
      </p:sp>
      <p:pic>
        <p:nvPicPr>
          <p:cNvPr id="45" name="Picture 6" descr="GTransp38c"/>
          <p:cNvPicPr/>
          <p:nvPr/>
        </p:nvPicPr>
        <p:blipFill>
          <a:blip r:embed="rId2"/>
          <a:stretch/>
        </p:blipFill>
        <p:spPr>
          <a:xfrm>
            <a:off x="4284720" y="6362640"/>
            <a:ext cx="723960" cy="49536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6576480" y="62150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odelo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95280" y="981000"/>
            <a:ext cx="8352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ff33"/>
                </a:solidFill>
                <a:latin typeface="Cooper Black"/>
              </a:rPr>
              <a:t>¡Eres muy especial y con seguridad el mundo es más bonito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4071960"/>
            <a:ext cx="8820000" cy="39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Cooper Black"/>
              </a:rPr>
              <a:t>por causa de ti!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Cooper Black"/>
              </a:rPr>
              <a:t>Yo te Q        mucho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GTransp17"/>
          <p:cNvPicPr/>
          <p:nvPr/>
        </p:nvPicPr>
        <p:blipFill>
          <a:blip r:embed="rId2"/>
          <a:stretch/>
        </p:blipFill>
        <p:spPr>
          <a:xfrm>
            <a:off x="3132000" y="5410080"/>
            <a:ext cx="2838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odelo1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11280" y="549360"/>
            <a:ext cx="7993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Renombrados terapeutas que trabajam con famílias, divulgaron una reciente investigación donde se hace notar que los miembros de las famílias en general están cada </a:t>
            </a:r>
            <a:br>
              <a:rPr sz="3200"/>
            </a:b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vez más fri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55640" y="5445000"/>
            <a:ext cx="7920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-973080" y="3789360"/>
            <a:ext cx="828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existe más cariñ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079640" y="4653000"/>
            <a:ext cx="8064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se da más valor a las cualidades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332000" y="5546880"/>
            <a:ext cx="676908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olo se escuchan crí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odelo2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95280" y="1268280"/>
            <a:ext cx="821052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s personas están cada vez más intolerantes y se desgastan dando valor a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55640" y="4149720"/>
            <a:ext cx="7777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042920" y="3213000"/>
            <a:ext cx="676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os defectos de los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odelo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55640" y="476280"/>
            <a:ext cx="7921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ausencia del elogio está cada vez más presente en las famíl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68360" y="2133720"/>
            <a:ext cx="8353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vemos a los hombres elogiando a sus mujeres o vice-versa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39640" y="3213000"/>
            <a:ext cx="813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vemos a los jefes elogiando el trabajo de sus subordinad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24000" y="4365720"/>
            <a:ext cx="849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no vemos nunca a los padres e hijos elogiandose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11280" y="5516640"/>
            <a:ext cx="8208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amigos, etc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odelo2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00000" y="404640"/>
            <a:ext cx="7272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olo vemos personas</a:t>
            </a: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 superficiales y fútiles 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dando valor a </a:t>
            </a: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artistas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, </a:t>
            </a: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cantores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50920" y="1844640"/>
            <a:ext cx="8353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a personas que usan la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imagen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para ganar dinero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 y qu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95280" y="285264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por consecuenci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5280" y="3573360"/>
            <a:ext cx="82803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on personas que tienen la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obligación de cuidar del cuerpo y del rostro</a:t>
            </a: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042920" y="5300640"/>
            <a:ext cx="6985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sa ausencia de elogio ha afectado mucho a las famíl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odel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95280" y="836640"/>
            <a:ext cx="784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falta de diálogo en sus hogares,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826920" y="1700280"/>
            <a:ext cx="7345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l exceso de orgullo impide que las personas digan lo que </a:t>
            </a:r>
            <a:br>
              <a:rPr sz="3200"/>
            </a:b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i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0" y="4005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Destruyen sus matrimoni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11280" y="4816440"/>
            <a:ext cx="799308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y acaban buscando en otras personas lo que no consiguen dentro </a:t>
            </a:r>
            <a:br>
              <a:rPr sz="3200"/>
            </a:b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de cas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Modelo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324000" y="549360"/>
            <a:ext cx="849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Comencemos a dar valor a nuestras famíli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95280" y="1341360"/>
            <a:ext cx="381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amig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050920" y="1484280"/>
            <a:ext cx="46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alumn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1989000"/>
            <a:ext cx="417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subordin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0" y="2781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VAMOS A ELOGIAR . Al buen profesio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655640" y="3645000"/>
            <a:ext cx="748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buena actitu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796000" y="3645000"/>
            <a:ext cx="381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étic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258920" y="4365720"/>
            <a:ext cx="7164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belleza de nuestros </a:t>
            </a:r>
            <a:br>
              <a:rPr sz="3200"/>
            </a:b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compañeros o nuestras compañer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55640" y="5732640"/>
            <a:ext cx="799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l comportamiento de nuestros hij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odelo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55640" y="692280"/>
            <a:ext cx="7632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Vamos a observar  lo que nos gust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1773360"/>
            <a:ext cx="7848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l buen profesional, el buen hijo, el buen padre o la buena madre, el buen amigo, la buena ama de casa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68360" y="3500280"/>
            <a:ext cx="831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La mujer y el hombre que se cuida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42920" y="4292640"/>
            <a:ext cx="7274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n fin vivimos en una sociedad en la que uno necesita del otr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0" y="5516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es imposible vivir solo y aislado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odelo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826920" y="8254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83664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y los elogios són la motivación en la vida de cualquier perso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0" y="2276640"/>
            <a:ext cx="9144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ff33"/>
                </a:solidFill>
                <a:latin typeface="Cooper Black"/>
              </a:rPr>
              <a:t>¿Cuantas personas podrías hacer feliz hoy elogiandola de alguna manera?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0" y="3716280"/>
            <a:ext cx="9144000" cy="11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¡Entonces elogia a alguien hoy!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00000" y="4869000"/>
            <a:ext cx="7272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Cooper Black"/>
              </a:rPr>
              <a:t>¡¡¡YO comienzo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4:41:52Z</dcterms:created>
  <dc:creator>FERNANDO</dc:creator>
  <dc:description/>
  <dc:language>en-US</dc:language>
  <cp:lastModifiedBy>CECILIA</cp:lastModifiedBy>
  <dcterms:modified xsi:type="dcterms:W3CDTF">2011-04-26T21:28:01Z</dcterms:modified>
  <cp:revision>12</cp:revision>
  <dc:subject/>
  <dc:title>Slide 1</dc:title>
</cp:coreProperties>
</file>