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76FC-F693-45A3-8197-F182ADB0EE86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6006-A0CF-4E69-957A-B7C3AB99EEC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D583-5273-43B1-8EAF-C58B7DE3C80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F6D1-833F-4608-ADED-6259403E310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7F33-AA69-4CDD-9A58-366F9956BFA1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ACE7-18A5-458F-8123-B7C6A4431C5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E74-944C-457C-BE80-D5668EEC4C5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332C-146E-4A08-BC49-842F4C4B7B9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457-B455-482C-BB84-F8722621C6E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1D2-B6E8-4042-8D96-100225DF347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BD43-4773-4BA3-9E4B-7AABFCB32AF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7EF9-C0AC-421D-8FEB-36EA311CB18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C702-6D72-4B2B-9D27-D0EB9EB72BF2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92FD-1404-4879-916B-85378D06C2E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C55B-2235-4DE9-88AB-2427FE5047E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AE77-21F1-4A1E-8C4F-D785EF7AFFD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5AC3-8335-4B65-8587-516F215F947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EBAE-E2F6-413D-9D4A-27283D53F457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FCDE-DA28-476E-88EA-3CCD8D4E4AD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237C-1774-49D2-ACCD-0559D42B5906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D948-3C40-44AE-9B2E-E59374BA424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7316-889B-47A3-B055-867E52F8040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8D76-B56F-4352-82BE-7DEE6B956C4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F299-2086-4F10-92B1-6FFC667F85C2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C3C5-9C76-4298-9358-07D2DF6663C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F376-5AEB-490B-BC2C-7F73A8B63ED4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FD0B-CFB8-407E-AB32-D56373D4AEDD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241F-0BC4-4267-A0B0-C12396150E55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D16-6EF9-4805-929A-95A52C02C5D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362-371D-4FE7-A254-4DE9B465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F5F-79BA-495E-BAB3-4ED179D8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86B-20D4-40B6-94EE-CD5EE11C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977-2273-4EAB-BCBA-7F150A55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581-DE97-40B4-B5E2-6598853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617-881C-4B4D-847E-69285C6E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8B9-1E31-4BC9-B988-CE57A31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35C-7697-45F4-B2D4-A3AD0F0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E15-9ADD-476C-8714-805AAA3F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F8A-A85B-4AF7-96A4-AA0953E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D98-B63E-4E0B-9C1D-54F521AF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9F8-BBC1-4243-A8DB-9DB044BA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562-FBCF-4867-89B8-53B135365BCA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pré una casa camino a la playa y quería invitarlo a usted para conocerla y comer un asado allá este fin de seman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MH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39528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MH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409840" y="0"/>
            <a:ext cx="67341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0" y="1887480"/>
            <a:ext cx="2365200" cy="180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n un instante usted sube la cu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MH9"/>
          <p:cNvPicPr/>
          <p:nvPr/>
        </p:nvPicPr>
        <p:blipFill>
          <a:blip r:embed="rId1"/>
          <a:stretch/>
        </p:blipFill>
        <p:spPr>
          <a:xfrm>
            <a:off x="3402000" y="0"/>
            <a:ext cx="5742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5"/>
          <p:cNvSpPr/>
          <p:nvPr/>
        </p:nvSpPr>
        <p:spPr>
          <a:xfrm>
            <a:off x="317520" y="436680"/>
            <a:ext cx="2494080" cy="22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Depués de la subida,sólo es necesario pasar los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ROD1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ROD4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ROD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ROD7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ROD2"/>
          <p:cNvPicPr/>
          <p:nvPr/>
        </p:nvPicPr>
        <p:blipFill>
          <a:blip r:embed="rId1"/>
          <a:stretch/>
        </p:blipFill>
        <p:spPr>
          <a:xfrm>
            <a:off x="2863800" y="298440"/>
            <a:ext cx="6280200" cy="6559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277920" y="436680"/>
            <a:ext cx="2489040" cy="330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El aire es óptimo,hace bien para los pul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Aquí sopla bastante v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ROD5"/>
          <p:cNvPicPr/>
          <p:nvPr/>
        </p:nvPicPr>
        <p:blipFill>
          <a:blip r:embed="rId1"/>
          <a:stretch/>
        </p:blipFill>
        <p:spPr>
          <a:xfrm>
            <a:off x="3994200" y="-6480"/>
            <a:ext cx="5149800" cy="6864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50920" y="436680"/>
            <a:ext cx="3301920" cy="329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Mire la vista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que paisaje más bonit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Es una belleza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ROD6"/>
          <p:cNvPicPr/>
          <p:nvPr/>
        </p:nvPicPr>
        <p:blipFill>
          <a:blip r:embed="rId1"/>
          <a:stretch/>
        </p:blipFill>
        <p:spPr>
          <a:xfrm>
            <a:off x="2228760" y="152280"/>
            <a:ext cx="6915240" cy="6705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0" y="415800"/>
            <a:ext cx="2365200" cy="37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OKEY, ya llegam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ahora puede estacionar el auto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El andarivel queda más allá  a su izque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38" descr="MH12"/>
          <p:cNvPicPr/>
          <p:nvPr/>
        </p:nvPicPr>
        <p:blipFill>
          <a:blip r:embed="rId1"/>
          <a:stretch/>
        </p:blipFill>
        <p:spPr>
          <a:xfrm>
            <a:off x="2496960" y="0"/>
            <a:ext cx="66470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39"/>
          <p:cNvSpPr/>
          <p:nvPr/>
        </p:nvSpPr>
        <p:spPr>
          <a:xfrm>
            <a:off x="257040" y="339840"/>
            <a:ext cx="2365560" cy="393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uando llega a la ciudad mas próxima, es solamente preguntar dónde es el camino que va para mi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8840" y="1112400"/>
            <a:ext cx="3294000" cy="23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El lo llevará hacia el de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pic18467"/>
          <p:cNvPicPr/>
          <p:nvPr/>
        </p:nvPicPr>
        <p:blipFill>
          <a:blip r:embed="rId1">
            <a:lum bright="12000"/>
          </a:blip>
          <a:srcRect l="20475" t="0" r="30708" b="0"/>
          <a:stretch/>
        </p:blipFill>
        <p:spPr>
          <a:xfrm>
            <a:off x="4419720" y="-69840"/>
            <a:ext cx="4724280" cy="692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6880" y="993240"/>
            <a:ext cx="3581280" cy="40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firmese en las cadenas y vaya caminando pisando en las tabl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pic06334"/>
          <p:cNvPicPr/>
          <p:nvPr/>
        </p:nvPicPr>
        <p:blipFill>
          <a:blip r:embed="rId1"/>
          <a:srcRect l="0" t="3267" r="0" b="0"/>
          <a:stretch/>
        </p:blipFill>
        <p:spPr>
          <a:xfrm>
            <a:off x="449280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64800"/>
            <a:ext cx="3355920" cy="55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i se cansa,puede parar y fumar un cigarrito.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as fotos desde este lugar salen muy boni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pic2650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535200" y="0"/>
            <a:ext cx="56088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6520" y="1231920"/>
            <a:ext cx="308772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ea si los niños lo siguen acompañando,no permita que se queden jug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pic19169"/>
          <p:cNvPicPr/>
          <p:nvPr/>
        </p:nvPicPr>
        <p:blipFill>
          <a:blip r:embed="rId1"/>
          <a:srcRect l="31684" t="7559" r="19960" b="7559"/>
          <a:stretch/>
        </p:blipFill>
        <p:spPr>
          <a:xfrm>
            <a:off x="4033800" y="0"/>
            <a:ext cx="51102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014120"/>
            <a:ext cx="2925720" cy="38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je a los otros que van mas apurados pasar tambié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pic15724"/>
          <p:cNvPicPr/>
          <p:nvPr/>
        </p:nvPicPr>
        <p:blipFill>
          <a:blip r:embed="rId1"/>
          <a:srcRect l="0" t="30435" r="0" b="0"/>
          <a:stretch/>
        </p:blipFill>
        <p:spPr>
          <a:xfrm>
            <a:off x="3193920" y="-557280"/>
            <a:ext cx="5950080" cy="767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pic11478"/>
          <p:cNvPicPr/>
          <p:nvPr/>
        </p:nvPicPr>
        <p:blipFill>
          <a:blip r:embed="rId1"/>
          <a:srcRect l="6260" t="6480" r="42859" b="7700"/>
          <a:stretch/>
        </p:blipFill>
        <p:spPr>
          <a:xfrm>
            <a:off x="3825720" y="0"/>
            <a:ext cx="5318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51000" y="318960"/>
            <a:ext cx="3130560" cy="61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hora sólo queda subir la escalera a la izquer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1000" y="318600"/>
            <a:ext cx="3130560" cy="61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i estuviera mojado de lluvia, es mejor sacarse las sapatillas en esta par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pic293581"/>
          <p:cNvPicPr/>
          <p:nvPr/>
        </p:nvPicPr>
        <p:blipFill>
          <a:blip r:embed="rId1"/>
          <a:srcRect l="16001" t="0" r="25001" b="0"/>
          <a:stretch/>
        </p:blipFill>
        <p:spPr>
          <a:xfrm>
            <a:off x="3749760" y="0"/>
            <a:ext cx="539424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96960"/>
            <a:ext cx="2549520" cy="40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stá llegando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¿No dejó nada en el au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pic269621"/>
          <p:cNvPicPr/>
          <p:nvPr/>
        </p:nvPicPr>
        <p:blipFill>
          <a:blip r:embed="rId1"/>
          <a:srcRect l="11112" t="0" r="15382" b="0"/>
          <a:stretch/>
        </p:blipFill>
        <p:spPr>
          <a:xfrm>
            <a:off x="2590920" y="-6480"/>
            <a:ext cx="6553080" cy="6864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legó! Trajo la carne y el vi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Billede28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MH2"/>
          <p:cNvPicPr/>
          <p:nvPr/>
        </p:nvPicPr>
        <p:blipFill>
          <a:blip r:embed="rId1"/>
          <a:srcRect l="0" t="0" r="704" b="0"/>
          <a:stretch/>
        </p:blipFill>
        <p:spPr>
          <a:xfrm>
            <a:off x="2567160" y="0"/>
            <a:ext cx="6351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9"/>
          <p:cNvSpPr/>
          <p:nvPr/>
        </p:nvSpPr>
        <p:spPr>
          <a:xfrm>
            <a:off x="0" y="436680"/>
            <a:ext cx="2365200" cy="22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l camino es fácil de encontrar. No hay por donde er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H3"/>
          <p:cNvPicPr/>
          <p:nvPr/>
        </p:nvPicPr>
        <p:blipFill>
          <a:blip r:embed="rId1"/>
          <a:stretch/>
        </p:blipFill>
        <p:spPr>
          <a:xfrm>
            <a:off x="3306600" y="0"/>
            <a:ext cx="58374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0" y="436680"/>
            <a:ext cx="2901960" cy="376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Demora un poco, pero es bueno. A Usted le vá a gu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Traiga a su suegr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MH13"/>
          <p:cNvPicPr/>
          <p:nvPr/>
        </p:nvPicPr>
        <p:blipFill>
          <a:blip r:embed="rId1"/>
          <a:stretch/>
        </p:blipFill>
        <p:spPr>
          <a:xfrm>
            <a:off x="1609560" y="0"/>
            <a:ext cx="7534440" cy="668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243000" y="343080"/>
            <a:ext cx="199692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Si prefiere, también hay buses , ellos salen de hora en h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MH8"/>
          <p:cNvPicPr/>
          <p:nvPr/>
        </p:nvPicPr>
        <p:blipFill>
          <a:blip r:embed="rId1"/>
          <a:stretch/>
        </p:blipFill>
        <p:spPr>
          <a:xfrm>
            <a:off x="2100240" y="-1440"/>
            <a:ext cx="7043760" cy="6941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0" y="436680"/>
            <a:ext cx="2208240" cy="307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A veces hay mucho tránsito, salga temprano</a:t>
            </a: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MH11"/>
          <p:cNvPicPr/>
          <p:nvPr/>
        </p:nvPicPr>
        <p:blipFill>
          <a:blip r:embed="rId1"/>
          <a:stretch/>
        </p:blipFill>
        <p:spPr>
          <a:xfrm>
            <a:off x="2849400" y="0"/>
            <a:ext cx="5818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6"/>
          <p:cNvSpPr/>
          <p:nvPr/>
        </p:nvSpPr>
        <p:spPr>
          <a:xfrm>
            <a:off x="258840" y="590400"/>
            <a:ext cx="2387520" cy="283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Arial"/>
              </a:rPr>
              <a:t>Sólo tenga cuidado en las curvas...</a:t>
            </a: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MH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80384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5"/>
          <p:cNvSpPr/>
          <p:nvPr/>
        </p:nvSpPr>
        <p:spPr>
          <a:xfrm>
            <a:off x="835200" y="376200"/>
            <a:ext cx="2365200" cy="545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Vaya con un auto pequeño y deje su mercedes , pues cuanto mas estrecho el auto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MH1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0" y="436680"/>
            <a:ext cx="2724120" cy="308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00"/>
                </a:solidFill>
                <a:latin typeface="Arial"/>
              </a:rPr>
              <a:t>La vista es muy bonita, pero no se descuide y ponga atención en el contraflu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56:50Z</dcterms:created>
  <dc:creator>redigeret</dc:creator>
  <dc:description/>
  <dc:language>en-US</dc:language>
  <cp:lastModifiedBy>John Doe</cp:lastModifiedBy>
  <dcterms:modified xsi:type="dcterms:W3CDTF">2008-09-02T18:18:42Z</dcterms:modified>
  <cp:revision>12</cp:revision>
  <dc:subject/>
  <dc:title>Hytten i Bokivia</dc:title>
</cp:coreProperties>
</file>