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C6E2-E016-4850-9974-83C2CDD9822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AD8B-6946-4281-B6B5-66A85BC19F69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DF02-C2C1-4009-BBF8-1D6981A6388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A208-EAF5-45C5-8725-80E624AD2BD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BAB9-A352-490A-8CD5-900854FE5F4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36E0-A2E9-40B1-A8BD-4D5597C3ED6E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F587-00F3-46A4-8889-337F22FED4E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7CDF-C8F9-40A4-9113-C19B753C2547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B142-4634-451C-A5AE-153711085DF2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7DB7-9722-413B-9FC0-9ADBB8245B7F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7B4F-DFF0-4805-ADFB-1A6BB6299DB5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2C27-E545-4125-B9EB-FF820EA5963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03D9-0DA9-4344-B39E-24B1B6C27811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382-3B8E-418D-9DC8-96B80A89489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0359-1DD7-46C9-A889-A0F7A094BD2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A61D-3AF0-442E-82EB-55F586A72458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CC22-18A1-4CA3-8434-4C6BCDCFBDB1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DB81-5838-4942-9709-D6DDE03CB661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0127-87FE-4660-87ED-B5D169FCD8D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424D-358B-46F4-9AF5-AE8C1CBACAA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0143-C3A5-4E2B-A95E-7690A483AB1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B111-54A9-408B-9ADF-82D0FC32147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29E8-F7E1-4570-B1C2-A56690D1387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B561-5EAA-4251-9037-6E2C32671D56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3F1-6091-4BF3-90E9-21CEE54CEC5E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87C5-9135-416A-83A3-8AE22D181DF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6D90-4C3B-4698-A63B-78B1A6562EC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FBFD-C76A-41FD-9A6C-D38661A06B08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9C32-A7CB-4446-9CA2-9F7D54EB51D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91B-43CC-4800-9A3C-53B63387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35A-D4D0-4BBB-ADF2-9777DF6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6A5-AB7E-4FD9-999A-0C6A814F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E20-B883-4ED9-8C52-2374E17B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B82-4B4C-4B62-B84B-95143D64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05B-746E-48B5-A6C9-7827AACA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F1C-5448-4B07-AF92-953D38C9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8E1-4792-4F9E-ABAC-447861A9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58D-E02C-49BD-AC8C-67853760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FDE-785F-48BB-BE19-80586BC5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26B-A7F7-4D55-BAF3-E14146D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CA5-E9E8-42D5-BFC9-7A36CA0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FB76-1A34-432B-B1D7-9376A10CD273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pré una casa camino a la playa y quería invitarlo a usted para conocerla y comer un asado allá este fin de semana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MH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39528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MH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409840" y="0"/>
            <a:ext cx="67341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0" y="1887480"/>
            <a:ext cx="2365200" cy="180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En un instante usted sube la c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MH9"/>
          <p:cNvPicPr/>
          <p:nvPr/>
        </p:nvPicPr>
        <p:blipFill>
          <a:blip r:embed="rId1"/>
          <a:stretch/>
        </p:blipFill>
        <p:spPr>
          <a:xfrm>
            <a:off x="3402000" y="0"/>
            <a:ext cx="5742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5"/>
          <p:cNvSpPr/>
          <p:nvPr/>
        </p:nvSpPr>
        <p:spPr>
          <a:xfrm>
            <a:off x="317520" y="436680"/>
            <a:ext cx="2494080" cy="22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Depués de la subida,sólo es necesario pasar los tún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ROD1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ROD4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ROD3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ROD7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ROD2"/>
          <p:cNvPicPr/>
          <p:nvPr/>
        </p:nvPicPr>
        <p:blipFill>
          <a:blip r:embed="rId1"/>
          <a:stretch/>
        </p:blipFill>
        <p:spPr>
          <a:xfrm>
            <a:off x="2863800" y="298440"/>
            <a:ext cx="6280200" cy="6559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277920" y="436680"/>
            <a:ext cx="2489040" cy="330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El aire es óptimo,hace bien para los pul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Aquí sopla bastante v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ROD5"/>
          <p:cNvPicPr/>
          <p:nvPr/>
        </p:nvPicPr>
        <p:blipFill>
          <a:blip r:embed="rId1"/>
          <a:stretch/>
        </p:blipFill>
        <p:spPr>
          <a:xfrm>
            <a:off x="3994200" y="-6480"/>
            <a:ext cx="5149800" cy="6864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250920" y="436680"/>
            <a:ext cx="3301920" cy="329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Mire la vista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que paisaje más bonit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Es una belleza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ROD6"/>
          <p:cNvPicPr/>
          <p:nvPr/>
        </p:nvPicPr>
        <p:blipFill>
          <a:blip r:embed="rId1"/>
          <a:stretch/>
        </p:blipFill>
        <p:spPr>
          <a:xfrm>
            <a:off x="2228760" y="152280"/>
            <a:ext cx="6915240" cy="6705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0" y="415800"/>
            <a:ext cx="2365200" cy="37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OKEY, ya llegam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ahora puede estacionar el auto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El andarivel queda más allá  a su izquer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38" descr="MH12"/>
          <p:cNvPicPr/>
          <p:nvPr/>
        </p:nvPicPr>
        <p:blipFill>
          <a:blip r:embed="rId1"/>
          <a:stretch/>
        </p:blipFill>
        <p:spPr>
          <a:xfrm>
            <a:off x="2496960" y="0"/>
            <a:ext cx="66470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39"/>
          <p:cNvSpPr/>
          <p:nvPr/>
        </p:nvSpPr>
        <p:spPr>
          <a:xfrm>
            <a:off x="257040" y="339840"/>
            <a:ext cx="2365560" cy="393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uando llega a la ciudad mas próxima, es solamente preguntar dónde es el camino que va para mi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8840" y="1112400"/>
            <a:ext cx="3294000" cy="238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El lo llevará hacia el de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pic18467"/>
          <p:cNvPicPr/>
          <p:nvPr/>
        </p:nvPicPr>
        <p:blipFill>
          <a:blip r:embed="rId1">
            <a:lum bright="12000"/>
          </a:blip>
          <a:srcRect l="20475" t="0" r="30708" b="0"/>
          <a:stretch/>
        </p:blipFill>
        <p:spPr>
          <a:xfrm>
            <a:off x="4419720" y="-69840"/>
            <a:ext cx="4724280" cy="692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6880" y="993240"/>
            <a:ext cx="3581280" cy="40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firmese en las cadenas y vaya caminando pisando en las tabl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pic06334"/>
          <p:cNvPicPr/>
          <p:nvPr/>
        </p:nvPicPr>
        <p:blipFill>
          <a:blip r:embed="rId1"/>
          <a:srcRect l="0" t="3267" r="0" b="0"/>
          <a:stretch/>
        </p:blipFill>
        <p:spPr>
          <a:xfrm>
            <a:off x="4492800" y="0"/>
            <a:ext cx="46512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64800"/>
            <a:ext cx="3355920" cy="55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i se cansa,puede parar y fumar un cigarrito.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as fotos desde este lugar salen muy boni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pic2650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535200" y="0"/>
            <a:ext cx="56088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6520" y="1231920"/>
            <a:ext cx="308772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ea si los niños lo siguen acompañando,no permita que se queden jug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pic19169"/>
          <p:cNvPicPr/>
          <p:nvPr/>
        </p:nvPicPr>
        <p:blipFill>
          <a:blip r:embed="rId1"/>
          <a:srcRect l="31684" t="7559" r="19960" b="7559"/>
          <a:stretch/>
        </p:blipFill>
        <p:spPr>
          <a:xfrm>
            <a:off x="4033800" y="0"/>
            <a:ext cx="51102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014120"/>
            <a:ext cx="2925720" cy="38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je a los otros que van mas apurados pasar también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pic15724"/>
          <p:cNvPicPr/>
          <p:nvPr/>
        </p:nvPicPr>
        <p:blipFill>
          <a:blip r:embed="rId1"/>
          <a:srcRect l="0" t="30435" r="0" b="0"/>
          <a:stretch/>
        </p:blipFill>
        <p:spPr>
          <a:xfrm>
            <a:off x="3193920" y="-557280"/>
            <a:ext cx="5950080" cy="767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pic11478"/>
          <p:cNvPicPr/>
          <p:nvPr/>
        </p:nvPicPr>
        <p:blipFill>
          <a:blip r:embed="rId1"/>
          <a:srcRect l="6260" t="6480" r="42859" b="7700"/>
          <a:stretch/>
        </p:blipFill>
        <p:spPr>
          <a:xfrm>
            <a:off x="3825720" y="0"/>
            <a:ext cx="5318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51000" y="318960"/>
            <a:ext cx="3130560" cy="61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hora sólo queda subir la escalera a la izquer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1000" y="318600"/>
            <a:ext cx="3130560" cy="61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i estuviera mojado de lluvia, es mejor sacarse las sapatillas en esta par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pic293581"/>
          <p:cNvPicPr/>
          <p:nvPr/>
        </p:nvPicPr>
        <p:blipFill>
          <a:blip r:embed="rId1"/>
          <a:srcRect l="16001" t="0" r="25001" b="0"/>
          <a:stretch/>
        </p:blipFill>
        <p:spPr>
          <a:xfrm>
            <a:off x="3749760" y="0"/>
            <a:ext cx="539424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96960"/>
            <a:ext cx="2549520" cy="402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stá llegando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¿No dejó nada en el au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pic269621"/>
          <p:cNvPicPr/>
          <p:nvPr/>
        </p:nvPicPr>
        <p:blipFill>
          <a:blip r:embed="rId1"/>
          <a:srcRect l="11112" t="0" r="15382" b="0"/>
          <a:stretch/>
        </p:blipFill>
        <p:spPr>
          <a:xfrm>
            <a:off x="2590920" y="-6480"/>
            <a:ext cx="6553080" cy="6864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legó! Trajo la carne y el vin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Billede28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MH2"/>
          <p:cNvPicPr/>
          <p:nvPr/>
        </p:nvPicPr>
        <p:blipFill>
          <a:blip r:embed="rId1"/>
          <a:srcRect l="0" t="0" r="704" b="0"/>
          <a:stretch/>
        </p:blipFill>
        <p:spPr>
          <a:xfrm>
            <a:off x="2567160" y="0"/>
            <a:ext cx="6351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9"/>
          <p:cNvSpPr/>
          <p:nvPr/>
        </p:nvSpPr>
        <p:spPr>
          <a:xfrm>
            <a:off x="0" y="436680"/>
            <a:ext cx="2365200" cy="22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l camino es fácil de encontrar. No hay por donde er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H3"/>
          <p:cNvPicPr/>
          <p:nvPr/>
        </p:nvPicPr>
        <p:blipFill>
          <a:blip r:embed="rId1"/>
          <a:stretch/>
        </p:blipFill>
        <p:spPr>
          <a:xfrm>
            <a:off x="3306600" y="0"/>
            <a:ext cx="58374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0" y="436680"/>
            <a:ext cx="2901960" cy="376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Demora un poco, pero es bueno. A Usted le vá a gu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Traiga a su suegr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MH13"/>
          <p:cNvPicPr/>
          <p:nvPr/>
        </p:nvPicPr>
        <p:blipFill>
          <a:blip r:embed="rId1"/>
          <a:stretch/>
        </p:blipFill>
        <p:spPr>
          <a:xfrm>
            <a:off x="1609560" y="0"/>
            <a:ext cx="7534440" cy="668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243000" y="343080"/>
            <a:ext cx="199692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i prefiere, también hay buses , ellos salen de hora en h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MH8"/>
          <p:cNvPicPr/>
          <p:nvPr/>
        </p:nvPicPr>
        <p:blipFill>
          <a:blip r:embed="rId1"/>
          <a:stretch/>
        </p:blipFill>
        <p:spPr>
          <a:xfrm>
            <a:off x="2100240" y="-1440"/>
            <a:ext cx="7043760" cy="6941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0" y="436680"/>
            <a:ext cx="2208240" cy="307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A veces hay mucho tránsito, salga temprano</a:t>
            </a: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" descr="MH11"/>
          <p:cNvPicPr/>
          <p:nvPr/>
        </p:nvPicPr>
        <p:blipFill>
          <a:blip r:embed="rId1"/>
          <a:stretch/>
        </p:blipFill>
        <p:spPr>
          <a:xfrm>
            <a:off x="2849400" y="0"/>
            <a:ext cx="5818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6"/>
          <p:cNvSpPr/>
          <p:nvPr/>
        </p:nvSpPr>
        <p:spPr>
          <a:xfrm>
            <a:off x="258840" y="590400"/>
            <a:ext cx="2387520" cy="283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Arial"/>
              </a:rPr>
              <a:t>Sólo tenga cuidado en las curvas...</a:t>
            </a: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MH1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803840" y="0"/>
            <a:ext cx="43401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5"/>
          <p:cNvSpPr/>
          <p:nvPr/>
        </p:nvSpPr>
        <p:spPr>
          <a:xfrm>
            <a:off x="835200" y="376200"/>
            <a:ext cx="2365200" cy="54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Vaya con un auto pequeño y deje su mercedes , pues cuanto mas estrecho el auto me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MH10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71880" y="0"/>
            <a:ext cx="6072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0" y="436680"/>
            <a:ext cx="2724120" cy="308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La vista es muy bonita, pero no se descuide y ponga atención en el contraflu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56:50Z</dcterms:created>
  <dc:creator>redigeret</dc:creator>
  <dc:description/>
  <dc:language>en-US</dc:language>
  <cp:lastModifiedBy>John Doe</cp:lastModifiedBy>
  <dcterms:modified xsi:type="dcterms:W3CDTF">2008-09-02T18:18:42Z</dcterms:modified>
  <cp:revision>12</cp:revision>
  <dc:subject/>
  <dc:title>Hytten i Bokivia</dc:title>
</cp:coreProperties>
</file>