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MayItBe_Enya_LordOfTheRings135.wav" ContentType="audio/x-wav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989-564A-4D73-9573-6546377D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29F2-A95A-47EE-ADBB-FE013FD4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4DE-3A75-498A-BF7B-CD4C708B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2C9E-F745-43C5-AEDC-EA686455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7674-26AC-4B35-9863-88D7B646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8107-9882-42A1-A19E-B76D7B73A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FF44-C29C-4714-99E5-61B0C6DC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21FC-DEC2-4323-962E-5B761172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C258-F85B-4B3F-8E34-46FE33FB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6829-8DB3-4110-BF00-32628C05D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B3E-26F5-4FD7-975F-AFB1429B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C829-A909-40B5-BD4A-C8AF853F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82DD-F347-4513-8D29-ABB3D8CF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1ADF-3B1E-45AF-B153-6DD23465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3531-7AAE-4B73-A910-04F3F857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A31D-E0D1-45A5-BB27-ED9EF386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EAF-403E-44F3-ABFA-CEC64D9D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377B-091A-4F6E-BCBF-8A3A71FA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775-FE95-4640-8B6D-B50D0278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C7E-F85B-4E86-90AF-BCE10F8C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6BD-899B-4F6B-8A60-89A75A6B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483-7751-4CCB-A137-F8477737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53C-01B4-46B1-A309-AA8E9AAB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BA09-DC59-4B22-92A3-4B2820D1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DE2-E764-4E87-882F-C435ED15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6D3-42A7-4A41-8AB7-2F9CEC53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CD8-5C34-4EB5-8E4A-EA797125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0FA-83D6-4853-826A-DE3355DB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ED3-1CDD-43C8-A070-5462A941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77F-D8D9-48C8-89C4-6C1030C7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0B7-48F4-42BD-A1AC-DB0E837B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C28-9222-4FCF-A26C-367D31BB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62B-D743-42AC-9EE6-EC7652F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D62-E93A-44A5-8E2B-53B872B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53E-2D8E-4D1A-A9B1-F3CA7E5F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B9F-FB07-4F5F-96C4-02868AF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3588-2E42-4F8A-BABC-5B794037F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ayItBe_Enya_LordOfTheRings135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ocationFinland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inland_Flag"/>
          <p:cNvPicPr/>
          <p:nvPr/>
        </p:nvPicPr>
        <p:blipFill>
          <a:blip r:embed="rId2"/>
          <a:stretch/>
        </p:blipFill>
        <p:spPr>
          <a:xfrm>
            <a:off x="7667640" y="5776920"/>
            <a:ext cx="1190520" cy="723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81040" y="685800"/>
            <a:ext cx="792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Finlandia no tiene muchos recursos naturales. El himno nacional dice: </a:t>
            </a: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...</a:t>
            </a:r>
            <a:r>
              <a:rPr b="1" i="1" lang="pt-BR" sz="1800" spc="-1" strike="noStrike">
                <a:solidFill>
                  <a:srgbClr val="808080"/>
                </a:solidFill>
                <a:latin typeface="Arial"/>
              </a:rPr>
              <a:t>somos un país pobre, que no tiene oro. El recurso que tenemos es nuestro pueblo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sí, invertimos en nuestro pueblo. Toda persona tiene que recibir formación y educación para ir tan lejos como su capacidad lo permit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71680" y="2343240"/>
            <a:ext cx="724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es suficiente que una sociedad posea algunas personas muy capacitadas. Toda la sociedad tiene que tener la posibilidad de formación durante toda la vid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basta con que un niño pobre reciba alguna formación cuando es pequeño. Tiene que poder estudiar cuanto quier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Y Finlandia es uno de los países mas competitivos en las estadísticas internacionales con sólo 5 millones de habita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Imagine lo qué haría con 190 millon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  <p:sndAc>
      <p:stSnd>
        <p:snd r:embed="rId3" name="MayItBe_Enya_LordOfTheRings13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5880" y="3603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desperdicia sus recursos y se empobrece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vive de ilusione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1680" y="360360"/>
            <a:ext cx="81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bbe0e3"/>
                </a:solidFill>
                <a:latin typeface="Verdana"/>
              </a:rPr>
              <a:t>Un pueblo educado sabe muy bien diferenciar un discurso serio de una prédica demagógic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189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educado prospera también en condiciones adversa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2960" y="5500800"/>
            <a:ext cx="749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Finlandia posee una economía altamente industrializada, con producción “</a:t>
            </a:r>
            <a:r>
              <a:rPr b="1" lang="pt-BR" sz="2000" spc="-1" strike="noStrike">
                <a:solidFill>
                  <a:srgbClr val="ffff29"/>
                </a:solidFill>
                <a:latin typeface="Verdana"/>
              </a:rPr>
              <a:t>per capita” </a:t>
            </a: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mayor que la del Reino Unido, Francia, Alemania e Ital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helsinqu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928960" y="112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Un pueblo ignorante es terreno abonado para la demagogia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429080" y="214200"/>
            <a:ext cx="44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Verdana"/>
              </a:rPr>
              <a:t>El patrón de vida finlandés es elevado. El sector clave de su economía es la industria - principalmente maderera, metalúrgica, ingeniería, telecomunicaciones (se destaca Nokia) y productos electrónico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28760" y="214308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l comercio exterior es importante, representando cerca del 1/3 del PBI. Con excepción de la madera y de varios minerales, Finlandia depende de importaciones de materias primas, energía, y algunos componentes de bienes manufacturado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Mono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l pensamiento de su Presidenta  difiere bastante con el de nuestras autoridades  actuales, cuanto más ignorante sea el  pueblo… más van a perdurar ellos y más  enriquecimientos ilícitos habrá. La corrupción siempre estará presente porque es el negocio de los sinvergüenz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Reenvíenlo por fav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i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3348000" y="360360"/>
            <a:ext cx="56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Si un país busca inspiración para enfrentar dos de sus principales problemas (educación y corrupción), difícilmente se podría dejar de visitar un lugar más apropiado que Finland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ia3"/>
          <p:cNvPicPr/>
          <p:nvPr/>
        </p:nvPicPr>
        <p:blipFill>
          <a:blip r:embed="rId1"/>
          <a:stretch/>
        </p:blipFill>
        <p:spPr>
          <a:xfrm>
            <a:off x="-287280" y="-25560"/>
            <a:ext cx="943128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2 Rectángulo"/>
          <p:cNvSpPr/>
          <p:nvPr/>
        </p:nvSpPr>
        <p:spPr>
          <a:xfrm>
            <a:off x="571680" y="21420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La presidenta finlandesa, Tarja Halonen, adelanta algunas palabras-clave: “fuerte inversión en educación”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(6% del PIB en Finlandia, sin contar investigación); transparencia en el gobierno; y fidelidad partidaria;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Es muy importante tener el coraje de reservar los recursos para la educación básica", resalta ell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1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i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i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571920" y="333360"/>
            <a:ext cx="53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Un pueblo educado sabrá elegir a dirigentes honestos y competentes. Estos elegirán los mejores asesor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i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2 CuadroTexto"/>
          <p:cNvSpPr/>
          <p:nvPr/>
        </p:nvSpPr>
        <p:spPr>
          <a:xfrm>
            <a:off x="64296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Un pueblo inteligente y educado no permite corruptos ni incompete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7:50:04Z</dcterms:created>
  <dc:creator/>
  <dc:description/>
  <dc:language>en-US</dc:language>
  <cp:lastModifiedBy>admin</cp:lastModifiedBy>
  <dcterms:modified xsi:type="dcterms:W3CDTF">2009-09-23T17:26:08Z</dcterms:modified>
  <cp:revision>48</cp:revision>
  <dc:subject/>
  <dc:title>www.laboutiquedelpowerpoint.com</dc:title>
</cp:coreProperties>
</file>