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MayItBe_Enya_LordOfTheRings135.wav" ContentType="audio/x-wav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21D-000D-42F1-94CA-97A7D972D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1C4A-E1E7-47AD-A93F-01EF9DAFC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93E6-6C55-420F-9D78-37C98DD0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DB51-8F07-4117-BF56-54CA2AEF9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52B2-7A9F-4B78-9D0F-90332574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07C1-978A-41AC-8626-70E88F87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C0F5-979A-4C13-B589-F284A44DE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9F9B-57F5-446B-930C-158C5DDE6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01E8-A615-4929-BD87-7D9103D6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DEEF-4924-4BB7-A1EE-5820667CE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A36B-50D5-4DDD-8689-ED2F0B0C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FCED-7016-4792-A182-1B278DAB7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1D2-246C-418E-A65F-1EF89466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0C1E-49A9-43B5-86E0-6026848BF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02C-53A9-4F5E-8C92-CE3EDD20D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866A-ABA0-4B9F-A60D-A565C715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4665-61A6-499A-9539-5CF0681EC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BC54-5614-47F4-9787-BC71FDC2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9A22-3B87-423E-97B4-20F859B1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3A02-5213-4840-ACFF-49A286D2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494F-5EE1-429C-BC47-1EF72822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24D-DD47-4992-B616-47A37161B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F0A2-2B85-4680-B026-D3722E64D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76C9-A017-4D2B-A7AD-ECA40A3B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81E-1790-43A6-A74B-4C803D7A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2ED-DE66-4A42-9B73-A89E9828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96D-576F-4DC3-899C-A19963C8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E6B-6E94-4615-A027-F8A60279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8E3-F9CE-4C29-9570-2DD36CFE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040-6A0F-4C61-A4DD-C72E9CFC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5C3-D261-44A1-8266-D518C58F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C25-08ED-441F-9811-4FBCF41F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A39-098A-47DC-AC9A-2BE9BE51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637-36A7-4D81-B81D-72DA721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7F1-E90B-4ACF-97D5-31188D2D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422-19D5-40E6-AF91-FA926B4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0D8D-96B0-400E-8B47-959C8E89D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MayItBe_Enya_LordOfTheRings135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LocationFinland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inland_Flag"/>
          <p:cNvPicPr/>
          <p:nvPr/>
        </p:nvPicPr>
        <p:blipFill>
          <a:blip r:embed="rId2"/>
          <a:stretch/>
        </p:blipFill>
        <p:spPr>
          <a:xfrm>
            <a:off x="7667640" y="5776920"/>
            <a:ext cx="1190520" cy="723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81040" y="685800"/>
            <a:ext cx="7920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Finlandia no tiene muchos recursos naturales. El himno nacional dice: </a:t>
            </a: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...</a:t>
            </a:r>
            <a:r>
              <a:rPr b="1" i="1" lang="pt-BR" sz="1800" spc="-1" strike="noStrike">
                <a:solidFill>
                  <a:srgbClr val="808080"/>
                </a:solidFill>
                <a:latin typeface="Arial"/>
              </a:rPr>
              <a:t>somos un país pobre, que no tiene oro. El recurso que tenemos es nuestro pueblo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on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sí, invertimos en nuestro pueblo. Toda persona tiene que recibir formación y educación para ir tan lejos como su capacidad lo permit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71680" y="2343240"/>
            <a:ext cx="724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o es suficiente que una sociedad posea algunas personas muy capacitadas. Toda la sociedad tiene que tener la posibilidad de formación durante toda la vid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o basta con que un niño pobre reciba alguna formación cuando es pequeño. Tiene que poder estudiar cuanto quier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Y Finlandia es uno de los países mas competitivos en las estadísticas internacionales con sólo 5 millones de habitante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Imagine lo qué haría con 190 millones. 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randomBar dir="vert"/>
    <p:sndAc>
      <p:stSnd>
        <p:snd r:embed="rId3" name="MayItBe_Enya_LordOfTheRings13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i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85880" y="36036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ignorante desperdicia sus recursos y se empobrece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ignorante vive de ilusione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i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1680" y="360360"/>
            <a:ext cx="814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bbe0e3"/>
                </a:solidFill>
                <a:latin typeface="Verdana"/>
              </a:rPr>
              <a:t>Un pueblo educado sabe muy bien diferenciar un discurso serio de una prédica demagógic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a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i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79280" y="18900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educado prospera también en condiciones adversa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i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42960" y="5500800"/>
            <a:ext cx="749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Finlandia posee una economía altamente industrializada, con producción “</a:t>
            </a:r>
            <a:r>
              <a:rPr b="1" lang="pt-BR" sz="2000" spc="-1" strike="noStrike">
                <a:solidFill>
                  <a:srgbClr val="ffff29"/>
                </a:solidFill>
                <a:latin typeface="Verdana"/>
              </a:rPr>
              <a:t>per capita” </a:t>
            </a: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mayor que la del Reino Unido, Francia, Alemania e Itali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a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helsinque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928960" y="11253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Un pueblo ignorante es terreno abonado para la demagogia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a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429080" y="214200"/>
            <a:ext cx="4478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Verdana"/>
              </a:rPr>
              <a:t>El patrón de vida finlandés es elevado. El sector clave de su economía es la industria - principalmente maderera, metalúrgica, ingeniería, telecomunicaciones (se destaca Nokia) y productos electrónico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i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ia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28760" y="2143080"/>
            <a:ext cx="47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l comercio exterior es importante, representando cerca del 1/3 del PBI. Con excepción de la madera y de varios minerales, Finlandia depende de importaciones de materias primas, energía, y algunos componentes de bienes manufacturado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i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Mono"/>
              </a:rPr>
              <a:t> 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El pensamiento de su Presidenta  difiere bastante con el de nuestras autoridades  actuales, cuanto más ignorante sea el  pueblo… más van a perdurar ellos y más  enriquecimientos ilícitos habrá. La corrupción siempre estará presente porque es el negocio de los sinvergüenz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Reenvíenlo por fav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Di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3348000" y="360360"/>
            <a:ext cx="56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Si un país busca inspiración para enfrentar dos de sus principales problemas (educación y corrupción), difícilmente se podría dejar de visitar un lugar más apropiado que Finlandi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ia3"/>
          <p:cNvPicPr/>
          <p:nvPr/>
        </p:nvPicPr>
        <p:blipFill>
          <a:blip r:embed="rId1"/>
          <a:stretch/>
        </p:blipFill>
        <p:spPr>
          <a:xfrm>
            <a:off x="-287280" y="-25560"/>
            <a:ext cx="943128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i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2 Rectángulo"/>
          <p:cNvSpPr/>
          <p:nvPr/>
        </p:nvSpPr>
        <p:spPr>
          <a:xfrm>
            <a:off x="571680" y="21420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La presidenta finlandesa, Tarja Halonen, adelanta algunas palabras-clave: “fuerte inversión en educación”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(6% del PIB en Finlandia, sin contar investigación); transparencia en el gobierno; y fidelidad partidaria;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Es muy importante tener el coraje de reservar los recursos para la educación básica", resalta ell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 advTm="1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i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i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571920" y="333360"/>
            <a:ext cx="53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cc"/>
                </a:solidFill>
                <a:latin typeface="Verdana"/>
              </a:rPr>
              <a:t>Un pueblo educado sabrá elegir a dirigentes honestos y competentes. Estos elegirán los mejores asesores. 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i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i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2 CuadroTexto"/>
          <p:cNvSpPr/>
          <p:nvPr/>
        </p:nvSpPr>
        <p:spPr>
          <a:xfrm>
            <a:off x="64296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Un pueblo inteligente y educado no permite corruptos ni incompetente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7:50:04Z</dcterms:created>
  <dc:creator/>
  <dc:description/>
  <dc:language>en-US</dc:language>
  <cp:lastModifiedBy>admin</cp:lastModifiedBy>
  <dcterms:modified xsi:type="dcterms:W3CDTF">2009-09-23T17:26:08Z</dcterms:modified>
  <cp:revision>48</cp:revision>
  <dc:subject/>
  <dc:title>www.laboutiquedelpowerpoint.com</dc:title>
</cp:coreProperties>
</file>