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7.gif" ContentType="image/gif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3.jpeg" ContentType="image/jpeg"/>
  <Override PartName="/ppt/media/image24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2D8C-26FD-4612-8DF5-606A423E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2E9D-BFE0-4D0F-ACEF-B1B9DA6B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8BA4-C870-4E73-AFE8-2DC33AA4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E3A3-9F45-41AD-A3B6-8CB2A586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E619-1FD2-4D40-AA2C-F3ACABE7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FEEE-0937-49EA-BD6E-912A458A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DB95-051C-424D-BE95-D974A874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4C50-A7A3-4194-9FAA-A7CE5251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2829-B846-4A6E-AE91-A0A12EE3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FEDD-39C5-4AAE-9A4F-1E492A7C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111-F1A0-42EA-B2C9-3F29FEB3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D502-7348-4FB4-8061-09620C97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3E67-247D-42F6-992F-E06772523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96080" y="6172200"/>
            <a:ext cx="685800" cy="493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5791320"/>
            <a:ext cx="7620120" cy="990360"/>
          </a:xfrm>
          <a:prstGeom prst="ellipse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Lucida Calligraphy"/>
              </a:rPr>
              <a:t>Música    Serenata</a:t>
            </a:r>
            <a:r>
              <a:rPr b="1" i="1" lang="en-US" sz="3600" spc="-1" strike="noStrike">
                <a:solidFill>
                  <a:srgbClr val="4d4d4d"/>
                </a:solidFill>
                <a:latin typeface="Lucida Calligraph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1911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114300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000066"/>
                </a:solidFill>
                <a:latin typeface="Arial"/>
              </a:rPr>
              <a:t>Vuelta al mun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333399"/>
                </a:solidFill>
                <a:latin typeface="Arial"/>
              </a:rPr>
              <a:t>al son del violí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000066"/>
                </a:solidFill>
                <a:latin typeface="Arial"/>
              </a:rPr>
              <a:t>ISAAC STER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10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10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07440" y="3276720"/>
            <a:ext cx="35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Emergiendo de la Gran Muralla 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4.44444E-006 0 C -0.21146 -0.03542 -0.42257 -0.07083 -0.5224 0.00787 C -0.62223 0.08657 -0.58646 0.39537 -0.59966 0.47199 E">
                                      <p:cBhvr>
                                        <p:cTn id="84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7160" y="173160"/>
            <a:ext cx="8683560" cy="6511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9880" y="6400800"/>
            <a:ext cx="310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Lucida Calligraphy"/>
              </a:rPr>
              <a:t>Fuerte La Latte, Bretaña, Fra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11440" y="6400800"/>
            <a:ext cx="374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Lucida Calligraphy"/>
              </a:rPr>
              <a:t>Peñon de Ifach, Calpe, Alicante, Españ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0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7160" y="173160"/>
            <a:ext cx="8692920" cy="6519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841320" y="152280"/>
            <a:ext cx="29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Plougrescant, Bretaña, Fra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1224 -0.04444 L -0.73906 0.9 E">
                                      <p:cBhvr>
                                        <p:cTn id="116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7160" y="173160"/>
            <a:ext cx="8692920" cy="6519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64800" y="6400800"/>
            <a:ext cx="422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Climatron, Jardín Botánico, San Luis, Missou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42440" y="6553080"/>
            <a:ext cx="42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Gran Salón, Estación Unión,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 Luis</a:t>
            </a: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 Missou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560" y="6553080"/>
            <a:ext cx="28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Ocean Dome, Miyazaki, Jap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95240" y="6553080"/>
            <a:ext cx="33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Campo de Pagoda, Bagan, Myan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7160" y="173160"/>
            <a:ext cx="8692920" cy="6519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20120" y="6400800"/>
            <a:ext cx="314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Baños Gellert, Budapest, Hung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7160" y="173160"/>
            <a:ext cx="8692920" cy="6519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6760" y="63244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Coliseo, Roma, 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7160" y="173160"/>
            <a:ext cx="8692920" cy="6519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51640" y="6400800"/>
            <a:ext cx="381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Palacio Buckingham, Londres, Inglater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F1E2-7900-4216-9B95-7500272D5CF1}" type="slidenum">
              <a:t>2</a:t>
            </a:fld>
          </a:p>
        </p:txBody>
      </p:sp>
    </p:spTree>
  </p:cSld>
  <p:transition spd="slow" advTm="7000">
    <p:wheel spokes="3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5280" y="6553080"/>
            <a:ext cx="245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Torre Eiffel, Paris, Fra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56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6" autoRev="1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7160" y="173160"/>
            <a:ext cx="8683560" cy="6518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00480" y="6400800"/>
            <a:ext cx="238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Lucida Calligraphy"/>
              </a:rPr>
              <a:t>Acropolis, Atenas, Gre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heel spokes="3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7160" y="173160"/>
            <a:ext cx="8692920" cy="6519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473040" y="6273720"/>
            <a:ext cx="43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c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mori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Chiang Kai-Shek, Taipei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pull dir="r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118 -0.02615 C 0.01511 -0.11226 0.04202 -0.19838 -0.09427 -0.27338 C -0.23055 -0.34861 -0.73611 -0.52222 -0.82934 -0.47708 C -0.92257 -0.43194 -0.68316 -0.08148 -0.65364 -0.00254 E">
                                      <p:cBhvr>
                                        <p:cTn id="198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617200" y="6553080"/>
            <a:ext cx="22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City Hall, Viena, Aust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2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7160" y="173160"/>
            <a:ext cx="8692920" cy="6519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64760" y="6400800"/>
            <a:ext cx="421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El edificio del Parlamento, Budapest, Hung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2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213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214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667320" y="6424560"/>
            <a:ext cx="41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l edificio del Parlamento, Viena, Aust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534520" y="6095880"/>
            <a:ext cx="438120" cy="762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60120" y="0"/>
            <a:ext cx="32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Vista panorámica del Capitolio, 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7160" y="173160"/>
            <a:ext cx="8692920" cy="6519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24480" y="640080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66"/>
                </a:solidFill>
                <a:latin typeface="Lucida Calligraphy"/>
              </a:rPr>
              <a:t>Plaza de España, Sevilla, Españ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96480" y="6553080"/>
            <a:ext cx="325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Basílica Sacre Coeur, Paris, Fra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6480" y="6553080"/>
            <a:ext cx="56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De compras en los almecenes de Harrods, Londres, Inglater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7160" y="173160"/>
            <a:ext cx="8692920" cy="6519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" y="6324480"/>
            <a:ext cx="47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Ayuntamiento de estilo gótico de Wroclaw, Polo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6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6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871360" y="655308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Río Limmat, Sui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Rot by="21600000">
                                      <p:cBhvr>
                                        <p:cTn id="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7160" y="173160"/>
            <a:ext cx="8683560" cy="651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543480" y="6400800"/>
            <a:ext cx="235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alligraphy"/>
              </a:rPr>
              <a:t>San Francisc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22:20:17Z</dcterms:created>
  <dc:creator>sasocar fuego</dc:creator>
  <dc:description/>
  <dc:language>en-US</dc:language>
  <cp:lastModifiedBy>Secretaria de Medio Ambiente y</cp:lastModifiedBy>
  <dcterms:modified xsi:type="dcterms:W3CDTF">2008-02-29T18:11:18Z</dcterms:modified>
  <cp:revision>33</cp:revision>
  <dc:subject/>
  <dc:title>Landmarks</dc:title>
</cp:coreProperties>
</file>