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26F-6D0B-4181-BD0A-906E23A6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018-8934-43B0-BB15-C81D301C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8B2-AC28-4D4D-89A8-288DA399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BB2-C3D3-486A-9B45-A70B6EA2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0D3-9069-4C85-9F7B-6AE24526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83D-7408-43EC-A84F-64E1048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7C9-CDBE-4A0F-B34D-58CBE09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B13-1DED-424A-BE3B-53AFE0F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82B-6A1A-45BE-A793-E0F1946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D63-BC1A-439D-B020-66FD82E7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6E0-7FF8-4B8F-9A66-4A79778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9AD-0FC3-40AA-AAAD-842B65FE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3BC-FAFD-4C93-B29A-2623CF56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96080" y="6172200"/>
            <a:ext cx="685800" cy="49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5791320"/>
            <a:ext cx="7620120" cy="990360"/>
          </a:xfrm>
          <a:prstGeom prst="ellipse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Lucida Calligraphy"/>
              </a:rPr>
              <a:t>Música    Serenata</a:t>
            </a:r>
            <a:r>
              <a:rPr b="1" i="1" lang="en-US" sz="3600" spc="-1" strike="noStrike">
                <a:solidFill>
                  <a:srgbClr val="4d4d4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1430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66"/>
                </a:solidFill>
                <a:latin typeface="Arial"/>
              </a:rPr>
              <a:t>Vuelta al m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333399"/>
                </a:solidFill>
                <a:latin typeface="Arial"/>
              </a:rPr>
              <a:t>al son del violí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66"/>
                </a:solidFill>
                <a:latin typeface="Arial"/>
              </a:rPr>
              <a:t>ISAAC ST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07440" y="3276720"/>
            <a:ext cx="35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Emergiendo de la Gran Muralla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4.44444E-006 0 C -0.21146 -0.03542 -0.42257 -0.07083 -0.5224 0.00787 C -0.62223 0.08657 -0.58646 0.39537 -0.59966 0.47199 E">
                                      <p:cBhvr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160" y="173160"/>
            <a:ext cx="8683560" cy="6511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9880" y="640080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Lucida Calligraphy"/>
              </a:rPr>
              <a:t>Fuerte La Latte, Bretaña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11440" y="64008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Lucida Calligraphy"/>
              </a:rPr>
              <a:t>Peñon de Ifach, Calpe, Alicante, Españ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41320" y="15228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Plougrescant, Bretaña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1224 -0.04444 L -0.73906 0.9 E">
                                      <p:cBhvr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64800" y="6400800"/>
            <a:ext cx="42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limatron, Jardín Botánico, San Luis, Miss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2440" y="6553080"/>
            <a:ext cx="42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Gran Salón, Estación Unión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Luis</a:t>
            </a: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 Miss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560" y="6553080"/>
            <a:ext cx="28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Ocean Dome, Miyazaki, Jap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5240" y="655308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ampo de Pagoda, Bagan, Myan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92920" cy="651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20120" y="6400800"/>
            <a:ext cx="314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Baños Gellert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63244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oliseo, Roma,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51640" y="6400800"/>
            <a:ext cx="381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Palacio Buckingham, Londres, Ingla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600-260C-497B-A15B-94FAC86FC3CB}" type="slidenum">
              <a:t>2</a:t>
            </a:fld>
          </a:p>
        </p:txBody>
      </p:sp>
    </p:spTree>
  </p:cSld>
  <p:transition spd="slow" advTm="7000"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5280" y="655308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Torre Eiffel, Paris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83560" cy="651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00480" y="640080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Lucida Calligraphy"/>
              </a:rPr>
              <a:t>Acropolis, Atenas, Gre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3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92920" cy="6519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473040" y="627372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mo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hiang Kai-Shek, Taipei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ll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118 -0.02615 C 0.01511 -0.11226 0.04202 -0.19838 -0.09427 -0.27338 C -0.23055 -0.34861 -0.73611 -0.52222 -0.82934 -0.47708 C -0.92257 -0.43194 -0.68316 -0.08148 -0.65364 -0.00254 E">
                                      <p:cBhvr>
                                        <p:cTn id="19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17200" y="6553080"/>
            <a:ext cx="22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ity Hall, Viena, 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92920" cy="6519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64760" y="6400800"/>
            <a:ext cx="42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El edificio del Parlamento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1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67320" y="6424560"/>
            <a:ext cx="41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l edificio del Parlamento, Viena, Aust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534520" y="6095880"/>
            <a:ext cx="438120" cy="76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60120" y="0"/>
            <a:ext cx="32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Vista panorámica del Capitolio,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24480" y="6400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Lucida Calligraphy"/>
              </a:rPr>
              <a:t>Plaza de España, Sevilla, Españ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6480" y="655308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Basílica Sacre Coeur, Paris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6480" y="6553080"/>
            <a:ext cx="56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De compras en los almecenes de Harrods, Londres, Ingla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6324480"/>
            <a:ext cx="47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Ayuntamiento de estilo gótico de Wroclaw, Pol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71360" y="655308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Río Limmat, 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83560" cy="651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43480" y="6400800"/>
            <a:ext cx="23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San Francisc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2:20:17Z</dcterms:created>
  <dc:creator>sasocar fuego</dc:creator>
  <dc:description/>
  <dc:language>en-US</dc:language>
  <cp:lastModifiedBy>Secretaria de Medio Ambiente y</cp:lastModifiedBy>
  <dcterms:modified xsi:type="dcterms:W3CDTF">2008-02-29T18:11:18Z</dcterms:modified>
  <cp:revision>33</cp:revision>
  <dc:subject/>
  <dc:title>Landmarks</dc:title>
</cp:coreProperties>
</file>