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Piano%20by%20candlelight%2010%20-%20Chopin%20-%20Nocturne%20in%20D%20Flat%20major.wav" ContentType="audio/x-wav"/>
  <Override PartName="/ppt/media/image6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26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578-7391-484B-A6E5-C51245B3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5BF-0278-4995-B1E7-461BD50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C40-D75B-4DC9-8AF6-AF1FB82C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C3F-54A6-43AB-A843-385BAA78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C30-FF14-402A-958D-97B9070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785-BF83-4551-8E42-F4A268D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4F7-6100-495C-8359-CF4246BC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B5A-DED4-4EA4-9AA7-A3F76EB1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A42-9DF6-4B7C-9CE4-AC3C02FA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005-9B25-450A-B2BB-2197A3E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318-12FF-4817-B0DE-6A4920CE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9DC-6658-499F-85E4-D251401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095-C1C1-4886-B872-7693FF4E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Piano%20by%20candlelight%2010%20-%20Chopin%20-%20Nocturne%20in%20D%20Flat%20majo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205000"/>
            <a:ext cx="6626160" cy="17398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dicado a los que aún siguen pensando que fotografiar sólo consiste en apretar un bot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734080"/>
            <a:ext cx="914400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6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57320"/>
            <a:ext cx="7632720" cy="670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a66f00"/>
          </a:solidFill>
          <a:ln w="9360">
            <a:solidFill>
              <a:srgbClr val="a6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7632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1080" y="6093000"/>
            <a:ext cx="964908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9433080" cy="9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c9f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734080"/>
            <a:ext cx="9144000" cy="133992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877000"/>
            <a:ext cx="9144000" cy="1736640"/>
          </a:xfrm>
          <a:prstGeom prst="rect">
            <a:avLst/>
          </a:prstGeom>
          <a:solidFill>
            <a:srgbClr val="966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32508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956720" y="6165720"/>
            <a:ext cx="1187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457200" y="5877000"/>
            <a:ext cx="9601200" cy="12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805360"/>
            <a:ext cx="9252000" cy="129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1080" y="1434960"/>
            <a:ext cx="489600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Reno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2957400"/>
            <a:ext cx="353232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ierre-Augu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841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92360" y="4560840"/>
            <a:ext cx="54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Dream Of Harmon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7080" y="600084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ps made by Tslila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Music: chopin-nocturn in d flat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9144000" cy="631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165720"/>
            <a:ext cx="914400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609300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9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877000"/>
            <a:ext cx="9144000" cy="12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2360" y="5589720"/>
            <a:ext cx="9648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5872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590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0"/>
            <a:ext cx="234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65520" cy="684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226836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451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00720" y="0"/>
            <a:ext cx="327492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902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0"/>
            <a:ext cx="1224000" cy="69580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88000" y="6453360"/>
            <a:ext cx="255600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67640" y="6093000"/>
            <a:ext cx="147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2195640" cy="6858000"/>
          </a:xfrm>
          <a:prstGeom prst="rect">
            <a:avLst/>
          </a:prstGeom>
          <a:solidFill>
            <a:srgbClr val="c8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1994040"/>
            <a:ext cx="9360000" cy="286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4581360"/>
            <a:ext cx="91440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81080" y="4581360"/>
            <a:ext cx="964908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252000" cy="1989000"/>
          </a:xfrm>
          <a:prstGeom prst="rect">
            <a:avLst/>
          </a:prstGeom>
          <a:solidFill>
            <a:srgbClr val="c28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2340000" cy="685800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7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8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1116000" cy="69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54200" y="27000"/>
            <a:ext cx="7489800" cy="6831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87280" y="6524640"/>
            <a:ext cx="810108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2681640" y="2681640"/>
            <a:ext cx="705636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97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6497640"/>
            <a:ext cx="763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6021360"/>
            <a:ext cx="9144000" cy="576360"/>
          </a:xfrm>
          <a:prstGeom prst="rect">
            <a:avLst/>
          </a:prstGeom>
          <a:solidFill>
            <a:srgbClr val="005dba"/>
          </a:solidFill>
          <a:ln w="9360">
            <a:solidFill>
              <a:srgbClr val="005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237360"/>
            <a:ext cx="914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3360"/>
            <a:ext cx="914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8920" y="1600200"/>
            <a:ext cx="189360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719680" y="1600200"/>
            <a:ext cx="1893960" cy="21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528920" y="3938760"/>
            <a:ext cx="1895400" cy="21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6120000" cy="702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5640" y="6713640"/>
            <a:ext cx="727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497640"/>
            <a:ext cx="936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6497640"/>
            <a:ext cx="936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381720"/>
            <a:ext cx="91440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468360" y="-25560"/>
            <a:ext cx="10153800" cy="6640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0" y="5949360"/>
            <a:ext cx="9468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09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3b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7029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-1260360" y="0"/>
            <a:ext cx="302400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406160" cy="739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48360" y="6620040"/>
            <a:ext cx="2521080" cy="47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308640"/>
            <a:ext cx="9144000" cy="750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3232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7029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0"/>
            <a:ext cx="6984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541440" y="0"/>
            <a:ext cx="2087640" cy="7101000"/>
          </a:xfrm>
          <a:prstGeom prst="rect">
            <a:avLst/>
          </a:prstGeom>
          <a:solidFill>
            <a:srgbClr val="2a80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19280" y="-316080"/>
            <a:ext cx="5915160" cy="763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154764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0"/>
            <a:ext cx="169236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36000" cy="6023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093000"/>
            <a:ext cx="12589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181080" y="6093000"/>
            <a:ext cx="950616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181080" y="6308640"/>
            <a:ext cx="95061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8172360" cy="7029360"/>
          </a:xfrm>
          <a:prstGeom prst="rect">
            <a:avLst/>
          </a:prstGeom>
          <a:solidFill>
            <a:srgbClr val="99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343640" cy="6392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6524640"/>
            <a:ext cx="777708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9a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165720"/>
            <a:ext cx="914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740720" y="6453360"/>
            <a:ext cx="172728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2492280"/>
            <a:ext cx="6626160" cy="14770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esionante, ¿ver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¡Que tengáis un buen dí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734080"/>
            <a:ext cx="889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0:35:10Z</dcterms:created>
  <dc:creator>vince-jane</dc:creator>
  <dc:description/>
  <dc:language>en-US</dc:language>
  <cp:lastModifiedBy>LMS</cp:lastModifiedBy>
  <dcterms:modified xsi:type="dcterms:W3CDTF">2010-06-18T07:35:27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41000000000001024120</vt:lpwstr>
  </property>
</Properties>
</file>