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6.jpeg" ContentType="image/jpeg"/>
  <Override PartName="/ppt/media/Piano%20by%20candlelight%2010%20-%20Chopin%20-%20Nocturne%20in%20D%20Flat%20major.wav" ContentType="audio/x-wav"/>
  <Override PartName="/ppt/media/image6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0.jpeg" ContentType="image/jpeg"/>
  <Override PartName="/ppt/media/image13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62.jpeg" ContentType="image/jpeg"/>
  <Override PartName="/ppt/media/image5.jpeg" ContentType="image/jpeg"/>
  <Override PartName="/ppt/media/image18.jpeg" ContentType="image/jpeg"/>
  <Override PartName="/ppt/media/image21.jpeg" ContentType="image/jpeg"/>
  <Override PartName="/ppt/media/image60.jpeg" ContentType="image/jpeg"/>
  <Override PartName="/ppt/media/image37.jpeg" ContentType="image/jpeg"/>
  <Override PartName="/ppt/media/image16.jpeg" ContentType="image/jpeg"/>
  <Override PartName="/ppt/media/image20.jpeg" ContentType="image/jpeg"/>
  <Override PartName="/ppt/media/image42.jpeg" ContentType="image/jpeg"/>
  <Override PartName="/ppt/media/image59.jpeg" ContentType="image/jpeg"/>
  <Override PartName="/ppt/media/image26.jpeg" ContentType="image/jpeg"/>
  <Override PartName="/ppt/media/image5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EC9E-8ED4-408D-95CC-03D9ACF7C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D66C-65EC-4D89-82E3-A58D0AE3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D8E3-7946-4EB0-9144-B41C13491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9C9A-FEDD-4E15-90F2-7C8F20A58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FEC9-65C0-4B9B-A939-C344559A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888F-1615-433F-A56E-F57440F6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6A9F-9CE8-47DA-9B73-682B1C85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23A7-E10D-4945-83C3-7C0671AF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AE31-F998-49A3-B914-A8D6CAD2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65FA-A038-4508-98AF-A1A2338A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62B0-F56B-4E15-B39C-20826DFE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3006-FEE8-469A-BE44-93725151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9BE4-5FB5-4E33-AFD1-1977F766A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audio" Target="../media/Piano%20by%20candlelight%2010%20-%20Chopin%20-%20Nocturne%20in%20D%20Flat%20major.wav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3.jpeg"/><Relationship Id="rId3" Type="http://schemas.openxmlformats.org/officeDocument/2006/relationships/image" Target="../media/image33.jpeg"/><Relationship Id="rId4" Type="http://schemas.openxmlformats.org/officeDocument/2006/relationships/image" Target="../media/image33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0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95808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4000" y="2492280"/>
            <a:ext cx="4753080" cy="1441440"/>
          </a:xfrm>
          <a:prstGeom prst="rect">
            <a:avLst/>
          </a:prstGeom>
          <a:solidFill>
            <a:srgbClr val="be71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2205000"/>
            <a:ext cx="6626160" cy="1739880"/>
          </a:xfrm>
          <a:prstGeom prst="rect">
            <a:avLst/>
          </a:prstGeom>
          <a:solidFill>
            <a:srgbClr val="be7100"/>
          </a:solidFill>
          <a:ln w="9360">
            <a:solidFill>
              <a:srgbClr val="be7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edicado a los que aún siguen pensando que fotografiar sólo consiste en apretar un botó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100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5734080"/>
            <a:ext cx="9144000" cy="79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66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55640" y="157320"/>
            <a:ext cx="7632720" cy="67006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a66f00"/>
          </a:solidFill>
          <a:ln w="9360">
            <a:solidFill>
              <a:srgbClr val="a6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6453360"/>
            <a:ext cx="763272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719280"/>
            <a:ext cx="9144000" cy="5641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-181080" y="6093000"/>
            <a:ext cx="9649080" cy="502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5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114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6237360"/>
            <a:ext cx="9433080" cy="966600"/>
          </a:xfrm>
          <a:prstGeom prst="rect">
            <a:avLst/>
          </a:prstGeom>
          <a:solidFill>
            <a:srgbClr val="000000"/>
          </a:solidFill>
          <a:ln w="9360">
            <a:solidFill>
              <a:srgbClr val="c9f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146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5734080"/>
            <a:ext cx="9144000" cy="1339920"/>
          </a:xfrm>
          <a:prstGeom prst="rect">
            <a:avLst/>
          </a:prstGeom>
          <a:solidFill>
            <a:srgbClr val="00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3336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472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5877000"/>
            <a:ext cx="9144000" cy="1736640"/>
          </a:xfrm>
          <a:prstGeom prst="rect">
            <a:avLst/>
          </a:prstGeom>
          <a:solidFill>
            <a:srgbClr val="966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325080" cy="76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19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956720" y="6165720"/>
            <a:ext cx="1187280" cy="358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-457200" y="5877000"/>
            <a:ext cx="9601200" cy="120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5805360"/>
            <a:ext cx="9252000" cy="129564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981080" y="1434960"/>
            <a:ext cx="4896000" cy="120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imes New Roman"/>
              </a:rPr>
              <a:t>Renoi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484360" y="2957400"/>
            <a:ext cx="3532320" cy="11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Pierre-Augus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1841-191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692360" y="4560840"/>
            <a:ext cx="5472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 Dream Of Harmony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197080" y="6000840"/>
            <a:ext cx="446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Pps made by Tslila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71640" y="5157720"/>
            <a:ext cx="338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cc"/>
                </a:solidFill>
                <a:latin typeface="Times New Roman"/>
                <a:ea typeface="Times New Roman"/>
              </a:rPr>
              <a:t>Music: chopin-nocturn in d flat maj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9144000" cy="7101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0" y="189000"/>
            <a:ext cx="9144000" cy="631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6165720"/>
            <a:ext cx="9144000" cy="93528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950080"/>
            <a:ext cx="25092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893080" y="6093000"/>
            <a:ext cx="25092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4f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45910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5877000"/>
            <a:ext cx="9144000" cy="12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252360" y="5589720"/>
            <a:ext cx="9648720" cy="28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46360" y="1600200"/>
            <a:ext cx="1458720" cy="2185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937120" y="1600200"/>
            <a:ext cx="1459080" cy="2185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1746360" y="3938760"/>
            <a:ext cx="1460520" cy="2187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0"/>
            <a:ext cx="2340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2195640" y="0"/>
            <a:ext cx="4565520" cy="6840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2195640" y="0"/>
            <a:ext cx="4578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6" presetSubtype="26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680000" cy="7029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0"/>
            <a:ext cx="2268360" cy="710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c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843280" y="0"/>
            <a:ext cx="345132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300720" y="0"/>
            <a:ext cx="3274920" cy="6858000"/>
          </a:xfrm>
          <a:prstGeom prst="rect">
            <a:avLst/>
          </a:prstGeom>
          <a:solidFill>
            <a:srgbClr val="007c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985080" cy="69022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8101080" y="0"/>
            <a:ext cx="1224000" cy="695808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588000" y="6453360"/>
            <a:ext cx="2556000" cy="57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08b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371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7667640" y="6093000"/>
            <a:ext cx="1476360" cy="43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6021360"/>
            <a:ext cx="9144000" cy="836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83048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0"/>
            <a:ext cx="2195640" cy="6858000"/>
          </a:xfrm>
          <a:prstGeom prst="rect">
            <a:avLst/>
          </a:prstGeom>
          <a:solidFill>
            <a:srgbClr val="c877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842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9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746360" y="1600200"/>
            <a:ext cx="1460520" cy="21859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937120" y="1600200"/>
            <a:ext cx="1460520" cy="2185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1746360" y="3938760"/>
            <a:ext cx="1460520" cy="21873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53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2195640" y="0"/>
            <a:ext cx="457812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2195640" y="0"/>
            <a:ext cx="4579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" dur="5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" dur="5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-108000" y="1994040"/>
            <a:ext cx="9360000" cy="28684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0" y="4581360"/>
            <a:ext cx="914400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-181080" y="4581360"/>
            <a:ext cx="9649080" cy="2276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252000" cy="1989000"/>
          </a:xfrm>
          <a:prstGeom prst="rect">
            <a:avLst/>
          </a:prstGeom>
          <a:solidFill>
            <a:srgbClr val="c28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83876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0" y="0"/>
            <a:ext cx="97164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172360" y="0"/>
            <a:ext cx="97164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913440" cy="69134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0" y="0"/>
            <a:ext cx="1116000" cy="6858000"/>
          </a:xfrm>
          <a:prstGeom prst="rect">
            <a:avLst/>
          </a:prstGeom>
          <a:solidFill>
            <a:srgbClr val="cc9900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4968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0" y="0"/>
            <a:ext cx="2340000" cy="6858000"/>
          </a:xfrm>
          <a:prstGeom prst="rect">
            <a:avLst/>
          </a:prstGeom>
          <a:solidFill>
            <a:srgbClr val="ff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571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4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913440" cy="68864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0" y="0"/>
            <a:ext cx="1116000" cy="695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654200" y="27000"/>
            <a:ext cx="7489800" cy="6831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187280" y="6524640"/>
            <a:ext cx="8101080" cy="333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16200000">
            <a:off x="-2681640" y="2681640"/>
            <a:ext cx="7056360" cy="16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973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99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26920" y="6497640"/>
            <a:ext cx="763272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5d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6307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0" y="6021360"/>
            <a:ext cx="9144000" cy="576360"/>
          </a:xfrm>
          <a:prstGeom prst="rect">
            <a:avLst/>
          </a:prstGeom>
          <a:solidFill>
            <a:srgbClr val="005dba"/>
          </a:solidFill>
          <a:ln w="9360">
            <a:solidFill>
              <a:srgbClr val="005d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331920"/>
            <a:ext cx="9144000" cy="61070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0" y="6137280"/>
            <a:ext cx="9144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3104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0" y="6308640"/>
            <a:ext cx="914400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349200"/>
            <a:ext cx="9144000" cy="62326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0" y="6237360"/>
            <a:ext cx="914400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333360"/>
            <a:ext cx="9144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528920" y="1600200"/>
            <a:ext cx="1893600" cy="21859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719680" y="1600200"/>
            <a:ext cx="1893960" cy="21859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1528920" y="3938760"/>
            <a:ext cx="1895400" cy="2187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1476360" y="0"/>
            <a:ext cx="6120000" cy="70293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755640" y="6713640"/>
            <a:ext cx="7272360" cy="287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4360" y="6497640"/>
            <a:ext cx="93636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451640" y="6497640"/>
            <a:ext cx="936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2722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0" y="6381720"/>
            <a:ext cx="9144000" cy="87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-468360" y="-25560"/>
            <a:ext cx="10153800" cy="66405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flipV="1">
            <a:off x="0" y="5949360"/>
            <a:ext cx="9468000" cy="43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270920" cy="46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003b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5622840" cy="70293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-1260360" y="0"/>
            <a:ext cx="3024000" cy="710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461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541440" y="-316080"/>
            <a:ext cx="10406160" cy="7399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948360" y="6620040"/>
            <a:ext cx="2521080" cy="475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0991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0" y="6308640"/>
            <a:ext cx="9144000" cy="7509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0"/>
            <a:ext cx="9323280" cy="702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547640" y="0"/>
            <a:ext cx="5959800" cy="702936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0" y="0"/>
            <a:ext cx="69840" cy="6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-541440" y="0"/>
            <a:ext cx="2087640" cy="7101000"/>
          </a:xfrm>
          <a:prstGeom prst="rect">
            <a:avLst/>
          </a:prstGeom>
          <a:solidFill>
            <a:srgbClr val="2a805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705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1619280" y="-316080"/>
            <a:ext cx="5915160" cy="76327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0" y="0"/>
            <a:ext cx="1547640" cy="7029360"/>
          </a:xfrm>
          <a:prstGeom prst="rect">
            <a:avLst/>
          </a:prstGeom>
          <a:solidFill>
            <a:srgbClr val="dc9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451640" y="0"/>
            <a:ext cx="1692360" cy="7029360"/>
          </a:xfrm>
          <a:prstGeom prst="rect">
            <a:avLst/>
          </a:prstGeom>
          <a:solidFill>
            <a:srgbClr val="dc9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036000" cy="60231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0" y="6093000"/>
            <a:ext cx="1258920" cy="288720"/>
          </a:xfrm>
          <a:prstGeom prst="rect">
            <a:avLst/>
          </a:prstGeom>
          <a:solidFill>
            <a:srgbClr val="0000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-181080" y="6093000"/>
            <a:ext cx="9506160" cy="288720"/>
          </a:xfrm>
          <a:prstGeom prst="rect">
            <a:avLst/>
          </a:prstGeom>
          <a:solidFill>
            <a:srgbClr val="0000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-181080" y="6308640"/>
            <a:ext cx="950616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0"/>
            <a:ext cx="8172360" cy="7029360"/>
          </a:xfrm>
          <a:prstGeom prst="rect">
            <a:avLst/>
          </a:prstGeom>
          <a:solidFill>
            <a:srgbClr val="9966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7343640" cy="639288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250920" y="6524640"/>
            <a:ext cx="7777080" cy="333360"/>
          </a:xfrm>
          <a:prstGeom prst="rect">
            <a:avLst/>
          </a:prstGeom>
          <a:solidFill>
            <a:srgbClr val="996600"/>
          </a:solidFill>
          <a:ln w="9360">
            <a:solidFill>
              <a:srgbClr val="9a6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9d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246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0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815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0" y="6165720"/>
            <a:ext cx="9144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720360" cy="6777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740720" y="6453360"/>
            <a:ext cx="1727280" cy="28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1038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 flipV="1">
            <a:off x="0" y="6308640"/>
            <a:ext cx="9144000" cy="865440"/>
          </a:xfrm>
          <a:prstGeom prst="rect">
            <a:avLst/>
          </a:prstGeom>
          <a:solidFill>
            <a:srgbClr val="0000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0706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0" y="6308640"/>
            <a:ext cx="9144000" cy="865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0"/>
            <a:ext cx="9144000" cy="695808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124000" y="2492280"/>
            <a:ext cx="4753080" cy="1441440"/>
          </a:xfrm>
          <a:prstGeom prst="rect">
            <a:avLst/>
          </a:prstGeom>
          <a:solidFill>
            <a:srgbClr val="be71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258920" y="2492280"/>
            <a:ext cx="6626160" cy="1477080"/>
          </a:xfrm>
          <a:prstGeom prst="rect">
            <a:avLst/>
          </a:prstGeom>
          <a:solidFill>
            <a:srgbClr val="be7100"/>
          </a:solidFill>
          <a:ln w="9360">
            <a:solidFill>
              <a:srgbClr val="be7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mpresionante, ¿verda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¡Que tengáis un buen día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1528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048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0920" y="5734080"/>
            <a:ext cx="8893080" cy="142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5877000"/>
            <a:ext cx="9144000" cy="98100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6T00:35:10Z</dcterms:created>
  <dc:creator>vince-jane</dc:creator>
  <dc:description/>
  <dc:language>en-US</dc:language>
  <cp:lastModifiedBy>LMS</cp:lastModifiedBy>
  <dcterms:modified xsi:type="dcterms:W3CDTF">2010-06-18T07:35:27Z</dcterms:modified>
  <cp:revision>9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c41000000000001024120</vt:lpwstr>
  </property>
</Properties>
</file>