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EAA7C-864F-4304-BEFD-F8032B54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091C-332A-462C-ABD0-B6CF1EAE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4BEF-D8B0-4240-907B-7FC89D0CB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4BBC1-2349-4472-9FD8-9B8DBB97C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CBEF-BF51-4419-8776-21385174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AE3A4-41FE-4FF9-B727-76BF25EE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3DD6-DB23-4150-AC92-6B22C970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C5D5-AF9B-4310-AFE2-2A761C70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E524-AE0F-41BD-B0D9-AFBDB1BA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F458-62C0-4217-BE36-9C179BAB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B634-858B-49A2-8A58-45BC6E18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2DF8-EBE0-42FA-9430-69B08E96F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91C6-21D1-4217-91AF-64D74798C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FC67-0CE0-47E8-8517-FA4D9D8A68D0}"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4B6F-DBE3-4ED4-BA5D-662E6BE21B00}"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5C13-570E-4FC8-916C-5C12B5B2598D}"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3846-867D-4793-B94C-2B936120ABC0}"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6893-C955-4925-90B8-29C5229D915D}" type="datetime10">
              <a:rPr b="0" lang="en-US" sz="1200" spc="-1" strike="noStrike">
                <a:solidFill>
                  <a:srgbClr val="000000"/>
                </a:solidFill>
                <a:latin typeface="Arial"/>
              </a:rPr>
              <a:t>16:53</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52D4-BA42-4050-98F4-55A8555986E2}"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BFB4-D149-4EE8-AAA5-D6BC36A043C0}" type="datetime10">
              <a:rPr b="0" lang="en-US" sz="1200" spc="-1" strike="noStrike">
                <a:solidFill>
                  <a:srgbClr val="000000"/>
                </a:solidFill>
                <a:latin typeface="Arial"/>
              </a:rPr>
              <a:t>16:53</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2211-E047-4450-A996-9BCC27BF95F5}" type="datetime10">
              <a:rPr b="0" lang="en-US" sz="1000" spc="-1" strike="noStrike">
                <a:solidFill>
                  <a:srgbClr val="ffffff"/>
                </a:solidFill>
                <a:latin typeface="Arial"/>
              </a:rPr>
              <a:t>16:53</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