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2.jpeg" ContentType="image/jpeg"/>
  <Override PartName="/ppt/media/image11.jpeg" ContentType="image/jpeg"/>
  <Override PartName="/ppt/media/image31.gif" ContentType="image/gif"/>
  <Override PartName="/ppt/media/image30.gif" ContentType="image/gif"/>
  <Override PartName="/ppt/media/image14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29.gif" ContentType="image/gif"/>
  <Override PartName="/ppt/media/Scorpions%20-%20Wind%20Of%20Change.wav" ContentType="audio/x-wav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E019-3446-4EEB-B4BC-2B802944A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421-63F7-496B-A776-1FCDBD1C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574D-BF82-45CB-A65D-BD1214808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0E18-4F8C-4D89-978E-F396FEBD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8850-EB7B-4728-AE62-D8ED1550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52FF-3197-4080-8891-C26F34E4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74D1-8995-4B3A-BFAE-81013633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7BE9-7523-4756-955A-E3D9D3E2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530D-B734-443D-B12B-7580FC99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BC12-A587-4594-91D0-F7B24F90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9177-0DC3-4DBB-B8AA-EC6717E2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2F10-6C4B-43E6-A5FB-0B67CB6F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E30D-61D2-4774-996D-CE0D7FE9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A398-3C8A-48D8-AB40-34331359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EC91-DB19-4642-B873-9A4F1008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1A8E-A7EF-49E6-8B0C-8182E0E3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C663-649D-4C50-BBC5-2BF21842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9796E-C8AD-4BC5-95FF-BB7507E6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20B24-F0D0-4383-B98E-4FED7D71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CC60F-B9A2-4821-AACF-C576EB45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15151-2E53-4DCA-9F31-BB653293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B217E-E806-481B-8A63-36B0E8F6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48B7-39C3-411E-A4D0-5357D186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DFA13-19CA-41D3-A2A7-0DA65668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DFAE3-020A-40E6-BE57-14B1E4F1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67554-E123-4645-AAF2-CA5E1BBE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8CE65-CD30-47AB-A6F3-FC9B4341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11B2B-483F-44E8-86A5-AF252376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C8826-BF50-45C0-9D3D-73A78A2B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25432-5493-486C-B05A-925328BF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EA57B-BA77-45EC-8246-A6A0A40B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E35DD-D771-4EFF-983E-B9A808F8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0C95C-FC80-4000-888B-51FBC4A3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F9E3-1BC4-46CC-A534-EB04AA2C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42A6A-B288-4B0D-A9E0-EDC0DDD5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6203F-C843-4152-AF47-D397BFAC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EF486-CED6-4033-B6E5-07CD6108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88C30-00B9-4453-9C39-0275241C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67749-FE22-4704-A67B-3AC4E321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B530B-6005-46C4-8083-661758B8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06696-7045-4031-9F24-FEBEC3D5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CD261-0547-4611-BE61-93AA3EBB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DB548-52EA-44C7-A0F3-CE39D062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A694-70AF-4B2F-9AC1-8EB1A9ED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A51B-833F-4BB0-8478-7137FD87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F1B0-42F4-4568-947C-A120DE0C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223A-58D4-48E6-BBAA-C471136E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E287-97D8-4276-8D05-F021B5BC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D883-2F03-4580-821D-EAD0B8E6BA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2E8C-6E5B-4BBE-B508-54F1041075E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C999-BC35-4A4E-B1DD-2A83FE2FC42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7471-9E55-49B0-97BF-956130A40760}" type="slidenum">
              <a:rPr b="0" lang="es-ES_tradnl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Scorpions%20-%20Wind%20Of%20Change.wav"/><Relationship Id="rId5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788000" y="189000"/>
            <a:ext cx="273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vantGarde Bk BT"/>
              </a:rPr>
              <a:t>Cumplir años siempre es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vantGarde Bk BT"/>
              </a:rPr>
              <a:t>agradad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1471680"/>
            <a:ext cx="3745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Conté 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años y descubr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que tengo men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tiempo para viv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de aquí en adela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que el que viv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hasta ah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0"/>
            <a:ext cx="4950000" cy="6858000"/>
            <a:chOff x="0" y="0"/>
            <a:chExt cx="4950000" cy="685800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950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4365720"/>
              <a:ext cx="684360" cy="24922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445520" y="0"/>
            <a:ext cx="1698480" cy="1557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476360" y="1130400"/>
            <a:ext cx="6191280" cy="468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2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5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2200" cy="6669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859280" y="333360"/>
            <a:ext cx="428472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ffffff"/>
                </a:solidFill>
                <a:latin typeface="Arial"/>
              </a:rPr>
              <a:t>Recuerdo ahora 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400" spc="-1" strike="noStrike">
                <a:solidFill>
                  <a:srgbClr val="ffffff"/>
                </a:solidFill>
                <a:latin typeface="Arial"/>
              </a:rPr>
              <a:t>Mário de Andrade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ffffff"/>
                </a:solidFill>
                <a:latin typeface="Arial"/>
              </a:rPr>
              <a:t>que afirmó:</a:t>
            </a:r>
            <a:r>
              <a:rPr b="1" i="1" lang="pt-BR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pt-BR" sz="3400" spc="-1" strike="noStrike">
                <a:solidFill>
                  <a:srgbClr val="ffffff"/>
                </a:solidFill>
                <a:latin typeface="Times New Roman"/>
              </a:rPr>
              <a:t>Las persona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400" spc="-1" strike="noStrike">
                <a:solidFill>
                  <a:srgbClr val="ffffff"/>
                </a:solidFill>
                <a:latin typeface="Times New Roman"/>
              </a:rPr>
              <a:t>no discute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400" spc="-1" strike="noStrike">
                <a:solidFill>
                  <a:srgbClr val="ffffff"/>
                </a:solidFill>
                <a:latin typeface="Times New Roman"/>
              </a:rPr>
              <a:t>los contenidos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400" spc="-1" strike="noStrike">
                <a:solidFill>
                  <a:srgbClr val="ffffff"/>
                </a:solidFill>
                <a:latin typeface="Times New Roman"/>
              </a:rPr>
              <a:t>solo sus títulos"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148360" y="0"/>
            <a:ext cx="3995640" cy="67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Mi tiemp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es escaso 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para discuti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títulos; quier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la esenc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Arial"/>
              </a:rPr>
              <a:t>Mi alma</a:t>
            </a: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Arial"/>
              </a:rPr>
              <a:t>tiene pris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5"/>
            </a:gs>
            <a:gs pos="50000">
              <a:srgbClr val="cc66ff"/>
            </a:gs>
            <a:gs pos="100000">
              <a:srgbClr val="5e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921560" y="260280"/>
            <a:ext cx="3939120" cy="63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"/>
              </a:rPr>
              <a:t>Sin much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"/>
              </a:rPr>
              <a:t>bombon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"/>
              </a:rPr>
              <a:t>en la caj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"/>
              </a:rPr>
              <a:t>quiero vivi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"/>
              </a:rPr>
              <a:t>al lado 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"/>
              </a:rPr>
              <a:t>gente human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Arial"/>
              </a:rPr>
              <a:t>muy humana</a:t>
            </a:r>
            <a:r>
              <a:rPr b="1" i="1" lang="pt-BR" sz="40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4600"/>
            </a:gs>
            <a:gs pos="50000">
              <a:srgbClr val="cc9900"/>
            </a:gs>
            <a:gs pos="100000">
              <a:srgbClr val="5e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2436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506920" y="139680"/>
            <a:ext cx="3637080" cy="65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que sepa reí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de sus errores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que no 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envanezca c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sus triunfos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que no 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considere elec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antes de tiempo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que no huy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de su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responsabilidades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5632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610240" y="476280"/>
            <a:ext cx="353052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"/>
              </a:rPr>
              <a:t>que defiend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"/>
              </a:rPr>
              <a:t>la dignid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"/>
              </a:rPr>
              <a:t>de l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"/>
              </a:rPr>
              <a:t>marginad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"/>
              </a:rPr>
              <a:t>y que dese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"/>
              </a:rPr>
              <a:t>tan sólo and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"/>
              </a:rPr>
              <a:t>al lado de Di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12000" cy="5864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31480" y="5950080"/>
            <a:ext cx="891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aminar junto a cosas y personas de ver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494172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Disfrutar de un afecto absolutamente sin fraudes, nunca ser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una pérdida de tiemp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6516720" cy="4884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518520" y="549360"/>
            <a:ext cx="22885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L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esenci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es lo q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hace q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la vid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valg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la pe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896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107040" y="716040"/>
            <a:ext cx="28843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Quier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rodear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de gen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que sep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tocar e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coraz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de l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person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5"/>
            </a:gs>
            <a:gs pos="50000">
              <a:srgbClr val="cc66ff"/>
            </a:gs>
            <a:gs pos="100000">
              <a:srgbClr val="5e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24000" y="4937040"/>
            <a:ext cx="784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Gente a quien los golpes duros de la vida, les enseñó  a crecer con toques suaves en el alm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88000" cy="49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705280" y="20559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02360" y="189000"/>
            <a:ext cx="394164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Me siento co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aquella joven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ganó una caj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bombones;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primeros los com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con displice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pero, cuando percib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que quedaban poc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comenzó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consumir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lentamente y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disfrutarlos m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2444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079240" y="111240"/>
            <a:ext cx="376056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Arial"/>
              </a:rPr>
              <a:t>Si….</a:t>
            </a: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Tengo pris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por vivir con 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intensidad q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solo la madur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puede d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5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00"/>
            </a:gs>
            <a:gs pos="50000">
              <a:srgbClr val="009900"/>
            </a:gs>
            <a:gs pos="100000">
              <a:srgbClr val="00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56720" cy="52862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3800" y="5373720"/>
            <a:ext cx="86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Pretendo no desperdiciar parte algu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de los bombones que me quedan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365800" y="333360"/>
            <a:ext cx="33490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. porqu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esto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seguro qu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serán m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exquisit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que l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que has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ahora h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comi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59640" cy="49863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600200" y="553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515772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Mi meta es llegar al final satisfecho y en paz con D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efefe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364000" y="260280"/>
            <a:ext cx="378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¿Y tu me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cual es para este tiempo mágico que nos que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5376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435640" y="2421000"/>
            <a:ext cx="37083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99"/>
                </a:solidFill>
                <a:latin typeface="Arial"/>
              </a:rPr>
              <a:t>Porque </a:t>
            </a:r>
            <a:r>
              <a:rPr b="1" lang="es-ES" sz="2600" spc="-1" strike="noStrike">
                <a:solidFill>
                  <a:srgbClr val="000099"/>
                </a:solidFill>
                <a:latin typeface="Arial"/>
              </a:rPr>
              <a:t>a la luz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Arial"/>
              </a:rPr>
              <a:t>del cor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Arial"/>
              </a:rPr>
              <a:t>período de vid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Arial"/>
              </a:rPr>
              <a:t>que se n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Arial"/>
              </a:rPr>
              <a:t>conced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99"/>
                </a:solidFill>
                <a:latin typeface="Arial"/>
              </a:rPr>
              <a:t>debemos buscar tiempo para vivir, disfrutar y ser felic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544500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200" spc="-1" strike="noStrike">
                <a:solidFill>
                  <a:srgbClr val="000099"/>
                </a:solidFill>
                <a:latin typeface="Arial"/>
              </a:rPr>
              <a:t>Piénsal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270828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200" spc="-1" strike="noStrike">
                <a:solidFill>
                  <a:srgbClr val="000099"/>
                </a:solidFill>
                <a:latin typeface="Arial"/>
              </a:rPr>
              <a:t>Piénsal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2" dur="5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0"/>
                            </p:stCondLst>
                            <p:childTnLst>
                              <p:par>
                                <p:cTn id="34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46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5000"/>
                            </p:stCondLst>
                            <p:childTnLst>
                              <p:par>
                                <p:cTn id="3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6" dur="5000" fill="hold"/>
                                        <p:tgtEl>
                                          <p:spTgt spid="2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1 Imagen" descr="3d-train-wallpaper-desktop-cool-3d-transport-wallpaper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2 Imagen" descr="paloma.gif"/>
          <p:cNvPicPr/>
          <p:nvPr/>
        </p:nvPicPr>
        <p:blipFill>
          <a:blip r:embed="rId2"/>
          <a:stretch/>
        </p:blipFill>
        <p:spPr>
          <a:xfrm rot="20226000">
            <a:off x="-1085400" y="1353960"/>
            <a:ext cx="1276200" cy="943200"/>
          </a:xfrm>
          <a:prstGeom prst="rect">
            <a:avLst/>
          </a:prstGeom>
          <a:ln w="0">
            <a:noFill/>
          </a:ln>
        </p:spPr>
      </p:pic>
      <p:pic>
        <p:nvPicPr>
          <p:cNvPr id="225" name="3 Imagen" descr="estrella44.gif"/>
          <p:cNvPicPr/>
          <p:nvPr/>
        </p:nvPicPr>
        <p:blipFill>
          <a:blip r:embed="rId3"/>
          <a:stretch/>
        </p:blipFill>
        <p:spPr>
          <a:xfrm>
            <a:off x="3657600" y="2590920"/>
            <a:ext cx="237960" cy="237960"/>
          </a:xfrm>
          <a:prstGeom prst="rect">
            <a:avLst/>
          </a:prstGeom>
          <a:ln w="0">
            <a:noFill/>
          </a:ln>
        </p:spPr>
      </p:pic>
      <p:pic>
        <p:nvPicPr>
          <p:cNvPr id="226" name="4 Imagen" descr="estrellas navidad bonitas.gif"/>
          <p:cNvPicPr/>
          <p:nvPr/>
        </p:nvPicPr>
        <p:blipFill>
          <a:blip r:embed="rId4"/>
          <a:stretch/>
        </p:blipFill>
        <p:spPr>
          <a:xfrm>
            <a:off x="3276720" y="2438280"/>
            <a:ext cx="1009440" cy="704880"/>
          </a:xfrm>
          <a:prstGeom prst="rect">
            <a:avLst/>
          </a:prstGeom>
          <a:ln w="0">
            <a:noFill/>
          </a:ln>
        </p:spPr>
      </p:pic>
      <p:pic>
        <p:nvPicPr>
          <p:cNvPr id="227" name="5 Imagen" descr="paloma.gif"/>
          <p:cNvPicPr/>
          <p:nvPr/>
        </p:nvPicPr>
        <p:blipFill>
          <a:blip r:embed="rId5"/>
          <a:stretch/>
        </p:blipFill>
        <p:spPr>
          <a:xfrm rot="19848000">
            <a:off x="-1275840" y="1196640"/>
            <a:ext cx="1276200" cy="9428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 rot="2082000">
            <a:off x="52200" y="2755800"/>
            <a:ext cx="9144000" cy="13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provechemos nuestro "Tiempo Mágico" ... 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orque el tren de la vida sigue avanzando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29" name="5 Imagen" descr="paloma.gif"/>
          <p:cNvPicPr/>
          <p:nvPr/>
        </p:nvPicPr>
        <p:blipFill>
          <a:blip r:embed="rId6"/>
          <a:stretch/>
        </p:blipFill>
        <p:spPr>
          <a:xfrm rot="19848000">
            <a:off x="250560" y="-747720"/>
            <a:ext cx="1276200" cy="9428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split dir="out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0"/>
                            </p:stCondLst>
                            <p:childTnLst>
                              <p:par>
                                <p:cTn id="36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6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6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6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6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50000">
              <a:srgbClr val="80808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122.jpg"/>
          <p:cNvPicPr/>
          <p:nvPr/>
        </p:nvPicPr>
        <p:blipFill>
          <a:blip r:embed="rId1"/>
          <a:stretch/>
        </p:blipFill>
        <p:spPr>
          <a:xfrm>
            <a:off x="0" y="0"/>
            <a:ext cx="515628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148360" y="193680"/>
            <a:ext cx="3995640" cy="65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Ya no tengo tiempo 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idiar con mediocr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o quiero estar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uniones do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sfilan egos infl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sprecio a los oportunistas y a las personas aranos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o tolero a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vidiosos que trat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desacreditar a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s capaces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propiarse de s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ugares, tal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y log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4600"/>
            </a:gs>
            <a:gs pos="50000">
              <a:srgbClr val="cc9900"/>
            </a:gs>
            <a:gs pos="100000">
              <a:srgbClr val="5e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1644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859280" y="136440"/>
            <a:ext cx="4284720" cy="68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Ya no tengo tiemp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para proyect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megalomaníaco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No participaré 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conferencias 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establecen regl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engañosas pa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erradicar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miseria 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el mund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64000" y="38160"/>
            <a:ext cx="36007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3333ff"/>
                </a:solidFill>
                <a:latin typeface="Arial"/>
              </a:rPr>
              <a:t>No quiero q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3333ff"/>
                </a:solidFill>
                <a:latin typeface="Arial"/>
              </a:rPr>
              <a:t>me inviten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3333ff"/>
                </a:solidFill>
                <a:latin typeface="Arial"/>
              </a:rPr>
              <a:t>evento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3333ff"/>
                </a:solidFill>
                <a:latin typeface="Arial"/>
              </a:rPr>
              <a:t>donde 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3333ff"/>
                </a:solidFill>
                <a:latin typeface="Arial"/>
              </a:rPr>
              <a:t>preten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3333ff"/>
                </a:solidFill>
                <a:latin typeface="Arial"/>
              </a:rPr>
              <a:t>solucion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3333ff"/>
                </a:solidFill>
                <a:latin typeface="Arial"/>
              </a:rPr>
              <a:t>los problem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3333ff"/>
                </a:solidFill>
                <a:latin typeface="Arial"/>
              </a:rPr>
              <a:t>del mileni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9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076720" y="333360"/>
            <a:ext cx="406728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Ya no teng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iempo p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uni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intermin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onde se discut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statutos, norm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ocedimien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y polític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abiendo que 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 va a lograr 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5304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775480" y="208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0"/>
            <a:ext cx="3672000" cy="68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ffff"/>
                </a:solidFill>
                <a:latin typeface="Arial"/>
              </a:rPr>
              <a:t>Ya no teng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ffff"/>
                </a:solidFill>
                <a:latin typeface="Arial"/>
              </a:rPr>
              <a:t>tiempo par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ffff"/>
                </a:solidFill>
                <a:latin typeface="Arial"/>
              </a:rPr>
              <a:t>soport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ffff"/>
                </a:solidFill>
                <a:latin typeface="Arial"/>
              </a:rPr>
              <a:t>melindr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ffff"/>
                </a:solidFill>
                <a:latin typeface="Arial"/>
              </a:rPr>
              <a:t>de person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ffff"/>
                </a:solidFill>
                <a:latin typeface="Arial"/>
              </a:rPr>
              <a:t>que, a pes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ffff"/>
                </a:solidFill>
                <a:latin typeface="Arial"/>
              </a:rPr>
              <a:t>de su e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pt-BR" sz="3000" spc="-1" strike="noStrike">
                <a:solidFill>
                  <a:srgbClr val="ffffff"/>
                </a:solidFill>
                <a:latin typeface="Arial"/>
              </a:rPr>
              <a:t>cronológica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ffff"/>
                </a:solidFill>
                <a:latin typeface="Arial"/>
              </a:rPr>
              <a:t>son un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ffff"/>
                </a:solidFill>
                <a:latin typeface="Arial"/>
              </a:rPr>
              <a:t>inmadur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7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00"/>
            </a:gs>
            <a:gs pos="50000">
              <a:srgbClr val="808000"/>
            </a:gs>
            <a:gs pos="100000">
              <a:srgbClr val="3b3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076720" y="549360"/>
            <a:ext cx="406728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be0e3"/>
                </a:solidFill>
                <a:latin typeface="Arial"/>
              </a:rPr>
              <a:t>No quiero ver l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be0e3"/>
                </a:solidFill>
                <a:latin typeface="Arial"/>
              </a:rPr>
              <a:t>agujas del rel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bbe0e3"/>
                </a:solidFill>
                <a:latin typeface="Arial"/>
              </a:rPr>
              <a:t>avanzando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be0e3"/>
                </a:solidFill>
                <a:latin typeface="Arial"/>
              </a:rPr>
              <a:t>reunione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be0e3"/>
                </a:solidFill>
                <a:latin typeface="Arial"/>
              </a:rPr>
              <a:t>"confrontación"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be0e3"/>
                </a:solidFill>
                <a:latin typeface="Arial"/>
              </a:rPr>
              <a:t>donde sol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lang="pt-BR" sz="2800" spc="-1" strike="noStrike">
                <a:solidFill>
                  <a:srgbClr val="bbe0e3"/>
                </a:solidFill>
                <a:latin typeface="Arial"/>
              </a:rPr>
              <a:t>ponemos sobre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bbe0e3"/>
                </a:solidFill>
                <a:latin typeface="Arial"/>
              </a:rPr>
              <a:t>mesa” las opinion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be0e3"/>
                </a:solidFill>
                <a:latin typeface="Arial"/>
              </a:rPr>
              <a:t>de los podero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219640" y="476280"/>
            <a:ext cx="39243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e molesta 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testigo de 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fectos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genera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ucha por 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ajestu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argo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ire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8T17:21:58Z</dcterms:created>
  <dc:creator>Carlos Pamplona</dc:creator>
  <dc:description/>
  <dc:language>en-US</dc:language>
  <cp:lastModifiedBy>Carlos Pamplona</cp:lastModifiedBy>
  <dcterms:modified xsi:type="dcterms:W3CDTF">2009-06-28T17:34:18Z</dcterms:modified>
  <cp:revision>2</cp:revision>
  <dc:subject/>
  <dc:title>Diapositiva 1</dc:title>
</cp:coreProperties>
</file>