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9.gif" ContentType="image/gif"/>
  <Override PartName="/ppt/media/Scorpions%20-%20Wind%20Of%20Change.wav" ContentType="audio/x-wav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F76-D7AA-4B56-A3ED-39F142FB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C29-5286-4C95-B4AD-7E6E6C6B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0EC-0B90-4BEA-AA43-345D7D1A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B5B-4852-4AA6-B3A8-FC9AC83F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4D9-A27A-4DB3-8542-5B9DEA03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2774-4DE2-49D7-9EC4-729FED0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608A-231A-4C30-BD79-7B1EB0A0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F1D4-234C-4040-8246-BB4AD2E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0DF4-6AF2-49BE-A47F-9363BD4A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D93-0ACF-4B42-ADE7-1B78AF53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98F-9F44-4548-9531-8CE0810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134-EE8A-497E-AA6A-35804D9E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72E3-AF83-4A6F-BC84-BAB989BD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05EA-C2DD-4924-B169-F16922F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D1A4-D600-43BB-8135-7506B7C8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2DC-7BAC-4DA9-9188-C440A1A9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754-14F6-468A-A7EF-DEFDC202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9337-6B38-4A52-BC90-8E41A59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168A-1A1A-401B-A2B4-5BAE2085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2D1F-FB90-4798-AAA4-FE399D0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0B76-9058-4B2D-AB5F-4B4B9BC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CE56-92AB-41E5-AA5F-2DCE460F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AA1-E331-4F47-B5FA-F1BEA71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E674-8C3B-4DC4-83F6-7BD6C8A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F0FE-15EF-4453-9314-85EAAC6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E7A2-2433-4DF8-9B6E-FAA2E75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E31E-6284-45F8-80CD-D89A361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F03C-958E-4150-AA55-646881D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E331-89D4-4231-B4A3-6C31409E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443A-2C2D-45B9-9C24-4494BB4A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D3D0-6115-450D-849C-04DE2427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0E13-6A08-4913-95ED-FFA5D55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9BEA-9A71-4F07-885F-FC085D1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A79-D7B1-4209-A843-45C4B56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8A48-EC65-48A6-B716-FD163AC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D682-4F79-44EE-A016-0B19CD9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D0C7-BEB1-4E63-A605-2C2F6A3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90CE-1142-41FF-A216-0502A1D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2AB8-E029-4D45-8AA0-A5D1B2E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38C0-A1AE-4A1B-B211-7DDD87F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F06C-2B8E-420B-9E37-D751A0A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6AF2-F773-4E1C-A9C2-5E099AB4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9FC6-A356-40F0-92A4-BB9B1C32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FCE-6A31-451E-AB17-58FCAD0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6AA-65D2-4AA4-8E89-B8AB0ADD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7E9-F931-4314-ADA7-79BAEC7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ED5-360D-4E54-95C2-568B46C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EA5-23E2-47D2-BDB2-2052F88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94F-28CC-4B0D-8ABE-CC3E20CC4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DF6-1253-4AEB-ACB7-FE88E2F782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755-F1C1-45A8-85B2-A542FD0F9E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109-CC15-44E6-A38B-A0E753959C2E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Scorpions%20-%20Wind%20Of%20Change.wav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788000" y="189000"/>
            <a:ext cx="273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vantGarde Bk BT"/>
              </a:rPr>
              <a:t>Cumplir años siempre 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vantGarde Bk BT"/>
              </a:rPr>
              <a:t>agrad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471680"/>
            <a:ext cx="3745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Conté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años y descubr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que tengo m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tiempo para viv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de aquí en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que el que viv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hasta ah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4950000" cy="6858000"/>
            <a:chOff x="0" y="0"/>
            <a:chExt cx="4950000" cy="68580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950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4365720"/>
              <a:ext cx="684360" cy="2492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476360" y="1130400"/>
            <a:ext cx="6191280" cy="468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59280" y="333360"/>
            <a:ext cx="42847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Recuerdo ahora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Mário de Andrade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que afirmó:</a:t>
            </a: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Las person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no discute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los contenido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solo sus títulos"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48360" y="0"/>
            <a:ext cx="3995640" cy="67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Mi tiemp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 escaso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ara discut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títulos; quie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la esenc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Mi alma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tiene pr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21560" y="260280"/>
            <a:ext cx="393912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Sin much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bom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en la ca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quiero vivi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al lado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gente huma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muy humana</a:t>
            </a: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506920" y="139680"/>
            <a:ext cx="363708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sepa reí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sus error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envanezca c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us triunfo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onsidere elec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antes de tiempo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huy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s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responsabilidad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610240" y="476280"/>
            <a:ext cx="35305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que defi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la dign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de 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margin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y que des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tan sólo and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al lado de 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586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1480" y="5950080"/>
            <a:ext cx="89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aminar junto a cosas y personas de ver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4941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Disfrutar de un afecto absolutamente sin fraudes, nunca ser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una pérdida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516720" cy="488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18520" y="549360"/>
            <a:ext cx="22885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 l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ace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a vi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alg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a pe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896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107040" y="716040"/>
            <a:ext cx="288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Quie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odear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de gen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que se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ocar 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oraz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erso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49370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Gente a quien los golpes duros de la vida, les enseñó  a crecer con toques suaves en el al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705280" y="2055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02360" y="189000"/>
            <a:ext cx="39416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 siento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quella jove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ganó una caj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ombones;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imeros los com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n displic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ero, cuando percib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que quedaban po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enzó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nsumi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lentamente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disfrutarlo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79240" y="111240"/>
            <a:ext cx="37605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Si….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Tengo pri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or vivir con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tensidad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olo la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uede 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50000">
              <a:srgbClr val="009900"/>
            </a:gs>
            <a:gs pos="100000">
              <a:srgbClr val="00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5286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3800" y="5373720"/>
            <a:ext cx="86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retendo no desperdiciar parte alg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de los bombones que me quedan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65800" y="333360"/>
            <a:ext cx="334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. por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esto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eguro 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erán 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exquisi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que 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que has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hora 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om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86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15772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i meta es llegar al final satisfecho y en paz con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efefe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64000" y="260280"/>
            <a:ext cx="37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¿Y tu m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cual es para este tiempo mágico que nos qu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5376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35640" y="2421000"/>
            <a:ext cx="370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99"/>
                </a:solidFill>
                <a:latin typeface="Arial"/>
              </a:rPr>
              <a:t>Porque </a:t>
            </a: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a la lu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del cor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período de vid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que se n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conced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debemos buscar tiempo para vivir, disfrutar y ser fel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544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99"/>
                </a:solidFill>
                <a:latin typeface="Arial"/>
              </a:rPr>
              <a:t>Piénsa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708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99"/>
                </a:solidFill>
                <a:latin typeface="Arial"/>
              </a:rPr>
              <a:t>Piénsa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6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5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Imagen" descr="3d-train-wallpaper-desktop-cool-3d-transport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2 Imagen" descr="paloma.gif"/>
          <p:cNvPicPr/>
          <p:nvPr/>
        </p:nvPicPr>
        <p:blipFill>
          <a:blip r:embed="rId2"/>
          <a:stretch/>
        </p:blipFill>
        <p:spPr>
          <a:xfrm rot="20226000">
            <a:off x="-1085400" y="135396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225" name="3 Imagen" descr="estrella44.gif"/>
          <p:cNvPicPr/>
          <p:nvPr/>
        </p:nvPicPr>
        <p:blipFill>
          <a:blip r:embed="rId3"/>
          <a:stretch/>
        </p:blipFill>
        <p:spPr>
          <a:xfrm>
            <a:off x="3657600" y="25909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226" name="4 Imagen" descr="estrellas navidad bonitas.gif"/>
          <p:cNvPicPr/>
          <p:nvPr/>
        </p:nvPicPr>
        <p:blipFill>
          <a:blip r:embed="rId4"/>
          <a:stretch/>
        </p:blipFill>
        <p:spPr>
          <a:xfrm>
            <a:off x="3276720" y="24382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227" name="5 Imagen" descr="paloma.gif"/>
          <p:cNvPicPr/>
          <p:nvPr/>
        </p:nvPicPr>
        <p:blipFill>
          <a:blip r:embed="rId5"/>
          <a:stretch/>
        </p:blipFill>
        <p:spPr>
          <a:xfrm rot="19848000">
            <a:off x="-1275840" y="1196640"/>
            <a:ext cx="1276200" cy="942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 rot="2082000">
            <a:off x="52200" y="2755800"/>
            <a:ext cx="91440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rovechemos nuestro "Tiempo Mágico" ...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que el tren de la vida sigue avanzando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5 Imagen" descr="paloma.gif"/>
          <p:cNvPicPr/>
          <p:nvPr/>
        </p:nvPicPr>
        <p:blipFill>
          <a:blip r:embed="rId6"/>
          <a:stretch/>
        </p:blipFill>
        <p:spPr>
          <a:xfrm rot="19848000">
            <a:off x="250560" y="-74772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6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6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6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6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50000">
              <a:srgbClr val="80808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122.jpg"/>
          <p:cNvPicPr/>
          <p:nvPr/>
        </p:nvPicPr>
        <p:blipFill>
          <a:blip r:embed="rId1"/>
          <a:stretch/>
        </p:blipFill>
        <p:spPr>
          <a:xfrm>
            <a:off x="0" y="0"/>
            <a:ext cx="5156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193680"/>
            <a:ext cx="39956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tengo tiemp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diar con medioc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quiero estar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uniones 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filan egos inf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recio a los oportunistas y a las personas aran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tolero a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vidiosos que tr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desacreditar 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s capac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ropiarse de 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gares, tal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log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59280" y="136440"/>
            <a:ext cx="4284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Ya no tengo tiemp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para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egalomanía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No participaré 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nferencias 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stablecen regl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ngañosas pa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rradicar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iseria 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l mund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64000" y="38160"/>
            <a:ext cx="3600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No quier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me invite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evento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donde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pret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soluc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los proble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del milen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76720" y="333360"/>
            <a:ext cx="40672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Ya no ten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emp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un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termin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nde se discut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tutos, nor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cedi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y polític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abiendo que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va a lograr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7548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0"/>
            <a:ext cx="367200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Ya no teng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tiempo pa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sopor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melind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de person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que, a pes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de su 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cronológic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son un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inmadu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00"/>
            </a:gs>
            <a:gs pos="5000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549360"/>
            <a:ext cx="4067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No quiero ver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agujas del rel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avanzando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reun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"confrontación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donde so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ponemos sobr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mesa” las opinion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de los poder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19640" y="476280"/>
            <a:ext cx="3924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 molesta 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stigo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fect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ener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ucha por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jestu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rg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ir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17:21:58Z</dcterms:created>
  <dc:creator>Carlos Pamplona</dc:creator>
  <dc:description/>
  <dc:language>en-US</dc:language>
  <cp:lastModifiedBy>Carlos Pamplona</cp:lastModifiedBy>
  <dcterms:modified xsi:type="dcterms:W3CDTF">2009-06-28T17:34:18Z</dcterms:modified>
  <cp:revision>2</cp:revision>
  <dc:subject/>
  <dc:title>Diapositiva 1</dc:title>
</cp:coreProperties>
</file>